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ECD-56CE-4987-A8F6-56C1980A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76F-F84D-47CE-9768-A014BE0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E5F-934D-4681-90DE-F162BC72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AF1-DC04-4FA9-AC35-520DA3F8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359-468A-4933-B421-DC6E194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654-F7D8-472B-948D-8F4B56BF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EA2-47F4-4556-A85B-8955E3C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B2D-586C-4279-AF22-877E6D4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646-084F-49D2-A29E-7B23BE7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0E0-20FC-4C0A-B0A2-06CAC3D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40D-38FD-485B-9475-34FE8DE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415-68D2-423E-9935-18FB9A48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649-F8CF-4EAD-9E42-5D76DA0C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30556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Warm-up:  Write each number below in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standard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) 7,000 + 300 + 20 +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) 40,000 + 800 + 6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) 90,000 + 700 + 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8960" y="2075040"/>
            <a:ext cx="630360" cy="407880"/>
          </a:xfrm>
          <a:custGeom>
            <a:avLst/>
            <a:gdLst/>
            <a:ahLst/>
            <a:rect l="l" t="t" r="r" b="b"/>
            <a:pathLst>
              <a:path w="1687" h="1093">
                <a:moveTo>
                  <a:pt x="5035" y="6201"/>
                </a:moveTo>
                <a:cubicBezTo>
                  <a:pt x="5023" y="6417"/>
                  <a:pt x="5003" y="6621"/>
                  <a:pt x="4911" y="6821"/>
                </a:cubicBezTo>
                <a:cubicBezTo>
                  <a:pt x="4903" y="6829"/>
                  <a:pt x="4895" y="6838"/>
                  <a:pt x="4887" y="6846"/>
                </a:cubicBezTo>
              </a:path>
              <a:path w="1687" h="1093">
                <a:moveTo>
                  <a:pt x="6375" y="5804"/>
                </a:moveTo>
                <a:cubicBezTo>
                  <a:pt x="6536" y="6067"/>
                  <a:pt x="6697" y="6391"/>
                  <a:pt x="6499" y="6697"/>
                </a:cubicBezTo>
                <a:cubicBezTo>
                  <a:pt x="6396" y="6856"/>
                  <a:pt x="6256" y="6883"/>
                  <a:pt x="6102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0640" y="2108160"/>
            <a:ext cx="1122120" cy="473040"/>
          </a:xfrm>
          <a:custGeom>
            <a:avLst/>
            <a:gdLst/>
            <a:ahLst/>
            <a:rect l="l" t="t" r="r" b="b"/>
            <a:pathLst>
              <a:path w="3002" h="1266">
                <a:moveTo>
                  <a:pt x="3621" y="5928"/>
                </a:moveTo>
                <a:cubicBezTo>
                  <a:pt x="3619" y="5930"/>
                  <a:pt x="3375" y="6249"/>
                  <a:pt x="3349" y="6300"/>
                </a:cubicBezTo>
                <a:cubicBezTo>
                  <a:pt x="3201" y="6591"/>
                  <a:pt x="3214" y="6782"/>
                  <a:pt x="3324" y="7069"/>
                </a:cubicBezTo>
                <a:cubicBezTo>
                  <a:pt x="3350" y="7137"/>
                  <a:pt x="3352" y="7154"/>
                  <a:pt x="3398" y="7169"/>
                </a:cubicBezTo>
              </a:path>
              <a:path w="3002" h="1266">
                <a:moveTo>
                  <a:pt x="3770" y="6152"/>
                </a:moveTo>
                <a:cubicBezTo>
                  <a:pt x="3915" y="6152"/>
                  <a:pt x="4047" y="6160"/>
                  <a:pt x="4192" y="6152"/>
                </a:cubicBezTo>
                <a:cubicBezTo>
                  <a:pt x="4209" y="6152"/>
                  <a:pt x="4225" y="6152"/>
                  <a:pt x="4242" y="6152"/>
                </a:cubicBezTo>
                <a:cubicBezTo>
                  <a:pt x="4149" y="6338"/>
                  <a:pt x="4054" y="6520"/>
                  <a:pt x="3944" y="6697"/>
                </a:cubicBezTo>
                <a:cubicBezTo>
                  <a:pt x="3927" y="6722"/>
                  <a:pt x="3911" y="6747"/>
                  <a:pt x="3894" y="6772"/>
                </a:cubicBezTo>
              </a:path>
              <a:path w="3002" h="1266">
                <a:moveTo>
                  <a:pt x="4490" y="6300"/>
                </a:moveTo>
                <a:cubicBezTo>
                  <a:pt x="4513" y="6446"/>
                  <a:pt x="4592" y="6563"/>
                  <a:pt x="4638" y="6697"/>
                </a:cubicBezTo>
                <a:cubicBezTo>
                  <a:pt x="4660" y="6762"/>
                  <a:pt x="4628" y="6797"/>
                  <a:pt x="4688" y="6722"/>
                </a:cubicBezTo>
              </a:path>
              <a:path w="3002" h="1266">
                <a:moveTo>
                  <a:pt x="4812" y="6176"/>
                </a:moveTo>
                <a:cubicBezTo>
                  <a:pt x="4649" y="6393"/>
                  <a:pt x="4516" y="6660"/>
                  <a:pt x="4316" y="6846"/>
                </a:cubicBezTo>
                <a:cubicBezTo>
                  <a:pt x="4316" y="6838"/>
                  <a:pt x="4316" y="6829"/>
                  <a:pt x="4316" y="6821"/>
                </a:cubicBezTo>
              </a:path>
              <a:path w="3002" h="1266">
                <a:moveTo>
                  <a:pt x="5457" y="6226"/>
                </a:moveTo>
                <a:cubicBezTo>
                  <a:pt x="5342" y="6255"/>
                  <a:pt x="5240" y="6478"/>
                  <a:pt x="5209" y="6573"/>
                </a:cubicBezTo>
                <a:cubicBezTo>
                  <a:pt x="5187" y="6726"/>
                  <a:pt x="5169" y="6764"/>
                  <a:pt x="5234" y="6846"/>
                </a:cubicBezTo>
                <a:cubicBezTo>
                  <a:pt x="5467" y="6818"/>
                  <a:pt x="5699" y="6778"/>
                  <a:pt x="5680" y="6474"/>
                </a:cubicBezTo>
                <a:cubicBezTo>
                  <a:pt x="5674" y="6370"/>
                  <a:pt x="5580" y="6325"/>
                  <a:pt x="5507" y="6300"/>
                </a:cubicBezTo>
              </a:path>
              <a:path w="3002" h="1266">
                <a:moveTo>
                  <a:pt x="5978" y="6003"/>
                </a:moveTo>
                <a:cubicBezTo>
                  <a:pt x="6030" y="5985"/>
                  <a:pt x="6204" y="5900"/>
                  <a:pt x="6127" y="6052"/>
                </a:cubicBezTo>
                <a:cubicBezTo>
                  <a:pt x="6081" y="6098"/>
                  <a:pt x="6069" y="6113"/>
                  <a:pt x="6028" y="6127"/>
                </a:cubicBezTo>
                <a:cubicBezTo>
                  <a:pt x="6170" y="6138"/>
                  <a:pt x="6291" y="6164"/>
                  <a:pt x="6176" y="6325"/>
                </a:cubicBezTo>
                <a:cubicBezTo>
                  <a:pt x="6084" y="6454"/>
                  <a:pt x="6021" y="6395"/>
                  <a:pt x="5904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1170000"/>
            <a:ext cx="74880" cy="1268280"/>
          </a:xfrm>
          <a:custGeom>
            <a:avLst/>
            <a:gdLst/>
            <a:ahLst/>
            <a:rect l="l" t="t" r="r" b="b"/>
            <a:pathLst>
              <a:path w="26" h="448">
                <a:moveTo>
                  <a:pt x="7045" y="6325"/>
                </a:moveTo>
                <a:cubicBezTo>
                  <a:pt x="7033" y="6482"/>
                  <a:pt x="7025" y="6615"/>
                  <a:pt x="7045" y="6772"/>
                </a:cubicBezTo>
                <a:cubicBezTo>
                  <a:pt x="7045" y="6764"/>
                  <a:pt x="7045" y="6755"/>
                  <a:pt x="7045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03720" y="1716120"/>
            <a:ext cx="1131840" cy="446040"/>
          </a:xfrm>
          <a:custGeom>
            <a:avLst/>
            <a:gdLst/>
            <a:ahLst/>
            <a:rect l="l" t="t" r="r" b="b"/>
            <a:pathLst>
              <a:path w="3027" h="1192">
                <a:moveTo>
                  <a:pt x="9178" y="4986"/>
                </a:moveTo>
                <a:cubicBezTo>
                  <a:pt x="9186" y="5011"/>
                  <a:pt x="9195" y="5035"/>
                  <a:pt x="9203" y="5060"/>
                </a:cubicBezTo>
                <a:cubicBezTo>
                  <a:pt x="9203" y="4997"/>
                  <a:pt x="9180" y="4886"/>
                  <a:pt x="9227" y="4862"/>
                </a:cubicBezTo>
                <a:cubicBezTo>
                  <a:pt x="9290" y="4830"/>
                  <a:pt x="9573" y="4839"/>
                  <a:pt x="9674" y="4812"/>
                </a:cubicBezTo>
                <a:cubicBezTo>
                  <a:pt x="9682" y="4812"/>
                  <a:pt x="9691" y="4812"/>
                  <a:pt x="9699" y="4812"/>
                </a:cubicBezTo>
                <a:cubicBezTo>
                  <a:pt x="9659" y="5101"/>
                  <a:pt x="9541" y="5370"/>
                  <a:pt x="9475" y="5655"/>
                </a:cubicBezTo>
                <a:cubicBezTo>
                  <a:pt x="9458" y="5779"/>
                  <a:pt x="9450" y="5787"/>
                  <a:pt x="9451" y="5854"/>
                </a:cubicBezTo>
              </a:path>
              <a:path w="3027" h="1192">
                <a:moveTo>
                  <a:pt x="9748" y="5680"/>
                </a:moveTo>
                <a:cubicBezTo>
                  <a:pt x="9748" y="5788"/>
                  <a:pt x="9748" y="5895"/>
                  <a:pt x="9748" y="6003"/>
                </a:cubicBezTo>
              </a:path>
              <a:path w="3027" h="1192">
                <a:moveTo>
                  <a:pt x="10145" y="4887"/>
                </a:moveTo>
                <a:cubicBezTo>
                  <a:pt x="10213" y="4819"/>
                  <a:pt x="10426" y="4788"/>
                  <a:pt x="10517" y="4887"/>
                </a:cubicBezTo>
                <a:cubicBezTo>
                  <a:pt x="10629" y="5008"/>
                  <a:pt x="10434" y="5123"/>
                  <a:pt x="10368" y="5184"/>
                </a:cubicBezTo>
                <a:cubicBezTo>
                  <a:pt x="10501" y="5134"/>
                  <a:pt x="10496" y="5170"/>
                  <a:pt x="10616" y="5234"/>
                </a:cubicBezTo>
                <a:cubicBezTo>
                  <a:pt x="10582" y="5462"/>
                  <a:pt x="10496" y="5630"/>
                  <a:pt x="10220" y="5556"/>
                </a:cubicBezTo>
                <a:cubicBezTo>
                  <a:pt x="10179" y="5531"/>
                  <a:pt x="10137" y="5507"/>
                  <a:pt x="10096" y="5482"/>
                </a:cubicBezTo>
              </a:path>
              <a:path w="3027" h="1192">
                <a:moveTo>
                  <a:pt x="11013" y="4887"/>
                </a:moveTo>
                <a:cubicBezTo>
                  <a:pt x="11199" y="4794"/>
                  <a:pt x="11373" y="4842"/>
                  <a:pt x="11385" y="5110"/>
                </a:cubicBezTo>
                <a:cubicBezTo>
                  <a:pt x="11396" y="5348"/>
                  <a:pt x="11135" y="5611"/>
                  <a:pt x="10889" y="5531"/>
                </a:cubicBezTo>
                <a:cubicBezTo>
                  <a:pt x="10873" y="5506"/>
                  <a:pt x="10856" y="5482"/>
                  <a:pt x="10840" y="5457"/>
                </a:cubicBezTo>
                <a:cubicBezTo>
                  <a:pt x="10966" y="5299"/>
                  <a:pt x="11100" y="5358"/>
                  <a:pt x="11261" y="5482"/>
                </a:cubicBezTo>
                <a:cubicBezTo>
                  <a:pt x="11315" y="5524"/>
                  <a:pt x="11361" y="5659"/>
                  <a:pt x="11361" y="5631"/>
                </a:cubicBezTo>
              </a:path>
              <a:path w="3027" h="1192">
                <a:moveTo>
                  <a:pt x="12105" y="4837"/>
                </a:moveTo>
                <a:cubicBezTo>
                  <a:pt x="11986" y="4871"/>
                  <a:pt x="11951" y="4886"/>
                  <a:pt x="11832" y="4862"/>
                </a:cubicBezTo>
                <a:cubicBezTo>
                  <a:pt x="11785" y="4853"/>
                  <a:pt x="11704" y="5038"/>
                  <a:pt x="11683" y="5085"/>
                </a:cubicBezTo>
                <a:cubicBezTo>
                  <a:pt x="11675" y="5110"/>
                  <a:pt x="11666" y="5134"/>
                  <a:pt x="11658" y="5159"/>
                </a:cubicBezTo>
                <a:cubicBezTo>
                  <a:pt x="11795" y="5146"/>
                  <a:pt x="11917" y="5092"/>
                  <a:pt x="12055" y="5135"/>
                </a:cubicBezTo>
                <a:cubicBezTo>
                  <a:pt x="12278" y="5205"/>
                  <a:pt x="12200" y="5384"/>
                  <a:pt x="12055" y="5482"/>
                </a:cubicBezTo>
                <a:cubicBezTo>
                  <a:pt x="11917" y="5575"/>
                  <a:pt x="11821" y="5509"/>
                  <a:pt x="11683" y="54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840" y="1943280"/>
            <a:ext cx="5413320" cy="566640"/>
          </a:xfrm>
          <a:custGeom>
            <a:avLst/>
            <a:gdLst/>
            <a:ahLst/>
            <a:rect l="l" t="t" r="r" b="b"/>
            <a:pathLst>
              <a:path w="14487" h="1514">
                <a:moveTo>
                  <a:pt x="6846" y="6524"/>
                </a:moveTo>
                <a:cubicBezTo>
                  <a:pt x="6988" y="6556"/>
                  <a:pt x="7096" y="6539"/>
                  <a:pt x="7243" y="6524"/>
                </a:cubicBezTo>
              </a:path>
              <a:path w="14487" h="1514">
                <a:moveTo>
                  <a:pt x="7962" y="6028"/>
                </a:moveTo>
                <a:cubicBezTo>
                  <a:pt x="7858" y="6236"/>
                  <a:pt x="7539" y="6710"/>
                  <a:pt x="7739" y="6945"/>
                </a:cubicBezTo>
                <a:cubicBezTo>
                  <a:pt x="7780" y="6953"/>
                  <a:pt x="7822" y="6962"/>
                  <a:pt x="7863" y="6970"/>
                </a:cubicBezTo>
              </a:path>
              <a:path w="14487" h="1514">
                <a:moveTo>
                  <a:pt x="9079" y="6251"/>
                </a:moveTo>
                <a:cubicBezTo>
                  <a:pt x="8961" y="6428"/>
                  <a:pt x="8887" y="6599"/>
                  <a:pt x="8806" y="6796"/>
                </a:cubicBezTo>
              </a:path>
              <a:path w="14487" h="1514">
                <a:moveTo>
                  <a:pt x="9426" y="6276"/>
                </a:moveTo>
                <a:cubicBezTo>
                  <a:pt x="9410" y="6494"/>
                  <a:pt x="9381" y="6691"/>
                  <a:pt x="9302" y="6896"/>
                </a:cubicBezTo>
              </a:path>
              <a:path w="14487" h="1514">
                <a:moveTo>
                  <a:pt x="10765" y="5730"/>
                </a:moveTo>
                <a:cubicBezTo>
                  <a:pt x="11038" y="5928"/>
                  <a:pt x="11278" y="6267"/>
                  <a:pt x="11187" y="6648"/>
                </a:cubicBezTo>
                <a:cubicBezTo>
                  <a:pt x="11064" y="6819"/>
                  <a:pt x="11026" y="6876"/>
                  <a:pt x="10864" y="6871"/>
                </a:cubicBezTo>
              </a:path>
              <a:path w="14487" h="1514">
                <a:moveTo>
                  <a:pt x="12626" y="5953"/>
                </a:moveTo>
                <a:cubicBezTo>
                  <a:pt x="12574" y="6077"/>
                  <a:pt x="12202" y="6782"/>
                  <a:pt x="12551" y="6846"/>
                </a:cubicBezTo>
                <a:cubicBezTo>
                  <a:pt x="12601" y="6829"/>
                  <a:pt x="12650" y="6813"/>
                  <a:pt x="12700" y="6796"/>
                </a:cubicBezTo>
              </a:path>
              <a:path w="14487" h="1514">
                <a:moveTo>
                  <a:pt x="13519" y="6300"/>
                </a:moveTo>
                <a:cubicBezTo>
                  <a:pt x="13594" y="6471"/>
                  <a:pt x="13632" y="6702"/>
                  <a:pt x="13816" y="6648"/>
                </a:cubicBezTo>
              </a:path>
              <a:path w="14487" h="1514">
                <a:moveTo>
                  <a:pt x="13816" y="6127"/>
                </a:moveTo>
                <a:cubicBezTo>
                  <a:pt x="13701" y="6301"/>
                  <a:pt x="13588" y="6477"/>
                  <a:pt x="13469" y="6648"/>
                </a:cubicBezTo>
              </a:path>
              <a:path w="14487" h="1514">
                <a:moveTo>
                  <a:pt x="15503" y="5680"/>
                </a:moveTo>
                <a:cubicBezTo>
                  <a:pt x="15614" y="5989"/>
                  <a:pt x="15804" y="6326"/>
                  <a:pt x="15627" y="6648"/>
                </a:cubicBezTo>
                <a:cubicBezTo>
                  <a:pt x="15526" y="6749"/>
                  <a:pt x="15516" y="6780"/>
                  <a:pt x="15429" y="6796"/>
                </a:cubicBezTo>
              </a:path>
              <a:path w="14487" h="1514">
                <a:moveTo>
                  <a:pt x="16371" y="6350"/>
                </a:moveTo>
                <a:cubicBezTo>
                  <a:pt x="16519" y="6375"/>
                  <a:pt x="16568" y="6383"/>
                  <a:pt x="16669" y="6375"/>
                </a:cubicBezTo>
              </a:path>
              <a:path w="14487" h="1514">
                <a:moveTo>
                  <a:pt x="16669" y="6375"/>
                </a:moveTo>
                <a:lnTo>
                  <a:pt x="16669" y="6375"/>
                </a:lnTo>
              </a:path>
              <a:path w="14487" h="1514">
                <a:moveTo>
                  <a:pt x="17487" y="5953"/>
                </a:moveTo>
                <a:cubicBezTo>
                  <a:pt x="17442" y="6042"/>
                  <a:pt x="17001" y="6748"/>
                  <a:pt x="17363" y="6796"/>
                </a:cubicBezTo>
                <a:cubicBezTo>
                  <a:pt x="17396" y="6780"/>
                  <a:pt x="17429" y="6763"/>
                  <a:pt x="17462" y="6747"/>
                </a:cubicBezTo>
              </a:path>
              <a:path w="14487" h="1514">
                <a:moveTo>
                  <a:pt x="18678" y="6127"/>
                </a:moveTo>
                <a:cubicBezTo>
                  <a:pt x="18704" y="6290"/>
                  <a:pt x="18730" y="6439"/>
                  <a:pt x="18777" y="6598"/>
                </a:cubicBezTo>
              </a:path>
              <a:path w="14487" h="1514">
                <a:moveTo>
                  <a:pt x="18976" y="6152"/>
                </a:moveTo>
                <a:cubicBezTo>
                  <a:pt x="18802" y="6287"/>
                  <a:pt x="18639" y="6422"/>
                  <a:pt x="18479" y="6573"/>
                </a:cubicBezTo>
              </a:path>
              <a:path w="14487" h="1514">
                <a:moveTo>
                  <a:pt x="20985" y="5457"/>
                </a:moveTo>
                <a:cubicBezTo>
                  <a:pt x="21227" y="5784"/>
                  <a:pt x="21429" y="6196"/>
                  <a:pt x="21282" y="6623"/>
                </a:cubicBezTo>
                <a:cubicBezTo>
                  <a:pt x="21232" y="6769"/>
                  <a:pt x="21085" y="6837"/>
                  <a:pt x="20960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1320" y="2260440"/>
            <a:ext cx="343080" cy="204840"/>
          </a:xfrm>
          <a:custGeom>
            <a:avLst/>
            <a:gdLst/>
            <a:ahLst/>
            <a:rect l="l" t="t" r="r" b="b"/>
            <a:pathLst>
              <a:path w="919" h="547">
                <a:moveTo>
                  <a:pt x="8086" y="6300"/>
                </a:moveTo>
                <a:cubicBezTo>
                  <a:pt x="8148" y="6305"/>
                  <a:pt x="8613" y="6308"/>
                  <a:pt x="8434" y="6474"/>
                </a:cubicBezTo>
                <a:cubicBezTo>
                  <a:pt x="8360" y="6542"/>
                  <a:pt x="8076" y="6548"/>
                  <a:pt x="8235" y="6548"/>
                </a:cubicBezTo>
                <a:cubicBezTo>
                  <a:pt x="8400" y="6610"/>
                  <a:pt x="8441" y="6610"/>
                  <a:pt x="8508" y="6697"/>
                </a:cubicBezTo>
                <a:cubicBezTo>
                  <a:pt x="8356" y="6874"/>
                  <a:pt x="8251" y="6913"/>
                  <a:pt x="8136" y="6722"/>
                </a:cubicBezTo>
              </a:path>
              <a:path w="919" h="547">
                <a:moveTo>
                  <a:pt x="8830" y="6325"/>
                </a:moveTo>
                <a:cubicBezTo>
                  <a:pt x="8882" y="6462"/>
                  <a:pt x="8959" y="6601"/>
                  <a:pt x="9004" y="6747"/>
                </a:cubicBezTo>
                <a:cubicBezTo>
                  <a:pt x="9004" y="6772"/>
                  <a:pt x="9004" y="6780"/>
                  <a:pt x="9004" y="67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83000" y="2192400"/>
            <a:ext cx="417600" cy="317520"/>
          </a:xfrm>
          <a:custGeom>
            <a:avLst/>
            <a:gdLst/>
            <a:ahLst/>
            <a:rect l="l" t="t" r="r" b="b"/>
            <a:pathLst>
              <a:path w="1117" h="844">
                <a:moveTo>
                  <a:pt x="9897" y="6449"/>
                </a:moveTo>
                <a:cubicBezTo>
                  <a:pt x="9805" y="6610"/>
                  <a:pt x="9729" y="6747"/>
                  <a:pt x="9674" y="6921"/>
                </a:cubicBezTo>
                <a:cubicBezTo>
                  <a:pt x="9850" y="6958"/>
                  <a:pt x="10171" y="6927"/>
                  <a:pt x="10220" y="6672"/>
                </a:cubicBezTo>
                <a:cubicBezTo>
                  <a:pt x="10248" y="6523"/>
                  <a:pt x="10048" y="6460"/>
                  <a:pt x="9947" y="6449"/>
                </a:cubicBezTo>
              </a:path>
              <a:path w="1117" h="844">
                <a:moveTo>
                  <a:pt x="10542" y="6152"/>
                </a:moveTo>
                <a:cubicBezTo>
                  <a:pt x="10571" y="6152"/>
                  <a:pt x="10788" y="6270"/>
                  <a:pt x="10716" y="6400"/>
                </a:cubicBezTo>
                <a:cubicBezTo>
                  <a:pt x="10633" y="6549"/>
                  <a:pt x="10474" y="6460"/>
                  <a:pt x="10368" y="6424"/>
                </a:cubicBezTo>
                <a:cubicBezTo>
                  <a:pt x="10409" y="6365"/>
                  <a:pt x="10559" y="6466"/>
                  <a:pt x="10641" y="6474"/>
                </a:cubicBezTo>
                <a:cubicBezTo>
                  <a:pt x="10691" y="6474"/>
                  <a:pt x="10740" y="6474"/>
                  <a:pt x="10790" y="64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05160" y="2225520"/>
            <a:ext cx="260640" cy="168480"/>
          </a:xfrm>
          <a:custGeom>
            <a:avLst/>
            <a:gdLst/>
            <a:ahLst/>
            <a:rect l="l" t="t" r="r" b="b"/>
            <a:pathLst>
              <a:path w="696" h="448">
                <a:moveTo>
                  <a:pt x="11782" y="6201"/>
                </a:moveTo>
                <a:cubicBezTo>
                  <a:pt x="11782" y="6339"/>
                  <a:pt x="11840" y="6492"/>
                  <a:pt x="11782" y="6623"/>
                </a:cubicBezTo>
                <a:cubicBezTo>
                  <a:pt x="11766" y="6631"/>
                  <a:pt x="11749" y="6640"/>
                  <a:pt x="11733" y="6648"/>
                </a:cubicBezTo>
              </a:path>
              <a:path w="696" h="448">
                <a:moveTo>
                  <a:pt x="11683" y="6400"/>
                </a:moveTo>
                <a:cubicBezTo>
                  <a:pt x="11926" y="6400"/>
                  <a:pt x="12138" y="6387"/>
                  <a:pt x="12378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26000" y="2189160"/>
            <a:ext cx="176040" cy="222120"/>
          </a:xfrm>
          <a:custGeom>
            <a:avLst/>
            <a:gdLst/>
            <a:ahLst/>
            <a:rect l="l" t="t" r="r" b="b"/>
            <a:pathLst>
              <a:path w="472" h="596">
                <a:moveTo>
                  <a:pt x="12923" y="6102"/>
                </a:moveTo>
                <a:cubicBezTo>
                  <a:pt x="13092" y="6187"/>
                  <a:pt x="13325" y="6378"/>
                  <a:pt x="13196" y="6623"/>
                </a:cubicBezTo>
                <a:cubicBezTo>
                  <a:pt x="13083" y="6838"/>
                  <a:pt x="12902" y="6597"/>
                  <a:pt x="12849" y="6499"/>
                </a:cubicBezTo>
                <a:cubicBezTo>
                  <a:pt x="13037" y="6609"/>
                  <a:pt x="13100" y="6669"/>
                  <a:pt x="13320" y="66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2187720"/>
            <a:ext cx="419040" cy="258480"/>
          </a:xfrm>
          <a:custGeom>
            <a:avLst/>
            <a:gdLst/>
            <a:ahLst/>
            <a:rect l="l" t="t" r="r" b="b"/>
            <a:pathLst>
              <a:path w="1117" h="695">
                <a:moveTo>
                  <a:pt x="14188" y="6201"/>
                </a:moveTo>
                <a:cubicBezTo>
                  <a:pt x="14202" y="6393"/>
                  <a:pt x="14188" y="6577"/>
                  <a:pt x="14188" y="6772"/>
                </a:cubicBezTo>
              </a:path>
              <a:path w="1117" h="695">
                <a:moveTo>
                  <a:pt x="14684" y="6276"/>
                </a:moveTo>
                <a:cubicBezTo>
                  <a:pt x="14527" y="6467"/>
                  <a:pt x="14418" y="6577"/>
                  <a:pt x="14536" y="6796"/>
                </a:cubicBezTo>
                <a:cubicBezTo>
                  <a:pt x="14655" y="6778"/>
                  <a:pt x="14974" y="6710"/>
                  <a:pt x="14883" y="6499"/>
                </a:cubicBezTo>
                <a:cubicBezTo>
                  <a:pt x="14851" y="6424"/>
                  <a:pt x="14720" y="6352"/>
                  <a:pt x="14660" y="6300"/>
                </a:cubicBezTo>
              </a:path>
              <a:path w="1117" h="695">
                <a:moveTo>
                  <a:pt x="15255" y="6102"/>
                </a:moveTo>
                <a:cubicBezTo>
                  <a:pt x="15269" y="6195"/>
                  <a:pt x="15216" y="6286"/>
                  <a:pt x="15304" y="63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29200" y="1787400"/>
            <a:ext cx="74880" cy="56988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6520" y="6176"/>
                </a:moveTo>
                <a:cubicBezTo>
                  <a:pt x="16490" y="6295"/>
                  <a:pt x="16501" y="6425"/>
                  <a:pt x="16470" y="6548"/>
                </a:cubicBezTo>
                <a:cubicBezTo>
                  <a:pt x="16470" y="6540"/>
                  <a:pt x="16470" y="6532"/>
                  <a:pt x="16470" y="65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2240" y="2152800"/>
            <a:ext cx="185760" cy="24120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8157" y="6052"/>
                </a:moveTo>
                <a:cubicBezTo>
                  <a:pt x="17991" y="6009"/>
                  <a:pt x="17972" y="5963"/>
                  <a:pt x="17859" y="6102"/>
                </a:cubicBezTo>
                <a:cubicBezTo>
                  <a:pt x="17805" y="6175"/>
                  <a:pt x="17780" y="6175"/>
                  <a:pt x="17785" y="6226"/>
                </a:cubicBezTo>
                <a:cubicBezTo>
                  <a:pt x="17924" y="6242"/>
                  <a:pt x="18165" y="6241"/>
                  <a:pt x="18256" y="6375"/>
                </a:cubicBezTo>
                <a:cubicBezTo>
                  <a:pt x="18408" y="6600"/>
                  <a:pt x="18026" y="6722"/>
                  <a:pt x="17884" y="6623"/>
                </a:cubicBezTo>
                <a:cubicBezTo>
                  <a:pt x="17859" y="6582"/>
                  <a:pt x="17835" y="6540"/>
                  <a:pt x="17810" y="64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66000" y="2095560"/>
            <a:ext cx="547560" cy="325440"/>
          </a:xfrm>
          <a:custGeom>
            <a:avLst/>
            <a:gdLst/>
            <a:ahLst/>
            <a:rect l="l" t="t" r="r" b="b"/>
            <a:pathLst>
              <a:path w="1464" h="869">
                <a:moveTo>
                  <a:pt x="19571" y="5953"/>
                </a:moveTo>
                <a:cubicBezTo>
                  <a:pt x="19508" y="6126"/>
                  <a:pt x="19307" y="6493"/>
                  <a:pt x="19348" y="6672"/>
                </a:cubicBezTo>
                <a:cubicBezTo>
                  <a:pt x="19364" y="6664"/>
                  <a:pt x="19381" y="6656"/>
                  <a:pt x="19397" y="6648"/>
                </a:cubicBezTo>
              </a:path>
              <a:path w="1464" h="869">
                <a:moveTo>
                  <a:pt x="20141" y="6052"/>
                </a:moveTo>
                <a:cubicBezTo>
                  <a:pt x="19959" y="6247"/>
                  <a:pt x="19829" y="6402"/>
                  <a:pt x="19745" y="6648"/>
                </a:cubicBezTo>
                <a:cubicBezTo>
                  <a:pt x="19924" y="6743"/>
                  <a:pt x="20245" y="6764"/>
                  <a:pt x="20315" y="6474"/>
                </a:cubicBezTo>
                <a:cubicBezTo>
                  <a:pt x="20359" y="6291"/>
                  <a:pt x="20219" y="6171"/>
                  <a:pt x="20117" y="6052"/>
                </a:cubicBezTo>
              </a:path>
              <a:path w="1464" h="869">
                <a:moveTo>
                  <a:pt x="20712" y="5879"/>
                </a:moveTo>
                <a:cubicBezTo>
                  <a:pt x="20604" y="5901"/>
                  <a:pt x="20581" y="5985"/>
                  <a:pt x="20538" y="6077"/>
                </a:cubicBezTo>
                <a:cubicBezTo>
                  <a:pt x="20619" y="6089"/>
                  <a:pt x="20902" y="6098"/>
                  <a:pt x="20786" y="5928"/>
                </a:cubicBezTo>
                <a:cubicBezTo>
                  <a:pt x="20727" y="5889"/>
                  <a:pt x="20715" y="5885"/>
                  <a:pt x="20687" y="58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0880" y="2833560"/>
            <a:ext cx="380880" cy="373320"/>
          </a:xfrm>
          <a:custGeom>
            <a:avLst/>
            <a:gdLst/>
            <a:ahLst/>
            <a:rect l="l" t="t" r="r" b="b"/>
            <a:pathLst>
              <a:path w="1018" h="993">
                <a:moveTo>
                  <a:pt x="8434" y="8037"/>
                </a:moveTo>
                <a:cubicBezTo>
                  <a:pt x="8434" y="8172"/>
                  <a:pt x="8393" y="8240"/>
                  <a:pt x="8334" y="8359"/>
                </a:cubicBezTo>
                <a:cubicBezTo>
                  <a:pt x="8326" y="8376"/>
                  <a:pt x="8318" y="8392"/>
                  <a:pt x="8310" y="8409"/>
                </a:cubicBezTo>
                <a:cubicBezTo>
                  <a:pt x="8418" y="8320"/>
                  <a:pt x="8584" y="8350"/>
                  <a:pt x="8706" y="8409"/>
                </a:cubicBezTo>
                <a:cubicBezTo>
                  <a:pt x="8787" y="8448"/>
                  <a:pt x="8879" y="8603"/>
                  <a:pt x="8855" y="8483"/>
                </a:cubicBezTo>
              </a:path>
              <a:path w="1018" h="993">
                <a:moveTo>
                  <a:pt x="8657" y="7913"/>
                </a:moveTo>
                <a:cubicBezTo>
                  <a:pt x="8718" y="8189"/>
                  <a:pt x="8695" y="8550"/>
                  <a:pt x="8781" y="8806"/>
                </a:cubicBezTo>
                <a:cubicBezTo>
                  <a:pt x="8789" y="8789"/>
                  <a:pt x="8798" y="8773"/>
                  <a:pt x="8806" y="8756"/>
                </a:cubicBezTo>
              </a:path>
              <a:path w="1018" h="993">
                <a:moveTo>
                  <a:pt x="9227" y="7938"/>
                </a:moveTo>
                <a:cubicBezTo>
                  <a:pt x="9194" y="7836"/>
                  <a:pt x="9053" y="7991"/>
                  <a:pt x="9004" y="8086"/>
                </a:cubicBezTo>
                <a:cubicBezTo>
                  <a:pt x="8835" y="8417"/>
                  <a:pt x="8785" y="8714"/>
                  <a:pt x="9079" y="8905"/>
                </a:cubicBezTo>
                <a:cubicBezTo>
                  <a:pt x="9296" y="8688"/>
                  <a:pt x="9455" y="8432"/>
                  <a:pt x="9277" y="8111"/>
                </a:cubicBezTo>
                <a:cubicBezTo>
                  <a:pt x="9246" y="8056"/>
                  <a:pt x="9024" y="7923"/>
                  <a:pt x="9004" y="79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44920" y="2900520"/>
            <a:ext cx="712800" cy="29664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0120" y="8086"/>
                </a:moveTo>
                <a:cubicBezTo>
                  <a:pt x="9984" y="8142"/>
                  <a:pt x="9934" y="8148"/>
                  <a:pt x="9847" y="8260"/>
                </a:cubicBezTo>
                <a:cubicBezTo>
                  <a:pt x="9994" y="8390"/>
                  <a:pt x="10360" y="8446"/>
                  <a:pt x="10443" y="8632"/>
                </a:cubicBezTo>
                <a:cubicBezTo>
                  <a:pt x="10435" y="8665"/>
                  <a:pt x="10426" y="8698"/>
                  <a:pt x="10418" y="8731"/>
                </a:cubicBezTo>
                <a:cubicBezTo>
                  <a:pt x="10179" y="8743"/>
                  <a:pt x="10046" y="8666"/>
                  <a:pt x="10120" y="8384"/>
                </a:cubicBezTo>
                <a:cubicBezTo>
                  <a:pt x="10128" y="8352"/>
                  <a:pt x="10223" y="8157"/>
                  <a:pt x="10244" y="8136"/>
                </a:cubicBezTo>
              </a:path>
              <a:path w="1911" h="795">
                <a:moveTo>
                  <a:pt x="10592" y="8161"/>
                </a:moveTo>
                <a:cubicBezTo>
                  <a:pt x="10524" y="8411"/>
                  <a:pt x="10513" y="8559"/>
                  <a:pt x="10592" y="8806"/>
                </a:cubicBezTo>
                <a:cubicBezTo>
                  <a:pt x="10778" y="8784"/>
                  <a:pt x="10979" y="8722"/>
                  <a:pt x="10964" y="8483"/>
                </a:cubicBezTo>
                <a:cubicBezTo>
                  <a:pt x="10947" y="8467"/>
                  <a:pt x="10931" y="8450"/>
                  <a:pt x="10914" y="8434"/>
                </a:cubicBezTo>
                <a:cubicBezTo>
                  <a:pt x="10733" y="8482"/>
                  <a:pt x="10648" y="8617"/>
                  <a:pt x="10716" y="8830"/>
                </a:cubicBezTo>
                <a:cubicBezTo>
                  <a:pt x="10732" y="8847"/>
                  <a:pt x="10749" y="8863"/>
                  <a:pt x="10765" y="8880"/>
                </a:cubicBezTo>
              </a:path>
              <a:path w="1911" h="795">
                <a:moveTo>
                  <a:pt x="11485" y="8086"/>
                </a:moveTo>
                <a:cubicBezTo>
                  <a:pt x="11316" y="8086"/>
                  <a:pt x="11252" y="8181"/>
                  <a:pt x="11212" y="8359"/>
                </a:cubicBezTo>
                <a:cubicBezTo>
                  <a:pt x="11172" y="8535"/>
                  <a:pt x="11199" y="9028"/>
                  <a:pt x="11534" y="8880"/>
                </a:cubicBezTo>
                <a:cubicBezTo>
                  <a:pt x="11818" y="8755"/>
                  <a:pt x="11829" y="8323"/>
                  <a:pt x="11609" y="8136"/>
                </a:cubicBezTo>
                <a:cubicBezTo>
                  <a:pt x="11550" y="8086"/>
                  <a:pt x="11461" y="8110"/>
                  <a:pt x="1141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00240" y="3112920"/>
            <a:ext cx="2021040" cy="574920"/>
          </a:xfrm>
          <a:custGeom>
            <a:avLst/>
            <a:gdLst/>
            <a:ahLst/>
            <a:rect l="l" t="t" r="r" b="b"/>
            <a:pathLst>
              <a:path w="5409" h="1539">
                <a:moveTo>
                  <a:pt x="9575" y="8706"/>
                </a:moveTo>
                <a:cubicBezTo>
                  <a:pt x="9638" y="8860"/>
                  <a:pt x="9681" y="9017"/>
                  <a:pt x="9723" y="9178"/>
                </a:cubicBezTo>
              </a:path>
              <a:path w="5409" h="1539">
                <a:moveTo>
                  <a:pt x="8384" y="9203"/>
                </a:moveTo>
                <a:cubicBezTo>
                  <a:pt x="8332" y="9573"/>
                  <a:pt x="8297" y="9838"/>
                  <a:pt x="8483" y="10170"/>
                </a:cubicBezTo>
                <a:cubicBezTo>
                  <a:pt x="8521" y="10226"/>
                  <a:pt x="8516" y="10251"/>
                  <a:pt x="8558" y="10244"/>
                </a:cubicBezTo>
              </a:path>
              <a:path w="5409" h="1539">
                <a:moveTo>
                  <a:pt x="9525" y="9624"/>
                </a:moveTo>
                <a:cubicBezTo>
                  <a:pt x="9591" y="9703"/>
                  <a:pt x="9734" y="9819"/>
                  <a:pt x="9773" y="9897"/>
                </a:cubicBezTo>
              </a:path>
              <a:path w="5409" h="1539">
                <a:moveTo>
                  <a:pt x="11485" y="9153"/>
                </a:moveTo>
                <a:cubicBezTo>
                  <a:pt x="11719" y="9271"/>
                  <a:pt x="11903" y="9402"/>
                  <a:pt x="11981" y="9674"/>
                </a:cubicBezTo>
                <a:cubicBezTo>
                  <a:pt x="12049" y="9912"/>
                  <a:pt x="11907" y="10088"/>
                  <a:pt x="11708" y="10145"/>
                </a:cubicBezTo>
              </a:path>
              <a:path w="5409" h="1539">
                <a:moveTo>
                  <a:pt x="12576" y="9599"/>
                </a:moveTo>
                <a:cubicBezTo>
                  <a:pt x="12590" y="9699"/>
                  <a:pt x="12617" y="9796"/>
                  <a:pt x="12626" y="9897"/>
                </a:cubicBez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  <a:path w="5409" h="1539">
                <a:moveTo>
                  <a:pt x="13742" y="9475"/>
                </a:moveTo>
                <a:lnTo>
                  <a:pt x="13742" y="947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1840" y="3325680"/>
            <a:ext cx="557280" cy="389160"/>
          </a:xfrm>
          <a:custGeom>
            <a:avLst/>
            <a:gdLst/>
            <a:ahLst/>
            <a:rect l="l" t="t" r="r" b="b"/>
            <a:pathLst>
              <a:path w="1490" h="1043">
                <a:moveTo>
                  <a:pt x="4018" y="9351"/>
                </a:moveTo>
                <a:cubicBezTo>
                  <a:pt x="3944" y="9557"/>
                  <a:pt x="3883" y="9822"/>
                  <a:pt x="3894" y="10046"/>
                </a:cubicBezTo>
                <a:cubicBezTo>
                  <a:pt x="3904" y="10260"/>
                  <a:pt x="3970" y="10331"/>
                  <a:pt x="4142" y="10294"/>
                </a:cubicBezTo>
                <a:cubicBezTo>
                  <a:pt x="4150" y="10294"/>
                  <a:pt x="4159" y="10294"/>
                  <a:pt x="4167" y="10294"/>
                </a:cubicBezTo>
              </a:path>
              <a:path w="1490" h="1043">
                <a:moveTo>
                  <a:pt x="4316" y="9748"/>
                </a:moveTo>
                <a:cubicBezTo>
                  <a:pt x="4308" y="9781"/>
                  <a:pt x="4299" y="9814"/>
                  <a:pt x="4291" y="9847"/>
                </a:cubicBezTo>
                <a:cubicBezTo>
                  <a:pt x="4207" y="9807"/>
                  <a:pt x="4552" y="9823"/>
                  <a:pt x="4564" y="9823"/>
                </a:cubicBezTo>
                <a:cubicBezTo>
                  <a:pt x="4655" y="9823"/>
                  <a:pt x="4663" y="9823"/>
                  <a:pt x="4713" y="9823"/>
                </a:cubicBezTo>
              </a:path>
              <a:path w="1490" h="1043">
                <a:moveTo>
                  <a:pt x="4564" y="9277"/>
                </a:moveTo>
                <a:cubicBezTo>
                  <a:pt x="4604" y="9552"/>
                  <a:pt x="4671" y="9821"/>
                  <a:pt x="4688" y="10096"/>
                </a:cubicBezTo>
                <a:cubicBezTo>
                  <a:pt x="4688" y="10135"/>
                  <a:pt x="4699" y="10133"/>
                  <a:pt x="4738" y="10071"/>
                </a:cubicBezTo>
              </a:path>
              <a:path w="1490" h="1043">
                <a:moveTo>
                  <a:pt x="5035" y="9500"/>
                </a:moveTo>
                <a:cubicBezTo>
                  <a:pt x="5135" y="9652"/>
                  <a:pt x="5165" y="10016"/>
                  <a:pt x="5333" y="9947"/>
                </a:cubicBezTo>
                <a:cubicBezTo>
                  <a:pt x="5333" y="9930"/>
                  <a:pt x="5333" y="9914"/>
                  <a:pt x="5333" y="9897"/>
                </a:cubicBezTo>
              </a:path>
              <a:path w="1490" h="1043">
                <a:moveTo>
                  <a:pt x="5383" y="9401"/>
                </a:moveTo>
                <a:cubicBezTo>
                  <a:pt x="5257" y="9568"/>
                  <a:pt x="5164" y="9772"/>
                  <a:pt x="5085" y="9971"/>
                </a:cubicBezTo>
                <a:cubicBezTo>
                  <a:pt x="5085" y="9979"/>
                  <a:pt x="5085" y="9988"/>
                  <a:pt x="5085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62080" y="3260880"/>
            <a:ext cx="528840" cy="426960"/>
          </a:xfrm>
          <a:custGeom>
            <a:avLst/>
            <a:gdLst/>
            <a:ahLst/>
            <a:rect l="l" t="t" r="r" b="b"/>
            <a:pathLst>
              <a:path w="1415" h="1142">
                <a:moveTo>
                  <a:pt x="5730" y="9351"/>
                </a:moveTo>
                <a:cubicBezTo>
                  <a:pt x="5738" y="9592"/>
                  <a:pt x="5755" y="9829"/>
                  <a:pt x="5755" y="10071"/>
                </a:cubicBezTo>
              </a:path>
              <a:path w="1415" h="1142">
                <a:moveTo>
                  <a:pt x="6003" y="9426"/>
                </a:moveTo>
                <a:cubicBezTo>
                  <a:pt x="5979" y="9620"/>
                  <a:pt x="5915" y="9894"/>
                  <a:pt x="6028" y="10071"/>
                </a:cubicBezTo>
                <a:cubicBezTo>
                  <a:pt x="6053" y="10087"/>
                  <a:pt x="6077" y="10104"/>
                  <a:pt x="6102" y="10120"/>
                </a:cubicBezTo>
                <a:cubicBezTo>
                  <a:pt x="6272" y="10057"/>
                  <a:pt x="6391" y="9987"/>
                  <a:pt x="6350" y="9773"/>
                </a:cubicBezTo>
                <a:cubicBezTo>
                  <a:pt x="6326" y="9651"/>
                  <a:pt x="6214" y="9500"/>
                  <a:pt x="6077" y="9500"/>
                </a:cubicBezTo>
                <a:cubicBezTo>
                  <a:pt x="5988" y="9500"/>
                  <a:pt x="5987" y="9539"/>
                  <a:pt x="5978" y="9599"/>
                </a:cubicBezTo>
              </a:path>
              <a:path w="1415" h="1142">
                <a:moveTo>
                  <a:pt x="6548" y="9302"/>
                </a:moveTo>
                <a:cubicBezTo>
                  <a:pt x="6548" y="9362"/>
                  <a:pt x="6542" y="9396"/>
                  <a:pt x="6524" y="9451"/>
                </a:cubicBezTo>
                <a:cubicBezTo>
                  <a:pt x="6600" y="9438"/>
                  <a:pt x="6669" y="9401"/>
                  <a:pt x="6747" y="9401"/>
                </a:cubicBezTo>
              </a:path>
              <a:path w="1415" h="1142">
                <a:moveTo>
                  <a:pt x="6672" y="9277"/>
                </a:moveTo>
                <a:cubicBezTo>
                  <a:pt x="6672" y="9282"/>
                  <a:pt x="6711" y="9559"/>
                  <a:pt x="6722" y="9649"/>
                </a:cubicBezTo>
                <a:cubicBezTo>
                  <a:pt x="6722" y="9691"/>
                  <a:pt x="6722" y="9716"/>
                  <a:pt x="6722" y="9674"/>
                </a:cubicBezTo>
              </a:path>
              <a:path w="1415" h="1142">
                <a:moveTo>
                  <a:pt x="6772" y="9103"/>
                </a:moveTo>
                <a:cubicBezTo>
                  <a:pt x="7012" y="9373"/>
                  <a:pt x="7212" y="9587"/>
                  <a:pt x="7094" y="9971"/>
                </a:cubicBezTo>
                <a:cubicBezTo>
                  <a:pt x="7090" y="9985"/>
                  <a:pt x="6839" y="10395"/>
                  <a:pt x="6896" y="101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14760" y="3441600"/>
            <a:ext cx="139680" cy="139680"/>
          </a:xfrm>
          <a:custGeom>
            <a:avLst/>
            <a:gdLst/>
            <a:ahLst/>
            <a:rect l="l" t="t" r="r" b="b"/>
            <a:pathLst>
              <a:path w="373" h="373">
                <a:moveTo>
                  <a:pt x="7640" y="9575"/>
                </a:moveTo>
                <a:cubicBezTo>
                  <a:pt x="7656" y="9682"/>
                  <a:pt x="7673" y="9813"/>
                  <a:pt x="7714" y="9922"/>
                </a:cubicBezTo>
                <a:cubicBezTo>
                  <a:pt x="7744" y="9952"/>
                  <a:pt x="7749" y="9954"/>
                  <a:pt x="7714" y="9897"/>
                </a:cubicBezTo>
              </a:path>
              <a:path w="373" h="373">
                <a:moveTo>
                  <a:pt x="7541" y="9773"/>
                </a:moveTo>
                <a:cubicBezTo>
                  <a:pt x="7666" y="9748"/>
                  <a:pt x="7784" y="9748"/>
                  <a:pt x="7913" y="974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43160" y="3359160"/>
            <a:ext cx="147600" cy="249120"/>
          </a:xfrm>
          <a:custGeom>
            <a:avLst/>
            <a:gdLst/>
            <a:ahLst/>
            <a:rect l="l" t="t" r="r" b="b"/>
            <a:pathLst>
              <a:path w="398" h="671">
                <a:moveTo>
                  <a:pt x="9079" y="9426"/>
                </a:moveTo>
                <a:cubicBezTo>
                  <a:pt x="9141" y="9339"/>
                  <a:pt x="9000" y="9328"/>
                  <a:pt x="8930" y="9351"/>
                </a:cubicBezTo>
                <a:cubicBezTo>
                  <a:pt x="8732" y="9418"/>
                  <a:pt x="8663" y="9611"/>
                  <a:pt x="8855" y="9723"/>
                </a:cubicBezTo>
                <a:cubicBezTo>
                  <a:pt x="9044" y="9833"/>
                  <a:pt x="9077" y="9780"/>
                  <a:pt x="9128" y="9971"/>
                </a:cubicBezTo>
                <a:cubicBezTo>
                  <a:pt x="8951" y="10053"/>
                  <a:pt x="8871" y="9996"/>
                  <a:pt x="8905" y="9773"/>
                </a:cubicBezTo>
                <a:cubicBezTo>
                  <a:pt x="8921" y="9671"/>
                  <a:pt x="8971" y="9581"/>
                  <a:pt x="9029" y="95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38360" y="3394080"/>
            <a:ext cx="82800" cy="214200"/>
          </a:xfrm>
          <a:custGeom>
            <a:avLst/>
            <a:gdLst/>
            <a:ahLst/>
            <a:rect l="l" t="t" r="r" b="b"/>
            <a:pathLst>
              <a:path w="224" h="571">
                <a:moveTo>
                  <a:pt x="9773" y="9451"/>
                </a:moveTo>
                <a:cubicBezTo>
                  <a:pt x="9707" y="9625"/>
                  <a:pt x="9653" y="9802"/>
                  <a:pt x="9575" y="9971"/>
                </a:cubicBezTo>
                <a:cubicBezTo>
                  <a:pt x="9555" y="10012"/>
                  <a:pt x="9536" y="10028"/>
                  <a:pt x="9575" y="100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0200" y="3024360"/>
            <a:ext cx="74880" cy="618840"/>
          </a:xfrm>
          <a:custGeom>
            <a:avLst/>
            <a:gdLst/>
            <a:ahLst/>
            <a:rect l="l" t="t" r="r" b="b"/>
            <a:pathLst>
              <a:path w="75" h="621">
                <a:moveTo>
                  <a:pt x="10195" y="9500"/>
                </a:moveTo>
                <a:cubicBezTo>
                  <a:pt x="10229" y="9707"/>
                  <a:pt x="10259" y="9911"/>
                  <a:pt x="10269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30760" y="3346560"/>
            <a:ext cx="334800" cy="296640"/>
          </a:xfrm>
          <a:custGeom>
            <a:avLst/>
            <a:gdLst/>
            <a:ahLst/>
            <a:rect l="l" t="t" r="r" b="b"/>
            <a:pathLst>
              <a:path w="894" h="794">
                <a:moveTo>
                  <a:pt x="10765" y="9525"/>
                </a:moveTo>
                <a:cubicBezTo>
                  <a:pt x="10652" y="9653"/>
                  <a:pt x="10612" y="9841"/>
                  <a:pt x="10666" y="10021"/>
                </a:cubicBezTo>
                <a:cubicBezTo>
                  <a:pt x="10683" y="10046"/>
                  <a:pt x="10699" y="10071"/>
                  <a:pt x="10716" y="10096"/>
                </a:cubicBezTo>
                <a:cubicBezTo>
                  <a:pt x="10902" y="10107"/>
                  <a:pt x="11009" y="10044"/>
                  <a:pt x="11013" y="9823"/>
                </a:cubicBezTo>
                <a:cubicBezTo>
                  <a:pt x="11016" y="9643"/>
                  <a:pt x="10901" y="9496"/>
                  <a:pt x="10716" y="9575"/>
                </a:cubicBezTo>
                <a:cubicBezTo>
                  <a:pt x="10716" y="9583"/>
                  <a:pt x="10716" y="9591"/>
                  <a:pt x="10716" y="9599"/>
                </a:cubicBezTo>
              </a:path>
              <a:path w="894" h="794">
                <a:moveTo>
                  <a:pt x="11212" y="9376"/>
                </a:moveTo>
                <a:cubicBezTo>
                  <a:pt x="11255" y="9289"/>
                  <a:pt x="11351" y="9332"/>
                  <a:pt x="11435" y="9351"/>
                </a:cubicBezTo>
                <a:cubicBezTo>
                  <a:pt x="11398" y="9478"/>
                  <a:pt x="11339" y="9569"/>
                  <a:pt x="11286" y="9674"/>
                </a:cubicBezTo>
                <a:cubicBezTo>
                  <a:pt x="11350" y="9674"/>
                  <a:pt x="11426" y="9667"/>
                  <a:pt x="11485" y="9649"/>
                </a:cubicBezTo>
                <a:cubicBezTo>
                  <a:pt x="11501" y="9641"/>
                  <a:pt x="11518" y="9632"/>
                  <a:pt x="11534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1000" y="3452760"/>
            <a:ext cx="920880" cy="74520"/>
          </a:xfrm>
          <a:custGeom>
            <a:avLst/>
            <a:gdLst/>
            <a:ahLst/>
            <a:rect l="l" t="t" r="r" b="b"/>
            <a:pathLst>
              <a:path w="323" h="26">
                <a:moveTo>
                  <a:pt x="12477" y="9798"/>
                </a:moveTo>
                <a:cubicBezTo>
                  <a:pt x="12569" y="9798"/>
                  <a:pt x="12658" y="9777"/>
                  <a:pt x="12750" y="9773"/>
                </a:cubicBezTo>
                <a:cubicBezTo>
                  <a:pt x="12774" y="9773"/>
                  <a:pt x="12783" y="9773"/>
                  <a:pt x="12799" y="97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8920" y="3281400"/>
            <a:ext cx="547560" cy="361800"/>
          </a:xfrm>
          <a:custGeom>
            <a:avLst/>
            <a:gdLst/>
            <a:ahLst/>
            <a:rect l="l" t="t" r="r" b="b"/>
            <a:pathLst>
              <a:path w="1464" h="968">
                <a:moveTo>
                  <a:pt x="13345" y="9153"/>
                </a:moveTo>
                <a:cubicBezTo>
                  <a:pt x="13281" y="9258"/>
                  <a:pt x="13249" y="9586"/>
                  <a:pt x="13246" y="9699"/>
                </a:cubicBezTo>
                <a:cubicBezTo>
                  <a:pt x="13244" y="9794"/>
                  <a:pt x="13253" y="10085"/>
                  <a:pt x="13370" y="10120"/>
                </a:cubicBezTo>
                <a:cubicBezTo>
                  <a:pt x="13395" y="10120"/>
                  <a:pt x="13403" y="10120"/>
                  <a:pt x="13419" y="10120"/>
                </a:cubicBezTo>
              </a:path>
              <a:path w="1464" h="968">
                <a:moveTo>
                  <a:pt x="13692" y="9575"/>
                </a:moveTo>
                <a:cubicBezTo>
                  <a:pt x="13649" y="9720"/>
                  <a:pt x="13599" y="9844"/>
                  <a:pt x="13593" y="9996"/>
                </a:cubicBezTo>
                <a:cubicBezTo>
                  <a:pt x="13588" y="10128"/>
                  <a:pt x="13754" y="10098"/>
                  <a:pt x="13841" y="10071"/>
                </a:cubicBezTo>
                <a:cubicBezTo>
                  <a:pt x="13938" y="10041"/>
                  <a:pt x="14025" y="9967"/>
                  <a:pt x="14039" y="9872"/>
                </a:cubicBezTo>
                <a:cubicBezTo>
                  <a:pt x="14039" y="9864"/>
                  <a:pt x="14039" y="9855"/>
                  <a:pt x="14039" y="9847"/>
                </a:cubicBezTo>
                <a:cubicBezTo>
                  <a:pt x="13935" y="9813"/>
                  <a:pt x="13865" y="9833"/>
                  <a:pt x="13816" y="9947"/>
                </a:cubicBezTo>
                <a:cubicBezTo>
                  <a:pt x="13771" y="10052"/>
                  <a:pt x="13791" y="10061"/>
                  <a:pt x="13891" y="10021"/>
                </a:cubicBezTo>
              </a:path>
              <a:path w="1464" h="968">
                <a:moveTo>
                  <a:pt x="14312" y="9451"/>
                </a:moveTo>
                <a:cubicBezTo>
                  <a:pt x="14437" y="9584"/>
                  <a:pt x="14536" y="9719"/>
                  <a:pt x="14635" y="9872"/>
                </a:cubicBezTo>
              </a:path>
              <a:path w="1464" h="968">
                <a:moveTo>
                  <a:pt x="14709" y="9426"/>
                </a:moveTo>
                <a:cubicBezTo>
                  <a:pt x="14619" y="9531"/>
                  <a:pt x="14551" y="9728"/>
                  <a:pt x="14486" y="9872"/>
                </a:cubicBezTo>
                <a:cubicBezTo>
                  <a:pt x="14466" y="9913"/>
                  <a:pt x="14447" y="9929"/>
                  <a:pt x="1448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46800" y="3244680"/>
            <a:ext cx="612720" cy="381240"/>
          </a:xfrm>
          <a:custGeom>
            <a:avLst/>
            <a:gdLst/>
            <a:ahLst/>
            <a:rect l="l" t="t" r="r" b="b"/>
            <a:pathLst>
              <a:path w="1638" h="1018">
                <a:moveTo>
                  <a:pt x="15131" y="9351"/>
                </a:moveTo>
                <a:cubicBezTo>
                  <a:pt x="15131" y="9527"/>
                  <a:pt x="15150" y="9697"/>
                  <a:pt x="15156" y="9872"/>
                </a:cubicBezTo>
                <a:cubicBezTo>
                  <a:pt x="15156" y="9889"/>
                  <a:pt x="15156" y="9905"/>
                  <a:pt x="15156" y="9922"/>
                </a:cubicBezTo>
              </a:path>
              <a:path w="1638" h="1018">
                <a:moveTo>
                  <a:pt x="15553" y="9451"/>
                </a:moveTo>
                <a:cubicBezTo>
                  <a:pt x="15501" y="9612"/>
                  <a:pt x="15390" y="9855"/>
                  <a:pt x="15453" y="10021"/>
                </a:cubicBezTo>
                <a:cubicBezTo>
                  <a:pt x="15506" y="10160"/>
                  <a:pt x="15778" y="10023"/>
                  <a:pt x="15825" y="9947"/>
                </a:cubicBezTo>
                <a:cubicBezTo>
                  <a:pt x="15910" y="9808"/>
                  <a:pt x="15807" y="9625"/>
                  <a:pt x="15677" y="9575"/>
                </a:cubicBezTo>
                <a:cubicBezTo>
                  <a:pt x="15589" y="9541"/>
                  <a:pt x="15543" y="9536"/>
                  <a:pt x="15478" y="9575"/>
                </a:cubicBezTo>
              </a:path>
              <a:path w="1638" h="1018">
                <a:moveTo>
                  <a:pt x="16123" y="9327"/>
                </a:moveTo>
                <a:cubicBezTo>
                  <a:pt x="16123" y="9413"/>
                  <a:pt x="16140" y="9491"/>
                  <a:pt x="16148" y="9575"/>
                </a:cubicBezTo>
              </a:path>
              <a:path w="1638" h="1018">
                <a:moveTo>
                  <a:pt x="16396" y="9054"/>
                </a:moveTo>
                <a:cubicBezTo>
                  <a:pt x="16506" y="9076"/>
                  <a:pt x="16582" y="9188"/>
                  <a:pt x="16644" y="9277"/>
                </a:cubicBezTo>
                <a:cubicBezTo>
                  <a:pt x="16773" y="9462"/>
                  <a:pt x="16824" y="9675"/>
                  <a:pt x="16694" y="9872"/>
                </a:cubicBezTo>
                <a:cubicBezTo>
                  <a:pt x="16664" y="9918"/>
                  <a:pt x="16554" y="10056"/>
                  <a:pt x="16495" y="100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24160" y="4113360"/>
            <a:ext cx="1260360" cy="352440"/>
          </a:xfrm>
          <a:custGeom>
            <a:avLst/>
            <a:gdLst/>
            <a:ahLst/>
            <a:rect l="l" t="t" r="r" b="b"/>
            <a:pathLst>
              <a:path w="3375" h="943">
                <a:moveTo>
                  <a:pt x="9426" y="11757"/>
                </a:moveTo>
                <a:cubicBezTo>
                  <a:pt x="9448" y="11617"/>
                  <a:pt x="9424" y="11448"/>
                  <a:pt x="9227" y="11460"/>
                </a:cubicBezTo>
                <a:cubicBezTo>
                  <a:pt x="9009" y="11473"/>
                  <a:pt x="8992" y="11624"/>
                  <a:pt x="8954" y="11782"/>
                </a:cubicBezTo>
                <a:cubicBezTo>
                  <a:pt x="9178" y="11825"/>
                  <a:pt x="9246" y="11790"/>
                  <a:pt x="9401" y="11609"/>
                </a:cubicBezTo>
                <a:cubicBezTo>
                  <a:pt x="9373" y="11774"/>
                  <a:pt x="9368" y="11967"/>
                  <a:pt x="9327" y="12129"/>
                </a:cubicBezTo>
                <a:cubicBezTo>
                  <a:pt x="9310" y="12162"/>
                  <a:pt x="9294" y="12196"/>
                  <a:pt x="9277" y="12229"/>
                </a:cubicBezTo>
              </a:path>
              <a:path w="3375" h="943">
                <a:moveTo>
                  <a:pt x="9773" y="11757"/>
                </a:moveTo>
                <a:cubicBezTo>
                  <a:pt x="9645" y="11846"/>
                  <a:pt x="9440" y="12062"/>
                  <a:pt x="9475" y="12254"/>
                </a:cubicBezTo>
                <a:cubicBezTo>
                  <a:pt x="9500" y="12287"/>
                  <a:pt x="9525" y="12320"/>
                  <a:pt x="9550" y="12353"/>
                </a:cubicBezTo>
                <a:cubicBezTo>
                  <a:pt x="9752" y="12319"/>
                  <a:pt x="10033" y="12198"/>
                  <a:pt x="9947" y="11906"/>
                </a:cubicBezTo>
                <a:cubicBezTo>
                  <a:pt x="9921" y="11817"/>
                  <a:pt x="9747" y="11753"/>
                  <a:pt x="9674" y="11708"/>
                </a:cubicBezTo>
              </a:path>
              <a:path w="3375" h="943">
                <a:moveTo>
                  <a:pt x="10269" y="12204"/>
                </a:moveTo>
                <a:cubicBezTo>
                  <a:pt x="10269" y="12267"/>
                  <a:pt x="10270" y="12347"/>
                  <a:pt x="10244" y="12402"/>
                </a:cubicBezTo>
                <a:cubicBezTo>
                  <a:pt x="10244" y="12394"/>
                  <a:pt x="10244" y="12386"/>
                  <a:pt x="10244" y="12378"/>
                </a:cubicBezTo>
              </a:path>
              <a:path w="3375" h="943">
                <a:moveTo>
                  <a:pt x="10492" y="11782"/>
                </a:moveTo>
                <a:cubicBezTo>
                  <a:pt x="10634" y="11794"/>
                  <a:pt x="10770" y="11807"/>
                  <a:pt x="10914" y="11807"/>
                </a:cubicBezTo>
                <a:cubicBezTo>
                  <a:pt x="10922" y="11807"/>
                  <a:pt x="10931" y="11807"/>
                  <a:pt x="10939" y="11807"/>
                </a:cubicBezTo>
                <a:cubicBezTo>
                  <a:pt x="10904" y="11964"/>
                  <a:pt x="10819" y="12079"/>
                  <a:pt x="10765" y="12229"/>
                </a:cubicBezTo>
                <a:cubicBezTo>
                  <a:pt x="10765" y="12264"/>
                  <a:pt x="10774" y="12268"/>
                  <a:pt x="10815" y="12229"/>
                </a:cubicBezTo>
              </a:path>
              <a:path w="3375" h="943">
                <a:moveTo>
                  <a:pt x="11509" y="11857"/>
                </a:moveTo>
                <a:cubicBezTo>
                  <a:pt x="11356" y="11831"/>
                  <a:pt x="11207" y="11932"/>
                  <a:pt x="11162" y="12105"/>
                </a:cubicBezTo>
                <a:cubicBezTo>
                  <a:pt x="11170" y="12138"/>
                  <a:pt x="11179" y="12171"/>
                  <a:pt x="11187" y="12204"/>
                </a:cubicBezTo>
                <a:cubicBezTo>
                  <a:pt x="11396" y="12297"/>
                  <a:pt x="11550" y="12281"/>
                  <a:pt x="11633" y="12030"/>
                </a:cubicBezTo>
                <a:cubicBezTo>
                  <a:pt x="11668" y="11924"/>
                  <a:pt x="11554" y="11929"/>
                  <a:pt x="11485" y="11906"/>
                </a:cubicBezTo>
              </a:path>
              <a:path w="3375" h="943">
                <a:moveTo>
                  <a:pt x="11857" y="11757"/>
                </a:moveTo>
                <a:cubicBezTo>
                  <a:pt x="11921" y="11695"/>
                  <a:pt x="12118" y="11689"/>
                  <a:pt x="12229" y="11683"/>
                </a:cubicBezTo>
                <a:cubicBezTo>
                  <a:pt x="12287" y="11683"/>
                  <a:pt x="12311" y="11667"/>
                  <a:pt x="12303" y="11708"/>
                </a:cubicBezTo>
                <a:cubicBezTo>
                  <a:pt x="12211" y="11781"/>
                  <a:pt x="12143" y="11817"/>
                  <a:pt x="12030" y="11857"/>
                </a:cubicBezTo>
                <a:cubicBezTo>
                  <a:pt x="12180" y="11857"/>
                  <a:pt x="12227" y="11880"/>
                  <a:pt x="12328" y="11981"/>
                </a:cubicBezTo>
                <a:cubicBezTo>
                  <a:pt x="12269" y="12156"/>
                  <a:pt x="12182" y="12145"/>
                  <a:pt x="12005" y="12129"/>
                </a:cubicBezTo>
                <a:cubicBezTo>
                  <a:pt x="11997" y="12129"/>
                  <a:pt x="11989" y="12129"/>
                  <a:pt x="11981" y="121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0200" y="4524480"/>
            <a:ext cx="2076480" cy="325440"/>
          </a:xfrm>
          <a:custGeom>
            <a:avLst/>
            <a:gdLst/>
            <a:ahLst/>
            <a:rect l="l" t="t" r="r" b="b"/>
            <a:pathLst>
              <a:path w="5558" h="869">
                <a:moveTo>
                  <a:pt x="7045" y="12725"/>
                </a:moveTo>
                <a:cubicBezTo>
                  <a:pt x="7030" y="12827"/>
                  <a:pt x="7021" y="12927"/>
                  <a:pt x="6995" y="13022"/>
                </a:cubicBezTo>
              </a:path>
              <a:path w="5558" h="869">
                <a:moveTo>
                  <a:pt x="7218" y="12650"/>
                </a:moveTo>
                <a:cubicBezTo>
                  <a:pt x="7288" y="12927"/>
                  <a:pt x="7377" y="13195"/>
                  <a:pt x="7094" y="13395"/>
                </a:cubicBezTo>
                <a:cubicBezTo>
                  <a:pt x="7012" y="13415"/>
                  <a:pt x="6996" y="13423"/>
                  <a:pt x="6945" y="13419"/>
                </a:cubicBezTo>
              </a:path>
              <a:path w="5558" h="869">
                <a:moveTo>
                  <a:pt x="9649" y="12874"/>
                </a:moveTo>
                <a:cubicBezTo>
                  <a:pt x="9657" y="12874"/>
                  <a:pt x="9666" y="12874"/>
                  <a:pt x="9674" y="12874"/>
                </a:cubicBezTo>
              </a:path>
              <a:path w="5558" h="869">
                <a:moveTo>
                  <a:pt x="9674" y="12874"/>
                </a:moveTo>
                <a:lnTo>
                  <a:pt x="9674" y="12874"/>
                </a:lnTo>
              </a:path>
              <a:path w="5558" h="869">
                <a:moveTo>
                  <a:pt x="9723" y="12874"/>
                </a:moveTo>
                <a:lnTo>
                  <a:pt x="9723" y="12874"/>
                </a:lnTo>
              </a:path>
              <a:path w="5558" h="869">
                <a:moveTo>
                  <a:pt x="12477" y="12626"/>
                </a:moveTo>
                <a:cubicBezTo>
                  <a:pt x="12477" y="12653"/>
                  <a:pt x="12330" y="13017"/>
                  <a:pt x="12328" y="13171"/>
                </a:cubicBezTo>
                <a:cubicBezTo>
                  <a:pt x="12328" y="13199"/>
                  <a:pt x="12342" y="13491"/>
                  <a:pt x="12452" y="13469"/>
                </a:cubicBezTo>
                <a:cubicBezTo>
                  <a:pt x="12469" y="13461"/>
                  <a:pt x="12485" y="13452"/>
                  <a:pt x="12502" y="13444"/>
                </a:cubicBezTo>
              </a:path>
              <a:path w="5558" h="869">
                <a:moveTo>
                  <a:pt x="7541" y="13022"/>
                </a:moveTo>
                <a:cubicBezTo>
                  <a:pt x="7620" y="13017"/>
                  <a:pt x="7687" y="13009"/>
                  <a:pt x="7764" y="129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84200" y="4524480"/>
            <a:ext cx="314280" cy="350640"/>
          </a:xfrm>
          <a:custGeom>
            <a:avLst/>
            <a:gdLst/>
            <a:ahLst/>
            <a:rect l="l" t="t" r="r" b="b"/>
            <a:pathLst>
              <a:path w="844" h="943">
                <a:moveTo>
                  <a:pt x="4242" y="12601"/>
                </a:moveTo>
                <a:cubicBezTo>
                  <a:pt x="4067" y="12687"/>
                  <a:pt x="3927" y="12907"/>
                  <a:pt x="3870" y="13097"/>
                </a:cubicBezTo>
                <a:cubicBezTo>
                  <a:pt x="3841" y="13195"/>
                  <a:pt x="3819" y="13459"/>
                  <a:pt x="3919" y="13543"/>
                </a:cubicBezTo>
                <a:cubicBezTo>
                  <a:pt x="3927" y="13543"/>
                  <a:pt x="3936" y="13543"/>
                  <a:pt x="3944" y="13543"/>
                </a:cubicBezTo>
              </a:path>
              <a:path w="844" h="943">
                <a:moveTo>
                  <a:pt x="4688" y="13047"/>
                </a:moveTo>
                <a:cubicBezTo>
                  <a:pt x="4672" y="12955"/>
                  <a:pt x="4659" y="12867"/>
                  <a:pt x="4564" y="12824"/>
                </a:cubicBezTo>
                <a:cubicBezTo>
                  <a:pt x="4430" y="12764"/>
                  <a:pt x="4343" y="12917"/>
                  <a:pt x="4316" y="12998"/>
                </a:cubicBezTo>
                <a:cubicBezTo>
                  <a:pt x="4480" y="13073"/>
                  <a:pt x="4526" y="13040"/>
                  <a:pt x="4663" y="12923"/>
                </a:cubicBezTo>
                <a:cubicBezTo>
                  <a:pt x="4642" y="13072"/>
                  <a:pt x="4615" y="13188"/>
                  <a:pt x="4539" y="13320"/>
                </a:cubicBezTo>
                <a:cubicBezTo>
                  <a:pt x="4524" y="13345"/>
                  <a:pt x="4514" y="13390"/>
                  <a:pt x="4514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6960" y="4638600"/>
            <a:ext cx="147600" cy="16524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5234" y="12948"/>
                </a:moveTo>
                <a:cubicBezTo>
                  <a:pt x="5313" y="13077"/>
                  <a:pt x="5391" y="13200"/>
                  <a:pt x="5432" y="13345"/>
                </a:cubicBezTo>
              </a:path>
              <a:path w="398" h="448">
                <a:moveTo>
                  <a:pt x="5581" y="12898"/>
                </a:moveTo>
                <a:cubicBezTo>
                  <a:pt x="5488" y="12991"/>
                  <a:pt x="5209" y="13224"/>
                  <a:pt x="5209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562640"/>
            <a:ext cx="380880" cy="26820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6127" y="12898"/>
                </a:moveTo>
                <a:cubicBezTo>
                  <a:pt x="6073" y="13019"/>
                  <a:pt x="6035" y="13184"/>
                  <a:pt x="6003" y="13320"/>
                </a:cubicBezTo>
                <a:cubicBezTo>
                  <a:pt x="6003" y="13366"/>
                  <a:pt x="6015" y="13357"/>
                  <a:pt x="6052" y="13271"/>
                </a:cubicBezTo>
              </a:path>
              <a:path w="1018" h="720">
                <a:moveTo>
                  <a:pt x="6524" y="12874"/>
                </a:moveTo>
                <a:cubicBezTo>
                  <a:pt x="6412" y="13040"/>
                  <a:pt x="6330" y="13178"/>
                  <a:pt x="6276" y="13370"/>
                </a:cubicBezTo>
                <a:cubicBezTo>
                  <a:pt x="6461" y="13437"/>
                  <a:pt x="6582" y="13411"/>
                  <a:pt x="6648" y="13196"/>
                </a:cubicBezTo>
                <a:cubicBezTo>
                  <a:pt x="6683" y="13083"/>
                  <a:pt x="6630" y="12982"/>
                  <a:pt x="6548" y="12923"/>
                </a:cubicBezTo>
              </a:path>
              <a:path w="1018" h="720">
                <a:moveTo>
                  <a:pt x="6896" y="12700"/>
                </a:moveTo>
                <a:cubicBezTo>
                  <a:pt x="6883" y="12787"/>
                  <a:pt x="6867" y="12808"/>
                  <a:pt x="6821" y="12874"/>
                </a:cubicBezTo>
                <a:cubicBezTo>
                  <a:pt x="6887" y="12874"/>
                  <a:pt x="6954" y="12874"/>
                  <a:pt x="7020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51120" y="3897360"/>
            <a:ext cx="74520" cy="834840"/>
          </a:xfrm>
          <a:custGeom>
            <a:avLst/>
            <a:gdLst/>
            <a:ahLst/>
            <a:rect l="l" t="t" r="r" b="b"/>
            <a:pathLst>
              <a:path w="26" h="249">
                <a:moveTo>
                  <a:pt x="7665" y="12973"/>
                </a:moveTo>
                <a:cubicBezTo>
                  <a:pt x="7665" y="12948"/>
                  <a:pt x="7665" y="12940"/>
                  <a:pt x="7665" y="12923"/>
                </a:cubicBezTo>
                <a:cubicBezTo>
                  <a:pt x="7665" y="12873"/>
                  <a:pt x="7646" y="13064"/>
                  <a:pt x="7640" y="13097"/>
                </a:cubicBezTo>
                <a:cubicBezTo>
                  <a:pt x="7640" y="13122"/>
                  <a:pt x="7640" y="13130"/>
                  <a:pt x="7640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46240" y="4514760"/>
            <a:ext cx="1122480" cy="335160"/>
          </a:xfrm>
          <a:custGeom>
            <a:avLst/>
            <a:gdLst/>
            <a:ahLst/>
            <a:rect l="l" t="t" r="r" b="b"/>
            <a:pathLst>
              <a:path w="3002" h="894">
                <a:moveTo>
                  <a:pt x="8508" y="12675"/>
                </a:moveTo>
                <a:cubicBezTo>
                  <a:pt x="8403" y="12701"/>
                  <a:pt x="8247" y="12980"/>
                  <a:pt x="8210" y="13072"/>
                </a:cubicBezTo>
                <a:cubicBezTo>
                  <a:pt x="8131" y="13265"/>
                  <a:pt x="8205" y="13303"/>
                  <a:pt x="8310" y="13395"/>
                </a:cubicBezTo>
                <a:cubicBezTo>
                  <a:pt x="8310" y="13422"/>
                  <a:pt x="8312" y="13428"/>
                  <a:pt x="8334" y="13395"/>
                </a:cubicBezTo>
              </a:path>
              <a:path w="3002" h="894">
                <a:moveTo>
                  <a:pt x="8558" y="12849"/>
                </a:moveTo>
                <a:cubicBezTo>
                  <a:pt x="8655" y="12870"/>
                  <a:pt x="8721" y="12898"/>
                  <a:pt x="8830" y="12898"/>
                </a:cubicBezTo>
                <a:cubicBezTo>
                  <a:pt x="8849" y="13022"/>
                  <a:pt x="8718" y="13144"/>
                  <a:pt x="8657" y="13271"/>
                </a:cubicBezTo>
                <a:cubicBezTo>
                  <a:pt x="8657" y="13295"/>
                  <a:pt x="8657" y="13303"/>
                  <a:pt x="8682" y="13295"/>
                </a:cubicBezTo>
              </a:path>
              <a:path w="3002" h="894">
                <a:moveTo>
                  <a:pt x="9029" y="12874"/>
                </a:moveTo>
                <a:cubicBezTo>
                  <a:pt x="9108" y="12982"/>
                  <a:pt x="9186" y="13114"/>
                  <a:pt x="9227" y="13246"/>
                </a:cubicBezTo>
                <a:cubicBezTo>
                  <a:pt x="9239" y="13286"/>
                  <a:pt x="9239" y="13256"/>
                  <a:pt x="9252" y="13295"/>
                </a:cubicBezTo>
              </a:path>
              <a:path w="3002" h="894">
                <a:moveTo>
                  <a:pt x="9327" y="12898"/>
                </a:moveTo>
                <a:cubicBezTo>
                  <a:pt x="9202" y="13006"/>
                  <a:pt x="9111" y="13119"/>
                  <a:pt x="9004" y="13246"/>
                </a:cubicBezTo>
                <a:cubicBezTo>
                  <a:pt x="8996" y="13254"/>
                  <a:pt x="8987" y="13263"/>
                  <a:pt x="8979" y="13271"/>
                </a:cubicBezTo>
              </a:path>
              <a:path w="3002" h="894">
                <a:moveTo>
                  <a:pt x="9699" y="12874"/>
                </a:moveTo>
                <a:cubicBezTo>
                  <a:pt x="9725" y="12854"/>
                  <a:pt x="9767" y="12849"/>
                  <a:pt x="9723" y="12849"/>
                </a:cubicBezTo>
              </a:path>
              <a:path w="3002" h="894">
                <a:moveTo>
                  <a:pt x="9699" y="12973"/>
                </a:moveTo>
                <a:cubicBezTo>
                  <a:pt x="9668" y="13047"/>
                  <a:pt x="9626" y="13319"/>
                  <a:pt x="9575" y="13370"/>
                </a:cubicBezTo>
                <a:cubicBezTo>
                  <a:pt x="9544" y="13401"/>
                  <a:pt x="9568" y="13385"/>
                  <a:pt x="9624" y="13320"/>
                </a:cubicBezTo>
              </a:path>
              <a:path w="3002" h="894">
                <a:moveTo>
                  <a:pt x="10071" y="12973"/>
                </a:moveTo>
                <a:cubicBezTo>
                  <a:pt x="9998" y="12987"/>
                  <a:pt x="9846" y="13142"/>
                  <a:pt x="9872" y="13295"/>
                </a:cubicBezTo>
                <a:cubicBezTo>
                  <a:pt x="9889" y="13312"/>
                  <a:pt x="9905" y="13328"/>
                  <a:pt x="9922" y="13345"/>
                </a:cubicBezTo>
                <a:cubicBezTo>
                  <a:pt x="10076" y="13356"/>
                  <a:pt x="10240" y="13288"/>
                  <a:pt x="10269" y="13097"/>
                </a:cubicBezTo>
                <a:cubicBezTo>
                  <a:pt x="10282" y="13013"/>
                  <a:pt x="10153" y="12883"/>
                  <a:pt x="10071" y="12898"/>
                </a:cubicBezTo>
                <a:cubicBezTo>
                  <a:pt x="10046" y="12915"/>
                  <a:pt x="10021" y="12931"/>
                  <a:pt x="9996" y="12948"/>
                </a:cubicBezTo>
              </a:path>
              <a:path w="3002" h="894">
                <a:moveTo>
                  <a:pt x="10443" y="12898"/>
                </a:moveTo>
                <a:cubicBezTo>
                  <a:pt x="10484" y="12874"/>
                  <a:pt x="10591" y="12847"/>
                  <a:pt x="10641" y="12874"/>
                </a:cubicBezTo>
                <a:cubicBezTo>
                  <a:pt x="10742" y="12928"/>
                  <a:pt x="10594" y="13075"/>
                  <a:pt x="10542" y="13097"/>
                </a:cubicBezTo>
                <a:cubicBezTo>
                  <a:pt x="10501" y="13097"/>
                  <a:pt x="10493" y="13097"/>
                  <a:pt x="10468" y="13097"/>
                </a:cubicBezTo>
                <a:cubicBezTo>
                  <a:pt x="10522" y="13139"/>
                  <a:pt x="10622" y="13137"/>
                  <a:pt x="10691" y="13122"/>
                </a:cubicBezTo>
                <a:cubicBezTo>
                  <a:pt x="10736" y="13112"/>
                  <a:pt x="10780" y="13075"/>
                  <a:pt x="10815" y="13047"/>
                </a:cubicBezTo>
              </a:path>
              <a:path w="3002" h="894">
                <a:moveTo>
                  <a:pt x="10864" y="12576"/>
                </a:moveTo>
                <a:cubicBezTo>
                  <a:pt x="11044" y="12707"/>
                  <a:pt x="11170" y="12888"/>
                  <a:pt x="11187" y="13122"/>
                </a:cubicBezTo>
                <a:cubicBezTo>
                  <a:pt x="11193" y="13196"/>
                  <a:pt x="11142" y="13469"/>
                  <a:pt x="11013" y="13469"/>
                </a:cubicBezTo>
                <a:cubicBezTo>
                  <a:pt x="10964" y="13444"/>
                  <a:pt x="10948" y="13436"/>
                  <a:pt x="10988" y="133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79960" y="4638600"/>
            <a:ext cx="129960" cy="139680"/>
          </a:xfrm>
          <a:custGeom>
            <a:avLst/>
            <a:gdLst/>
            <a:ahLst/>
            <a:rect l="l" t="t" r="r" b="b"/>
            <a:pathLst>
              <a:path w="348" h="374">
                <a:moveTo>
                  <a:pt x="11782" y="12923"/>
                </a:moveTo>
                <a:cubicBezTo>
                  <a:pt x="11807" y="12923"/>
                  <a:pt x="11815" y="12923"/>
                  <a:pt x="11807" y="12898"/>
                </a:cubicBezTo>
                <a:cubicBezTo>
                  <a:pt x="11788" y="12994"/>
                  <a:pt x="11768" y="13095"/>
                  <a:pt x="11757" y="13196"/>
                </a:cubicBezTo>
                <a:cubicBezTo>
                  <a:pt x="11757" y="13238"/>
                  <a:pt x="11757" y="13246"/>
                  <a:pt x="11757" y="13271"/>
                </a:cubicBezTo>
              </a:path>
              <a:path w="348" h="374">
                <a:moveTo>
                  <a:pt x="11609" y="13146"/>
                </a:moveTo>
                <a:cubicBezTo>
                  <a:pt x="11685" y="13146"/>
                  <a:pt x="11754" y="13126"/>
                  <a:pt x="11832" y="13122"/>
                </a:cubicBezTo>
                <a:cubicBezTo>
                  <a:pt x="11873" y="13120"/>
                  <a:pt x="11915" y="13122"/>
                  <a:pt x="11956" y="13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62640" y="4591080"/>
            <a:ext cx="122040" cy="20484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12750" y="12824"/>
                </a:moveTo>
                <a:cubicBezTo>
                  <a:pt x="12807" y="12798"/>
                  <a:pt x="12953" y="12715"/>
                  <a:pt x="12998" y="12799"/>
                </a:cubicBezTo>
                <a:cubicBezTo>
                  <a:pt x="12998" y="12816"/>
                  <a:pt x="12998" y="12832"/>
                  <a:pt x="12998" y="12849"/>
                </a:cubicBezTo>
                <a:cubicBezTo>
                  <a:pt x="12926" y="12921"/>
                  <a:pt x="12897" y="12934"/>
                  <a:pt x="12799" y="12973"/>
                </a:cubicBezTo>
                <a:cubicBezTo>
                  <a:pt x="12899" y="12939"/>
                  <a:pt x="12994" y="13023"/>
                  <a:pt x="12998" y="13146"/>
                </a:cubicBezTo>
                <a:cubicBezTo>
                  <a:pt x="13004" y="13363"/>
                  <a:pt x="12772" y="13301"/>
                  <a:pt x="12675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5920" y="4638600"/>
            <a:ext cx="101520" cy="139680"/>
          </a:xfrm>
          <a:custGeom>
            <a:avLst/>
            <a:gdLst/>
            <a:ahLst/>
            <a:rect l="l" t="t" r="r" b="b"/>
            <a:pathLst>
              <a:path w="274" h="374">
                <a:moveTo>
                  <a:pt x="13320" y="12923"/>
                </a:moveTo>
                <a:cubicBezTo>
                  <a:pt x="13382" y="12944"/>
                  <a:pt x="13409" y="13128"/>
                  <a:pt x="13444" y="13196"/>
                </a:cubicBezTo>
                <a:cubicBezTo>
                  <a:pt x="13482" y="13253"/>
                  <a:pt x="13499" y="13300"/>
                  <a:pt x="13494" y="13246"/>
                </a:cubicBezTo>
              </a:path>
              <a:path w="274" h="374">
                <a:moveTo>
                  <a:pt x="13593" y="12898"/>
                </a:moveTo>
                <a:cubicBezTo>
                  <a:pt x="13530" y="13009"/>
                  <a:pt x="13361" y="13201"/>
                  <a:pt x="13419" y="132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18040" y="4476600"/>
            <a:ext cx="538200" cy="408240"/>
          </a:xfrm>
          <a:custGeom>
            <a:avLst/>
            <a:gdLst/>
            <a:ahLst/>
            <a:rect l="l" t="t" r="r" b="b"/>
            <a:pathLst>
              <a:path w="1440" h="1092">
                <a:moveTo>
                  <a:pt x="13940" y="12923"/>
                </a:moveTo>
                <a:cubicBezTo>
                  <a:pt x="13965" y="13073"/>
                  <a:pt x="13965" y="13216"/>
                  <a:pt x="13965" y="13370"/>
                </a:cubicBezTo>
                <a:cubicBezTo>
                  <a:pt x="13965" y="13395"/>
                  <a:pt x="13965" y="13403"/>
                  <a:pt x="13965" y="13370"/>
                </a:cubicBezTo>
              </a:path>
              <a:path w="1440" h="1092">
                <a:moveTo>
                  <a:pt x="14387" y="12898"/>
                </a:moveTo>
                <a:cubicBezTo>
                  <a:pt x="14245" y="13063"/>
                  <a:pt x="14203" y="13156"/>
                  <a:pt x="14213" y="13370"/>
                </a:cubicBezTo>
                <a:cubicBezTo>
                  <a:pt x="14390" y="13392"/>
                  <a:pt x="14527" y="13373"/>
                  <a:pt x="14585" y="13171"/>
                </a:cubicBezTo>
                <a:cubicBezTo>
                  <a:pt x="14607" y="13095"/>
                  <a:pt x="14579" y="12965"/>
                  <a:pt x="14486" y="12948"/>
                </a:cubicBezTo>
                <a:cubicBezTo>
                  <a:pt x="14461" y="12948"/>
                  <a:pt x="14437" y="12948"/>
                  <a:pt x="14412" y="12948"/>
                </a:cubicBezTo>
              </a:path>
              <a:path w="1440" h="1092">
                <a:moveTo>
                  <a:pt x="14833" y="12774"/>
                </a:moveTo>
                <a:cubicBezTo>
                  <a:pt x="14807" y="12700"/>
                  <a:pt x="14756" y="12814"/>
                  <a:pt x="14734" y="12849"/>
                </a:cubicBezTo>
                <a:cubicBezTo>
                  <a:pt x="14750" y="12861"/>
                  <a:pt x="14982" y="12910"/>
                  <a:pt x="14982" y="12799"/>
                </a:cubicBezTo>
                <a:cubicBezTo>
                  <a:pt x="14932" y="12774"/>
                  <a:pt x="14916" y="12766"/>
                  <a:pt x="14883" y="12750"/>
                </a:cubicBezTo>
              </a:path>
              <a:path w="1440" h="1092">
                <a:moveTo>
                  <a:pt x="15032" y="12477"/>
                </a:moveTo>
                <a:cubicBezTo>
                  <a:pt x="15232" y="12614"/>
                  <a:pt x="15344" y="12795"/>
                  <a:pt x="15379" y="13047"/>
                </a:cubicBezTo>
                <a:cubicBezTo>
                  <a:pt x="15415" y="13306"/>
                  <a:pt x="15316" y="13374"/>
                  <a:pt x="15180" y="13543"/>
                </a:cubicBezTo>
                <a:cubicBezTo>
                  <a:pt x="15180" y="13551"/>
                  <a:pt x="15180" y="13560"/>
                  <a:pt x="15180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6275520"/>
            <a:ext cx="74520" cy="74520"/>
          </a:xfrm>
          <a:custGeom>
            <a:avLst/>
            <a:gdLst/>
            <a:ahLst/>
            <a:rect l="l" t="t" r="r" b="b"/>
            <a:pathLst>
              <a:path w="1" h="1">
                <a:moveTo>
                  <a:pt x="3349" y="17636"/>
                </a:moveTo>
                <a:lnTo>
                  <a:pt x="3349" y="1763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HOMEWORK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99ff"/>
                </a:solidFill>
                <a:latin typeface="Arial"/>
              </a:rPr>
              <a:t>Fractions/Decimals/% Homework Workshe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1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write a decimal as a fraction read it aloud and write it as it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  .63 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.9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2.04 as a f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1523880"/>
          <a:ext cx="3715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371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568520" y="1095480"/>
                <a:ext cx="57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249960" y="1081080"/>
            <a:ext cx="1859040" cy="581040"/>
          </a:xfrm>
          <a:custGeom>
            <a:avLst/>
            <a:gdLst/>
            <a:ahLst/>
            <a:rect l="l" t="t" r="r" b="b"/>
            <a:pathLst>
              <a:path w="5161" h="1614">
                <a:moveTo>
                  <a:pt x="18455" y="3770"/>
                </a:moveTo>
                <a:cubicBezTo>
                  <a:pt x="18520" y="3770"/>
                  <a:pt x="18568" y="3752"/>
                  <a:pt x="18628" y="3746"/>
                </a:cubicBezTo>
                <a:cubicBezTo>
                  <a:pt x="18636" y="3746"/>
                  <a:pt x="18645" y="3746"/>
                  <a:pt x="18653" y="3746"/>
                </a:cubicBezTo>
              </a:path>
              <a:path w="5161" h="1614">
                <a:moveTo>
                  <a:pt x="18430" y="3894"/>
                </a:moveTo>
                <a:cubicBezTo>
                  <a:pt x="18529" y="3894"/>
                  <a:pt x="18629" y="3894"/>
                  <a:pt x="18728" y="3894"/>
                </a:cubicBezTo>
              </a:path>
              <a:path w="5161" h="1614">
                <a:moveTo>
                  <a:pt x="19224" y="3994"/>
                </a:moveTo>
                <a:cubicBezTo>
                  <a:pt x="19197" y="4177"/>
                  <a:pt x="19169" y="4358"/>
                  <a:pt x="19124" y="4539"/>
                </a:cubicBezTo>
                <a:cubicBezTo>
                  <a:pt x="19116" y="4564"/>
                  <a:pt x="19108" y="4589"/>
                  <a:pt x="19100" y="4614"/>
                </a:cubicBezTo>
              </a:path>
              <a:path w="5161" h="1614">
                <a:moveTo>
                  <a:pt x="19596" y="4043"/>
                </a:moveTo>
                <a:cubicBezTo>
                  <a:pt x="19528" y="4224"/>
                  <a:pt x="19461" y="4352"/>
                  <a:pt x="19472" y="4539"/>
                </a:cubicBezTo>
                <a:cubicBezTo>
                  <a:pt x="19593" y="4533"/>
                  <a:pt x="19998" y="4424"/>
                  <a:pt x="19819" y="4192"/>
                </a:cubicBezTo>
                <a:cubicBezTo>
                  <a:pt x="19706" y="4146"/>
                  <a:pt x="19676" y="4130"/>
                  <a:pt x="19596" y="4142"/>
                </a:cubicBezTo>
              </a:path>
              <a:path w="5161" h="1614">
                <a:moveTo>
                  <a:pt x="20141" y="4068"/>
                </a:moveTo>
                <a:cubicBezTo>
                  <a:pt x="20035" y="4272"/>
                  <a:pt x="20017" y="4294"/>
                  <a:pt x="20067" y="4514"/>
                </a:cubicBezTo>
                <a:cubicBezTo>
                  <a:pt x="20193" y="4521"/>
                  <a:pt x="20553" y="4458"/>
                  <a:pt x="20439" y="4217"/>
                </a:cubicBezTo>
                <a:cubicBezTo>
                  <a:pt x="20383" y="4098"/>
                  <a:pt x="20104" y="4072"/>
                  <a:pt x="19993" y="4043"/>
                </a:cubicBezTo>
              </a:path>
              <a:path w="5161" h="1614">
                <a:moveTo>
                  <a:pt x="19348" y="3795"/>
                </a:moveTo>
                <a:cubicBezTo>
                  <a:pt x="19580" y="3795"/>
                  <a:pt x="19811" y="3768"/>
                  <a:pt x="20042" y="3746"/>
                </a:cubicBezTo>
                <a:cubicBezTo>
                  <a:pt x="20227" y="3728"/>
                  <a:pt x="20403" y="3721"/>
                  <a:pt x="20588" y="3721"/>
                </a:cubicBezTo>
              </a:path>
              <a:path w="5161" h="1614">
                <a:moveTo>
                  <a:pt x="17388" y="3770"/>
                </a:moveTo>
                <a:cubicBezTo>
                  <a:pt x="17247" y="3770"/>
                  <a:pt x="17619" y="3803"/>
                  <a:pt x="17760" y="3795"/>
                </a:cubicBezTo>
                <a:cubicBezTo>
                  <a:pt x="17892" y="3776"/>
                  <a:pt x="17908" y="3768"/>
                  <a:pt x="17983" y="3770"/>
                </a:cubicBezTo>
              </a:path>
              <a:path w="5161" h="1614">
                <a:moveTo>
                  <a:pt x="17760" y="3944"/>
                </a:moveTo>
                <a:cubicBezTo>
                  <a:pt x="17716" y="4050"/>
                  <a:pt x="17661" y="4217"/>
                  <a:pt x="17661" y="4217"/>
                </a:cubicBezTo>
              </a:path>
              <a:path w="5161" h="1614">
                <a:moveTo>
                  <a:pt x="17686" y="3373"/>
                </a:moveTo>
                <a:cubicBezTo>
                  <a:pt x="17706" y="3442"/>
                  <a:pt x="17685" y="3493"/>
                  <a:pt x="17661" y="3572"/>
                </a:cubicBezTo>
                <a:cubicBezTo>
                  <a:pt x="17726" y="3555"/>
                  <a:pt x="17794" y="3533"/>
                  <a:pt x="17859" y="3522"/>
                </a:cubicBezTo>
              </a:path>
              <a:path w="5161" h="1614">
                <a:moveTo>
                  <a:pt x="17835" y="3324"/>
                </a:moveTo>
                <a:cubicBezTo>
                  <a:pt x="17802" y="3446"/>
                  <a:pt x="17773" y="3570"/>
                  <a:pt x="17760" y="3696"/>
                </a:cubicBezTo>
              </a:path>
              <a:path w="5161" h="1614">
                <a:moveTo>
                  <a:pt x="19348" y="3001"/>
                </a:moveTo>
                <a:cubicBezTo>
                  <a:pt x="19348" y="3150"/>
                  <a:pt x="19348" y="3299"/>
                  <a:pt x="19348" y="3448"/>
                </a:cubicBezTo>
              </a:path>
              <a:path w="5161" h="1614">
                <a:moveTo>
                  <a:pt x="19645" y="3026"/>
                </a:moveTo>
                <a:cubicBezTo>
                  <a:pt x="19794" y="3026"/>
                  <a:pt x="19956" y="3070"/>
                  <a:pt x="19993" y="3249"/>
                </a:cubicBezTo>
                <a:cubicBezTo>
                  <a:pt x="20029" y="3423"/>
                  <a:pt x="19791" y="3656"/>
                  <a:pt x="19621" y="3547"/>
                </a:cubicBezTo>
                <a:cubicBezTo>
                  <a:pt x="19604" y="3514"/>
                  <a:pt x="19588" y="3481"/>
                  <a:pt x="19571" y="3448"/>
                </a:cubicBezTo>
                <a:cubicBezTo>
                  <a:pt x="19647" y="3351"/>
                  <a:pt x="19757" y="3348"/>
                  <a:pt x="19869" y="3423"/>
                </a:cubicBezTo>
                <a:cubicBezTo>
                  <a:pt x="19938" y="3469"/>
                  <a:pt x="19959" y="3528"/>
                  <a:pt x="19993" y="3597"/>
                </a:cubicBezTo>
              </a:path>
              <a:path w="5161" h="1614">
                <a:moveTo>
                  <a:pt x="21059" y="3721"/>
                </a:moveTo>
                <a:cubicBezTo>
                  <a:pt x="21112" y="3689"/>
                  <a:pt x="21164" y="3686"/>
                  <a:pt x="21233" y="3671"/>
                </a:cubicBezTo>
              </a:path>
              <a:path w="5161" h="1614">
                <a:moveTo>
                  <a:pt x="21034" y="3870"/>
                </a:moveTo>
                <a:cubicBezTo>
                  <a:pt x="21100" y="3870"/>
                  <a:pt x="21167" y="3870"/>
                  <a:pt x="21233" y="3870"/>
                </a:cubicBezTo>
              </a:path>
              <a:path w="5161" h="1614">
                <a:moveTo>
                  <a:pt x="21903" y="3547"/>
                </a:moveTo>
                <a:cubicBezTo>
                  <a:pt x="21821" y="3711"/>
                  <a:pt x="21626" y="3880"/>
                  <a:pt x="21580" y="4068"/>
                </a:cubicBezTo>
                <a:cubicBezTo>
                  <a:pt x="21588" y="4101"/>
                  <a:pt x="21597" y="4134"/>
                  <a:pt x="21605" y="4167"/>
                </a:cubicBezTo>
                <a:cubicBezTo>
                  <a:pt x="21849" y="4190"/>
                  <a:pt x="22064" y="4127"/>
                  <a:pt x="22076" y="3820"/>
                </a:cubicBezTo>
                <a:cubicBezTo>
                  <a:pt x="22083" y="3634"/>
                  <a:pt x="21902" y="3608"/>
                  <a:pt x="21779" y="3646"/>
                </a:cubicBezTo>
              </a:path>
              <a:path w="5161" h="1614">
                <a:moveTo>
                  <a:pt x="22498" y="4018"/>
                </a:moveTo>
                <a:cubicBezTo>
                  <a:pt x="22498" y="4051"/>
                  <a:pt x="22498" y="4085"/>
                  <a:pt x="22498" y="4118"/>
                </a:cubicBezTo>
              </a:path>
              <a:path w="5161" h="1614">
                <a:moveTo>
                  <a:pt x="22523" y="4068"/>
                </a:moveTo>
                <a:cubicBezTo>
                  <a:pt x="22487" y="4068"/>
                  <a:pt x="22436" y="4073"/>
                  <a:pt x="22423" y="4118"/>
                </a:cubicBezTo>
                <a:cubicBezTo>
                  <a:pt x="22390" y="4233"/>
                  <a:pt x="22484" y="4111"/>
                  <a:pt x="22498" y="4068"/>
                </a:cubicBezTo>
                <a:cubicBezTo>
                  <a:pt x="22439" y="4108"/>
                  <a:pt x="22461" y="4093"/>
                  <a:pt x="22423" y="41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428840"/>
            <a:ext cx="81000" cy="36360"/>
          </a:xfrm>
          <a:custGeom>
            <a:avLst/>
            <a:gdLst/>
            <a:ahLst/>
            <a:rect l="l" t="t" r="r" b="b"/>
            <a:pathLst>
              <a:path w="224" h="100">
                <a:moveTo>
                  <a:pt x="17611" y="3969"/>
                </a:moveTo>
                <a:cubicBezTo>
                  <a:pt x="17591" y="4009"/>
                  <a:pt x="17583" y="4016"/>
                  <a:pt x="17587" y="4043"/>
                </a:cubicBezTo>
                <a:cubicBezTo>
                  <a:pt x="17703" y="4082"/>
                  <a:pt x="17736" y="4066"/>
                  <a:pt x="17810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22960" y="1035000"/>
            <a:ext cx="714240" cy="716040"/>
          </a:xfrm>
          <a:custGeom>
            <a:avLst/>
            <a:gdLst/>
            <a:ahLst/>
            <a:rect l="l" t="t" r="r" b="b"/>
            <a:pathLst>
              <a:path w="1985" h="1986">
                <a:moveTo>
                  <a:pt x="15652" y="3001"/>
                </a:moveTo>
                <a:cubicBezTo>
                  <a:pt x="15734" y="2969"/>
                  <a:pt x="15862" y="2800"/>
                  <a:pt x="15974" y="2877"/>
                </a:cubicBezTo>
                <a:cubicBezTo>
                  <a:pt x="16128" y="2982"/>
                  <a:pt x="15846" y="3182"/>
                  <a:pt x="15776" y="3225"/>
                </a:cubicBezTo>
                <a:cubicBezTo>
                  <a:pt x="15861" y="3225"/>
                  <a:pt x="15974" y="3266"/>
                  <a:pt x="15974" y="3373"/>
                </a:cubicBezTo>
                <a:cubicBezTo>
                  <a:pt x="15974" y="3611"/>
                  <a:pt x="15652" y="3593"/>
                  <a:pt x="15503" y="3572"/>
                </a:cubicBezTo>
                <a:cubicBezTo>
                  <a:pt x="15511" y="3572"/>
                  <a:pt x="15520" y="3572"/>
                  <a:pt x="15528" y="3572"/>
                </a:cubicBezTo>
              </a:path>
              <a:path w="1985" h="1986">
                <a:moveTo>
                  <a:pt x="15106" y="3795"/>
                </a:moveTo>
                <a:cubicBezTo>
                  <a:pt x="15422" y="3837"/>
                  <a:pt x="15731" y="3776"/>
                  <a:pt x="16049" y="3795"/>
                </a:cubicBezTo>
                <a:cubicBezTo>
                  <a:pt x="16140" y="3813"/>
                  <a:pt x="16147" y="3822"/>
                  <a:pt x="16197" y="3820"/>
                </a:cubicBezTo>
              </a:path>
              <a:path w="1985" h="1986">
                <a:moveTo>
                  <a:pt x="15032" y="4242"/>
                </a:moveTo>
                <a:cubicBezTo>
                  <a:pt x="15167" y="4135"/>
                  <a:pt x="15173" y="4182"/>
                  <a:pt x="15329" y="4242"/>
                </a:cubicBezTo>
                <a:cubicBezTo>
                  <a:pt x="15378" y="4547"/>
                  <a:pt x="15292" y="4736"/>
                  <a:pt x="14957" y="4837"/>
                </a:cubicBezTo>
                <a:cubicBezTo>
                  <a:pt x="14839" y="4837"/>
                  <a:pt x="14803" y="4865"/>
                  <a:pt x="14784" y="4787"/>
                </a:cubicBezTo>
                <a:cubicBezTo>
                  <a:pt x="14904" y="4682"/>
                  <a:pt x="15113" y="4533"/>
                  <a:pt x="15280" y="4688"/>
                </a:cubicBezTo>
                <a:cubicBezTo>
                  <a:pt x="15363" y="4765"/>
                  <a:pt x="15301" y="4837"/>
                  <a:pt x="15379" y="4837"/>
                </a:cubicBezTo>
              </a:path>
              <a:path w="1985" h="1986">
                <a:moveTo>
                  <a:pt x="15900" y="4142"/>
                </a:moveTo>
                <a:cubicBezTo>
                  <a:pt x="15849" y="4146"/>
                  <a:pt x="15662" y="4138"/>
                  <a:pt x="15627" y="4167"/>
                </a:cubicBezTo>
                <a:cubicBezTo>
                  <a:pt x="15610" y="4181"/>
                  <a:pt x="15583" y="4309"/>
                  <a:pt x="15577" y="4341"/>
                </a:cubicBezTo>
                <a:cubicBezTo>
                  <a:pt x="15705" y="4341"/>
                  <a:pt x="15867" y="4266"/>
                  <a:pt x="15974" y="4366"/>
                </a:cubicBezTo>
                <a:cubicBezTo>
                  <a:pt x="16181" y="4560"/>
                  <a:pt x="15808" y="4817"/>
                  <a:pt x="15627" y="4762"/>
                </a:cubicBezTo>
                <a:cubicBezTo>
                  <a:pt x="15602" y="4729"/>
                  <a:pt x="15578" y="4696"/>
                  <a:pt x="15553" y="4663"/>
                </a:cubicBezTo>
              </a:path>
              <a:path w="1985" h="1986">
                <a:moveTo>
                  <a:pt x="16644" y="3770"/>
                </a:moveTo>
                <a:cubicBezTo>
                  <a:pt x="16636" y="3770"/>
                  <a:pt x="16627" y="3770"/>
                  <a:pt x="16619" y="3770"/>
                </a:cubicBezTo>
                <a:cubicBezTo>
                  <a:pt x="16641" y="3815"/>
                  <a:pt x="16746" y="3886"/>
                  <a:pt x="16768" y="3919"/>
                </a:cubicBezTo>
                <a:cubicBezTo>
                  <a:pt x="16768" y="3927"/>
                  <a:pt x="16768" y="3936"/>
                  <a:pt x="16768" y="3944"/>
                </a:cubicBezTo>
              </a:path>
              <a:path w="1985" h="1986">
                <a:moveTo>
                  <a:pt x="16768" y="3746"/>
                </a:moveTo>
                <a:cubicBezTo>
                  <a:pt x="16768" y="3714"/>
                  <a:pt x="16701" y="3802"/>
                  <a:pt x="16669" y="3845"/>
                </a:cubicBezTo>
                <a:cubicBezTo>
                  <a:pt x="16642" y="3881"/>
                  <a:pt x="16627" y="3927"/>
                  <a:pt x="16619" y="39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51920" y="1214280"/>
            <a:ext cx="330120" cy="214560"/>
          </a:xfrm>
          <a:custGeom>
            <a:avLst/>
            <a:gdLst/>
            <a:ahLst/>
            <a:rect l="l" t="t" r="r" b="b"/>
            <a:pathLst>
              <a:path w="918" h="597">
                <a:moveTo>
                  <a:pt x="22920" y="3497"/>
                </a:moveTo>
                <a:cubicBezTo>
                  <a:pt x="22920" y="3649"/>
                  <a:pt x="22929" y="3794"/>
                  <a:pt x="22944" y="3944"/>
                </a:cubicBezTo>
                <a:cubicBezTo>
                  <a:pt x="22944" y="3952"/>
                  <a:pt x="22944" y="3961"/>
                  <a:pt x="22944" y="3969"/>
                </a:cubicBezTo>
              </a:path>
              <a:path w="918" h="597">
                <a:moveTo>
                  <a:pt x="23292" y="3473"/>
                </a:moveTo>
                <a:cubicBezTo>
                  <a:pt x="23345" y="3393"/>
                  <a:pt x="23459" y="3315"/>
                  <a:pt x="23564" y="3398"/>
                </a:cubicBezTo>
                <a:cubicBezTo>
                  <a:pt x="23728" y="3528"/>
                  <a:pt x="23512" y="3726"/>
                  <a:pt x="23440" y="3820"/>
                </a:cubicBezTo>
                <a:cubicBezTo>
                  <a:pt x="23377" y="3905"/>
                  <a:pt x="23364" y="3925"/>
                  <a:pt x="23316" y="3969"/>
                </a:cubicBezTo>
                <a:cubicBezTo>
                  <a:pt x="23420" y="3952"/>
                  <a:pt x="23507" y="3900"/>
                  <a:pt x="23614" y="3894"/>
                </a:cubicBezTo>
                <a:cubicBezTo>
                  <a:pt x="23714" y="3888"/>
                  <a:pt x="23750" y="3926"/>
                  <a:pt x="23837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04920" y="3867120"/>
            <a:ext cx="777960" cy="384120"/>
          </a:xfrm>
          <a:custGeom>
            <a:avLst/>
            <a:gdLst/>
            <a:ahLst/>
            <a:rect l="l" t="t" r="r" b="b"/>
            <a:pathLst>
              <a:path w="2159" h="1068">
                <a:moveTo>
                  <a:pt x="3373" y="11782"/>
                </a:moveTo>
                <a:cubicBezTo>
                  <a:pt x="3518" y="11782"/>
                  <a:pt x="3652" y="11796"/>
                  <a:pt x="3795" y="11807"/>
                </a:cubicBezTo>
                <a:cubicBezTo>
                  <a:pt x="3955" y="11819"/>
                  <a:pt x="4109" y="11795"/>
                  <a:pt x="4266" y="11782"/>
                </a:cubicBezTo>
                <a:cubicBezTo>
                  <a:pt x="4467" y="11765"/>
                  <a:pt x="4662" y="11793"/>
                  <a:pt x="4862" y="11757"/>
                </a:cubicBezTo>
                <a:cubicBezTo>
                  <a:pt x="5000" y="11732"/>
                  <a:pt x="5148" y="11712"/>
                  <a:pt x="5283" y="11683"/>
                </a:cubicBezTo>
                <a:cubicBezTo>
                  <a:pt x="5287" y="11682"/>
                  <a:pt x="5477" y="11631"/>
                  <a:pt x="5482" y="11658"/>
                </a:cubicBezTo>
                <a:cubicBezTo>
                  <a:pt x="5525" y="11658"/>
                  <a:pt x="5516" y="11664"/>
                  <a:pt x="5432" y="11683"/>
                </a:cubicBezTo>
                <a:cubicBezTo>
                  <a:pt x="5247" y="11683"/>
                  <a:pt x="5069" y="11669"/>
                  <a:pt x="4887" y="11658"/>
                </a:cubicBezTo>
                <a:cubicBezTo>
                  <a:pt x="4723" y="11648"/>
                  <a:pt x="4556" y="11618"/>
                  <a:pt x="4390" y="11633"/>
                </a:cubicBezTo>
                <a:cubicBezTo>
                  <a:pt x="4186" y="11652"/>
                  <a:pt x="3971" y="11678"/>
                  <a:pt x="3770" y="11708"/>
                </a:cubicBezTo>
                <a:cubicBezTo>
                  <a:pt x="3652" y="11725"/>
                  <a:pt x="3587" y="11721"/>
                  <a:pt x="3473" y="11708"/>
                </a:cubicBezTo>
                <a:cubicBezTo>
                  <a:pt x="3414" y="11708"/>
                  <a:pt x="3388" y="11711"/>
                  <a:pt x="3349" y="11733"/>
                </a:cubicBezTo>
                <a:cubicBezTo>
                  <a:pt x="3629" y="11733"/>
                  <a:pt x="3915" y="11720"/>
                  <a:pt x="4192" y="11683"/>
                </a:cubicBezTo>
                <a:cubicBezTo>
                  <a:pt x="4522" y="11639"/>
                  <a:pt x="4850" y="11624"/>
                  <a:pt x="5184" y="11609"/>
                </a:cubicBezTo>
                <a:cubicBezTo>
                  <a:pt x="5302" y="11609"/>
                  <a:pt x="5324" y="11623"/>
                  <a:pt x="5383" y="11584"/>
                </a:cubicBezTo>
              </a:path>
              <a:path w="2159" h="1068">
                <a:moveTo>
                  <a:pt x="3696" y="10740"/>
                </a:moveTo>
                <a:cubicBezTo>
                  <a:pt x="3569" y="10740"/>
                  <a:pt x="3551" y="10841"/>
                  <a:pt x="3522" y="10964"/>
                </a:cubicBezTo>
                <a:cubicBezTo>
                  <a:pt x="3481" y="11138"/>
                  <a:pt x="3468" y="11194"/>
                  <a:pt x="3572" y="11286"/>
                </a:cubicBezTo>
                <a:cubicBezTo>
                  <a:pt x="3723" y="11173"/>
                  <a:pt x="3861" y="11028"/>
                  <a:pt x="3746" y="10815"/>
                </a:cubicBezTo>
                <a:cubicBezTo>
                  <a:pt x="3720" y="10767"/>
                  <a:pt x="3614" y="10790"/>
                  <a:pt x="3572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759200"/>
            <a:ext cx="376200" cy="376200"/>
          </a:xfrm>
          <a:custGeom>
            <a:avLst/>
            <a:gdLst/>
            <a:ahLst/>
            <a:rect l="l" t="t" r="r" b="b"/>
            <a:pathLst>
              <a:path w="1043" h="1043">
                <a:moveTo>
                  <a:pt x="3274" y="14114"/>
                </a:moveTo>
                <a:cubicBezTo>
                  <a:pt x="3441" y="14114"/>
                  <a:pt x="3604" y="14083"/>
                  <a:pt x="3770" y="14064"/>
                </a:cubicBezTo>
                <a:cubicBezTo>
                  <a:pt x="3786" y="14062"/>
                  <a:pt x="4362" y="14077"/>
                  <a:pt x="4068" y="14064"/>
                </a:cubicBezTo>
                <a:cubicBezTo>
                  <a:pt x="3869" y="14055"/>
                  <a:pt x="3674" y="14039"/>
                  <a:pt x="3473" y="14039"/>
                </a:cubicBezTo>
                <a:cubicBezTo>
                  <a:pt x="3440" y="14041"/>
                  <a:pt x="3165" y="14080"/>
                  <a:pt x="3349" y="14064"/>
                </a:cubicBezTo>
                <a:cubicBezTo>
                  <a:pt x="3638" y="14040"/>
                  <a:pt x="3929" y="14019"/>
                  <a:pt x="4217" y="13990"/>
                </a:cubicBezTo>
                <a:cubicBezTo>
                  <a:pt x="4303" y="13981"/>
                  <a:pt x="4055" y="14012"/>
                  <a:pt x="3969" y="14015"/>
                </a:cubicBezTo>
                <a:cubicBezTo>
                  <a:pt x="3759" y="14015"/>
                  <a:pt x="3471" y="13967"/>
                  <a:pt x="3274" y="14039"/>
                </a:cubicBezTo>
                <a:cubicBezTo>
                  <a:pt x="3056" y="14118"/>
                  <a:pt x="3737" y="14064"/>
                  <a:pt x="3969" y="14064"/>
                </a:cubicBezTo>
                <a:cubicBezTo>
                  <a:pt x="4084" y="14064"/>
                  <a:pt x="4321" y="14071"/>
                  <a:pt x="3994" y="14114"/>
                </a:cubicBezTo>
                <a:cubicBezTo>
                  <a:pt x="3754" y="14146"/>
                  <a:pt x="3515" y="14139"/>
                  <a:pt x="3274" y="14139"/>
                </a:cubicBezTo>
                <a:cubicBezTo>
                  <a:pt x="3505" y="14139"/>
                  <a:pt x="3717" y="14101"/>
                  <a:pt x="3944" y="14064"/>
                </a:cubicBezTo>
                <a:cubicBezTo>
                  <a:pt x="4093" y="14040"/>
                  <a:pt x="4464" y="13974"/>
                  <a:pt x="3944" y="14039"/>
                </a:cubicBezTo>
                <a:cubicBezTo>
                  <a:pt x="3930" y="14041"/>
                  <a:pt x="3176" y="14167"/>
                  <a:pt x="3621" y="14114"/>
                </a:cubicBezTo>
                <a:cubicBezTo>
                  <a:pt x="3704" y="14106"/>
                  <a:pt x="3787" y="14097"/>
                  <a:pt x="3870" y="14089"/>
                </a:cubicBezTo>
              </a:path>
              <a:path w="1043" h="1043">
                <a:moveTo>
                  <a:pt x="3225" y="13246"/>
                </a:moveTo>
                <a:cubicBezTo>
                  <a:pt x="3225" y="13145"/>
                  <a:pt x="3184" y="13393"/>
                  <a:pt x="3175" y="13494"/>
                </a:cubicBezTo>
                <a:cubicBezTo>
                  <a:pt x="3167" y="13586"/>
                  <a:pt x="3165" y="13648"/>
                  <a:pt x="3225" y="13692"/>
                </a:cubicBezTo>
                <a:cubicBezTo>
                  <a:pt x="3319" y="13582"/>
                  <a:pt x="3479" y="13406"/>
                  <a:pt x="3373" y="13246"/>
                </a:cubicBezTo>
                <a:cubicBezTo>
                  <a:pt x="3338" y="13193"/>
                  <a:pt x="3215" y="13239"/>
                  <a:pt x="3175" y="13271"/>
                </a:cubicBezTo>
              </a:path>
              <a:path w="1043" h="1043">
                <a:moveTo>
                  <a:pt x="3175" y="14213"/>
                </a:moveTo>
                <a:cubicBezTo>
                  <a:pt x="3425" y="14213"/>
                  <a:pt x="3671" y="14224"/>
                  <a:pt x="3919" y="14238"/>
                </a:cubicBezTo>
                <a:cubicBezTo>
                  <a:pt x="4002" y="14243"/>
                  <a:pt x="4151" y="14238"/>
                  <a:pt x="4068" y="14238"/>
                </a:cubicBezTo>
                <a:cubicBezTo>
                  <a:pt x="3861" y="14259"/>
                  <a:pt x="3680" y="14259"/>
                  <a:pt x="3473" y="14238"/>
                </a:cubicBezTo>
                <a:cubicBezTo>
                  <a:pt x="3254" y="14238"/>
                  <a:pt x="3754" y="14201"/>
                  <a:pt x="3969" y="14163"/>
                </a:cubicBezTo>
                <a:cubicBezTo>
                  <a:pt x="4268" y="14110"/>
                  <a:pt x="4184" y="14102"/>
                  <a:pt x="3969" y="14163"/>
                </a:cubicBezTo>
                <a:cubicBezTo>
                  <a:pt x="3903" y="14188"/>
                  <a:pt x="3836" y="14213"/>
                  <a:pt x="3770" y="142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64000" y="3330720"/>
            <a:ext cx="706320" cy="617400"/>
          </a:xfrm>
          <a:custGeom>
            <a:avLst/>
            <a:gdLst/>
            <a:ahLst/>
            <a:rect l="l" t="t" r="r" b="b"/>
            <a:pathLst>
              <a:path w="1961" h="1713">
                <a:moveTo>
                  <a:pt x="13072" y="9376"/>
                </a:moveTo>
                <a:cubicBezTo>
                  <a:pt x="13020" y="9550"/>
                  <a:pt x="12882" y="9756"/>
                  <a:pt x="12898" y="9947"/>
                </a:cubicBezTo>
                <a:cubicBezTo>
                  <a:pt x="12915" y="9980"/>
                  <a:pt x="12931" y="10013"/>
                  <a:pt x="12948" y="10046"/>
                </a:cubicBezTo>
                <a:cubicBezTo>
                  <a:pt x="13204" y="10060"/>
                  <a:pt x="13253" y="9971"/>
                  <a:pt x="13370" y="9748"/>
                </a:cubicBezTo>
                <a:cubicBezTo>
                  <a:pt x="13292" y="9709"/>
                  <a:pt x="13116" y="9873"/>
                  <a:pt x="13146" y="9996"/>
                </a:cubicBezTo>
                <a:cubicBezTo>
                  <a:pt x="13171" y="10004"/>
                  <a:pt x="13196" y="10013"/>
                  <a:pt x="13221" y="10021"/>
                </a:cubicBezTo>
              </a:path>
              <a:path w="1961" h="1713">
                <a:moveTo>
                  <a:pt x="13543" y="9327"/>
                </a:moveTo>
                <a:cubicBezTo>
                  <a:pt x="13569" y="9275"/>
                  <a:pt x="13734" y="9199"/>
                  <a:pt x="13791" y="9277"/>
                </a:cubicBezTo>
                <a:cubicBezTo>
                  <a:pt x="13889" y="9411"/>
                  <a:pt x="13675" y="9509"/>
                  <a:pt x="13593" y="9525"/>
                </a:cubicBezTo>
                <a:cubicBezTo>
                  <a:pt x="13691" y="9499"/>
                  <a:pt x="14029" y="9503"/>
                  <a:pt x="13891" y="9723"/>
                </a:cubicBezTo>
                <a:cubicBezTo>
                  <a:pt x="13802" y="9865"/>
                  <a:pt x="13674" y="9855"/>
                  <a:pt x="13543" y="9847"/>
                </a:cubicBezTo>
              </a:path>
              <a:path w="1961" h="1713">
                <a:moveTo>
                  <a:pt x="12402" y="10220"/>
                </a:moveTo>
                <a:cubicBezTo>
                  <a:pt x="12818" y="10125"/>
                  <a:pt x="13242" y="10081"/>
                  <a:pt x="13667" y="10046"/>
                </a:cubicBezTo>
                <a:cubicBezTo>
                  <a:pt x="13905" y="10027"/>
                  <a:pt x="14126" y="10021"/>
                  <a:pt x="14362" y="10021"/>
                </a:cubicBezTo>
              </a:path>
              <a:path w="1961" h="1713">
                <a:moveTo>
                  <a:pt x="12675" y="10319"/>
                </a:moveTo>
                <a:cubicBezTo>
                  <a:pt x="12654" y="10528"/>
                  <a:pt x="12597" y="10693"/>
                  <a:pt x="12526" y="10889"/>
                </a:cubicBezTo>
                <a:cubicBezTo>
                  <a:pt x="12506" y="10950"/>
                  <a:pt x="12488" y="10986"/>
                  <a:pt x="12526" y="10939"/>
                </a:cubicBezTo>
              </a:path>
              <a:path w="1961" h="1713">
                <a:moveTo>
                  <a:pt x="13146" y="10344"/>
                </a:moveTo>
                <a:cubicBezTo>
                  <a:pt x="13064" y="10501"/>
                  <a:pt x="13021" y="10616"/>
                  <a:pt x="12998" y="10790"/>
                </a:cubicBezTo>
                <a:cubicBezTo>
                  <a:pt x="13149" y="10815"/>
                  <a:pt x="13383" y="10765"/>
                  <a:pt x="13320" y="10542"/>
                </a:cubicBezTo>
                <a:cubicBezTo>
                  <a:pt x="13246" y="10468"/>
                  <a:pt x="13222" y="10444"/>
                  <a:pt x="13146" y="10443"/>
                </a:cubicBezTo>
              </a:path>
              <a:path w="1961" h="1713">
                <a:moveTo>
                  <a:pt x="13791" y="10294"/>
                </a:moveTo>
                <a:cubicBezTo>
                  <a:pt x="13624" y="10449"/>
                  <a:pt x="13589" y="10565"/>
                  <a:pt x="13568" y="10790"/>
                </a:cubicBezTo>
                <a:cubicBezTo>
                  <a:pt x="13717" y="10801"/>
                  <a:pt x="13970" y="10701"/>
                  <a:pt x="13965" y="10492"/>
                </a:cubicBezTo>
                <a:cubicBezTo>
                  <a:pt x="13961" y="10319"/>
                  <a:pt x="13725" y="10385"/>
                  <a:pt x="13643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6240" y="4402080"/>
            <a:ext cx="536760" cy="546120"/>
          </a:xfrm>
          <a:custGeom>
            <a:avLst/>
            <a:gdLst/>
            <a:ahLst/>
            <a:rect l="l" t="t" r="r" b="b"/>
            <a:pathLst>
              <a:path w="1489" h="1514">
                <a:moveTo>
                  <a:pt x="12328" y="12477"/>
                </a:moveTo>
                <a:cubicBezTo>
                  <a:pt x="12328" y="12401"/>
                  <a:pt x="12331" y="12252"/>
                  <a:pt x="12229" y="12229"/>
                </a:cubicBezTo>
                <a:cubicBezTo>
                  <a:pt x="12029" y="12184"/>
                  <a:pt x="11967" y="12430"/>
                  <a:pt x="11906" y="12551"/>
                </a:cubicBezTo>
                <a:cubicBezTo>
                  <a:pt x="12085" y="12620"/>
                  <a:pt x="12152" y="12545"/>
                  <a:pt x="12254" y="12378"/>
                </a:cubicBezTo>
                <a:cubicBezTo>
                  <a:pt x="12262" y="12361"/>
                  <a:pt x="12270" y="12345"/>
                  <a:pt x="12278" y="12328"/>
                </a:cubicBezTo>
                <a:cubicBezTo>
                  <a:pt x="12278" y="12480"/>
                  <a:pt x="12280" y="12624"/>
                  <a:pt x="12254" y="12774"/>
                </a:cubicBezTo>
                <a:cubicBezTo>
                  <a:pt x="12246" y="12807"/>
                  <a:pt x="12237" y="12841"/>
                  <a:pt x="12229" y="12874"/>
                </a:cubicBezTo>
              </a:path>
              <a:path w="1489" h="1514">
                <a:moveTo>
                  <a:pt x="11435" y="13072"/>
                </a:moveTo>
                <a:cubicBezTo>
                  <a:pt x="11875" y="12994"/>
                  <a:pt x="12310" y="12900"/>
                  <a:pt x="12750" y="12824"/>
                </a:cubicBezTo>
                <a:cubicBezTo>
                  <a:pt x="12857" y="12806"/>
                  <a:pt x="12865" y="12798"/>
                  <a:pt x="12923" y="12799"/>
                </a:cubicBezTo>
              </a:path>
              <a:path w="1489" h="1514">
                <a:moveTo>
                  <a:pt x="11857" y="13072"/>
                </a:moveTo>
                <a:cubicBezTo>
                  <a:pt x="11818" y="13302"/>
                  <a:pt x="11775" y="13527"/>
                  <a:pt x="11683" y="13742"/>
                </a:cubicBezTo>
                <a:cubicBezTo>
                  <a:pt x="11683" y="13734"/>
                  <a:pt x="11683" y="13725"/>
                  <a:pt x="11683" y="13717"/>
                </a:cubicBezTo>
              </a:path>
              <a:path w="1489" h="1514">
                <a:moveTo>
                  <a:pt x="12328" y="13097"/>
                </a:moveTo>
                <a:cubicBezTo>
                  <a:pt x="12260" y="13273"/>
                  <a:pt x="12204" y="13392"/>
                  <a:pt x="12204" y="13568"/>
                </a:cubicBezTo>
                <a:cubicBezTo>
                  <a:pt x="12369" y="13529"/>
                  <a:pt x="12719" y="13350"/>
                  <a:pt x="12551" y="13097"/>
                </a:cubicBezTo>
                <a:cubicBezTo>
                  <a:pt x="12422" y="13045"/>
                  <a:pt x="12376" y="13028"/>
                  <a:pt x="12278" y="130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9240" y="5276880"/>
            <a:ext cx="1608120" cy="482400"/>
          </a:xfrm>
          <a:custGeom>
            <a:avLst/>
            <a:gdLst/>
            <a:ahLst/>
            <a:rect l="l" t="t" r="r" b="b"/>
            <a:pathLst>
              <a:path w="4466" h="1340">
                <a:moveTo>
                  <a:pt x="14610" y="14660"/>
                </a:moveTo>
                <a:lnTo>
                  <a:pt x="14610" y="14660"/>
                </a:lnTo>
              </a:path>
              <a:path w="4466" h="1340">
                <a:moveTo>
                  <a:pt x="14684" y="15106"/>
                </a:moveTo>
                <a:cubicBezTo>
                  <a:pt x="14676" y="15106"/>
                  <a:pt x="14668" y="15106"/>
                  <a:pt x="14660" y="15106"/>
                </a:cubicBezTo>
              </a:path>
              <a:path w="4466" h="1340">
                <a:moveTo>
                  <a:pt x="14932" y="15577"/>
                </a:moveTo>
                <a:lnTo>
                  <a:pt x="14932" y="15577"/>
                </a:lnTo>
              </a:path>
              <a:path w="4466" h="1340">
                <a:moveTo>
                  <a:pt x="14908" y="15999"/>
                </a:moveTo>
                <a:lnTo>
                  <a:pt x="14908" y="15999"/>
                </a:lnTo>
              </a:path>
              <a:path w="4466" h="1340">
                <a:moveTo>
                  <a:pt x="15974" y="15602"/>
                </a:moveTo>
                <a:cubicBezTo>
                  <a:pt x="16074" y="15596"/>
                  <a:pt x="16150" y="15582"/>
                  <a:pt x="16247" y="15553"/>
                </a:cubicBezTo>
              </a:path>
              <a:path w="4466" h="1340">
                <a:moveTo>
                  <a:pt x="19075" y="15404"/>
                </a:moveTo>
                <a:cubicBezTo>
                  <a:pt x="19067" y="15412"/>
                  <a:pt x="19058" y="15421"/>
                  <a:pt x="19050" y="15429"/>
                </a:cubicBezTo>
              </a:path>
              <a:path w="4466" h="1340">
                <a:moveTo>
                  <a:pt x="19050" y="15429"/>
                </a:moveTo>
                <a:lnTo>
                  <a:pt x="19050" y="15429"/>
                </a:lnTo>
              </a:path>
              <a:path w="4466" h="1340">
                <a:moveTo>
                  <a:pt x="19025" y="15776"/>
                </a:moveTo>
                <a:lnTo>
                  <a:pt x="19025" y="157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41880" y="5106960"/>
            <a:ext cx="2874960" cy="804960"/>
          </a:xfrm>
          <a:custGeom>
            <a:avLst/>
            <a:gdLst/>
            <a:ahLst/>
            <a:rect l="l" t="t" r="r" b="b"/>
            <a:pathLst>
              <a:path w="7988" h="2234">
                <a:moveTo>
                  <a:pt x="12204" y="15230"/>
                </a:moveTo>
                <a:cubicBezTo>
                  <a:pt x="12280" y="15192"/>
                  <a:pt x="12309" y="15155"/>
                  <a:pt x="12378" y="15106"/>
                </a:cubicBezTo>
                <a:cubicBezTo>
                  <a:pt x="12490" y="15026"/>
                  <a:pt x="12547" y="15013"/>
                  <a:pt x="12650" y="15106"/>
                </a:cubicBezTo>
                <a:cubicBezTo>
                  <a:pt x="12744" y="15191"/>
                  <a:pt x="12705" y="15308"/>
                  <a:pt x="12650" y="15404"/>
                </a:cubicBezTo>
                <a:cubicBezTo>
                  <a:pt x="12573" y="15540"/>
                  <a:pt x="12399" y="15630"/>
                  <a:pt x="12278" y="15726"/>
                </a:cubicBezTo>
                <a:cubicBezTo>
                  <a:pt x="12144" y="15832"/>
                  <a:pt x="11971" y="15950"/>
                  <a:pt x="11881" y="16098"/>
                </a:cubicBezTo>
                <a:cubicBezTo>
                  <a:pt x="11834" y="16176"/>
                  <a:pt x="11799" y="16285"/>
                  <a:pt x="11782" y="16371"/>
                </a:cubicBezTo>
                <a:cubicBezTo>
                  <a:pt x="11782" y="16471"/>
                  <a:pt x="11796" y="16325"/>
                  <a:pt x="11832" y="16272"/>
                </a:cubicBezTo>
                <a:cubicBezTo>
                  <a:pt x="11901" y="16171"/>
                  <a:pt x="12001" y="16064"/>
                  <a:pt x="12129" y="16049"/>
                </a:cubicBezTo>
                <a:cubicBezTo>
                  <a:pt x="12248" y="16035"/>
                  <a:pt x="12294" y="16179"/>
                  <a:pt x="12353" y="16247"/>
                </a:cubicBezTo>
                <a:cubicBezTo>
                  <a:pt x="12426" y="16331"/>
                  <a:pt x="12536" y="16305"/>
                  <a:pt x="12626" y="16297"/>
                </a:cubicBezTo>
                <a:cubicBezTo>
                  <a:pt x="12690" y="16292"/>
                  <a:pt x="12710" y="16255"/>
                  <a:pt x="12750" y="16222"/>
                </a:cubicBezTo>
              </a:path>
              <a:path w="7988" h="2234">
                <a:moveTo>
                  <a:pt x="13791" y="14759"/>
                </a:moveTo>
                <a:cubicBezTo>
                  <a:pt x="13857" y="14775"/>
                  <a:pt x="13880" y="14836"/>
                  <a:pt x="13866" y="14908"/>
                </a:cubicBezTo>
                <a:cubicBezTo>
                  <a:pt x="13844" y="14951"/>
                  <a:pt x="13840" y="14963"/>
                  <a:pt x="13816" y="14982"/>
                </a:cubicBezTo>
                <a:cubicBezTo>
                  <a:pt x="13928" y="14982"/>
                  <a:pt x="14029" y="14967"/>
                  <a:pt x="14139" y="14957"/>
                </a:cubicBezTo>
              </a:path>
              <a:path w="7988" h="2234">
                <a:moveTo>
                  <a:pt x="14114" y="14560"/>
                </a:moveTo>
                <a:cubicBezTo>
                  <a:pt x="14087" y="14745"/>
                  <a:pt x="14067" y="14916"/>
                  <a:pt x="14064" y="15106"/>
                </a:cubicBezTo>
                <a:cubicBezTo>
                  <a:pt x="14064" y="15240"/>
                  <a:pt x="14082" y="15263"/>
                  <a:pt x="14039" y="15329"/>
                </a:cubicBezTo>
              </a:path>
              <a:path w="7988" h="2234">
                <a:moveTo>
                  <a:pt x="13444" y="15553"/>
                </a:moveTo>
                <a:cubicBezTo>
                  <a:pt x="13759" y="15484"/>
                  <a:pt x="14068" y="15467"/>
                  <a:pt x="14387" y="15429"/>
                </a:cubicBezTo>
                <a:cubicBezTo>
                  <a:pt x="14475" y="15418"/>
                  <a:pt x="14549" y="15373"/>
                  <a:pt x="14585" y="15429"/>
                </a:cubicBezTo>
              </a:path>
              <a:path w="7988" h="2234">
                <a:moveTo>
                  <a:pt x="13494" y="15677"/>
                </a:moveTo>
                <a:cubicBezTo>
                  <a:pt x="13480" y="15851"/>
                  <a:pt x="13447" y="16030"/>
                  <a:pt x="13395" y="16197"/>
                </a:cubicBezTo>
                <a:cubicBezTo>
                  <a:pt x="13387" y="16214"/>
                  <a:pt x="13378" y="16230"/>
                  <a:pt x="13370" y="16247"/>
                </a:cubicBezTo>
              </a:path>
              <a:path w="7988" h="2234">
                <a:moveTo>
                  <a:pt x="13866" y="15726"/>
                </a:moveTo>
                <a:cubicBezTo>
                  <a:pt x="13771" y="15800"/>
                  <a:pt x="13623" y="15958"/>
                  <a:pt x="13643" y="16098"/>
                </a:cubicBezTo>
                <a:cubicBezTo>
                  <a:pt x="13659" y="16115"/>
                  <a:pt x="13676" y="16131"/>
                  <a:pt x="13692" y="16148"/>
                </a:cubicBezTo>
                <a:cubicBezTo>
                  <a:pt x="13849" y="16111"/>
                  <a:pt x="14015" y="16036"/>
                  <a:pt x="13965" y="15825"/>
                </a:cubicBezTo>
                <a:cubicBezTo>
                  <a:pt x="13918" y="15755"/>
                  <a:pt x="13906" y="15731"/>
                  <a:pt x="13841" y="15751"/>
                </a:cubicBezTo>
              </a:path>
              <a:path w="7988" h="2234">
                <a:moveTo>
                  <a:pt x="14337" y="15677"/>
                </a:moveTo>
                <a:cubicBezTo>
                  <a:pt x="14319" y="15784"/>
                  <a:pt x="14238" y="15889"/>
                  <a:pt x="14238" y="15999"/>
                </a:cubicBezTo>
                <a:cubicBezTo>
                  <a:pt x="14246" y="16024"/>
                  <a:pt x="14255" y="16048"/>
                  <a:pt x="14263" y="16073"/>
                </a:cubicBezTo>
                <a:cubicBezTo>
                  <a:pt x="14430" y="16087"/>
                  <a:pt x="14562" y="15997"/>
                  <a:pt x="14585" y="15801"/>
                </a:cubicBezTo>
                <a:cubicBezTo>
                  <a:pt x="14601" y="15668"/>
                  <a:pt x="14474" y="15630"/>
                  <a:pt x="14387" y="15652"/>
                </a:cubicBezTo>
              </a:path>
              <a:path w="7988" h="2234">
                <a:moveTo>
                  <a:pt x="14486" y="14908"/>
                </a:moveTo>
                <a:cubicBezTo>
                  <a:pt x="14575" y="14893"/>
                  <a:pt x="14646" y="14845"/>
                  <a:pt x="14734" y="14833"/>
                </a:cubicBezTo>
                <a:cubicBezTo>
                  <a:pt x="14742" y="14833"/>
                  <a:pt x="14751" y="14833"/>
                  <a:pt x="14759" y="14833"/>
                </a:cubicBezTo>
              </a:path>
              <a:path w="7988" h="2234">
                <a:moveTo>
                  <a:pt x="14734" y="15776"/>
                </a:moveTo>
                <a:cubicBezTo>
                  <a:pt x="14829" y="15776"/>
                  <a:pt x="14891" y="15804"/>
                  <a:pt x="14982" y="15825"/>
                </a:cubicBezTo>
                <a:cubicBezTo>
                  <a:pt x="15026" y="15835"/>
                  <a:pt x="15059" y="15850"/>
                  <a:pt x="15106" y="15850"/>
                </a:cubicBezTo>
              </a:path>
              <a:path w="7988" h="2234">
                <a:moveTo>
                  <a:pt x="15131" y="14560"/>
                </a:moveTo>
                <a:cubicBezTo>
                  <a:pt x="15080" y="14494"/>
                  <a:pt x="15143" y="14493"/>
                  <a:pt x="15205" y="14461"/>
                </a:cubicBezTo>
                <a:cubicBezTo>
                  <a:pt x="15278" y="14589"/>
                  <a:pt x="15259" y="14695"/>
                  <a:pt x="15156" y="14808"/>
                </a:cubicBezTo>
                <a:cubicBezTo>
                  <a:pt x="15139" y="14816"/>
                  <a:pt x="15123" y="14825"/>
                  <a:pt x="15106" y="14833"/>
                </a:cubicBezTo>
                <a:cubicBezTo>
                  <a:pt x="15207" y="14824"/>
                  <a:pt x="15281" y="14733"/>
                  <a:pt x="15379" y="14759"/>
                </a:cubicBezTo>
                <a:cubicBezTo>
                  <a:pt x="15379" y="14767"/>
                  <a:pt x="15379" y="14776"/>
                  <a:pt x="15379" y="14784"/>
                </a:cubicBezTo>
              </a:path>
              <a:path w="7988" h="2234">
                <a:moveTo>
                  <a:pt x="15404" y="15801"/>
                </a:moveTo>
                <a:cubicBezTo>
                  <a:pt x="15477" y="15776"/>
                  <a:pt x="15501" y="15768"/>
                  <a:pt x="15553" y="15776"/>
                </a:cubicBezTo>
                <a:cubicBezTo>
                  <a:pt x="15566" y="15927"/>
                  <a:pt x="15480" y="16044"/>
                  <a:pt x="15354" y="16148"/>
                </a:cubicBezTo>
                <a:cubicBezTo>
                  <a:pt x="15337" y="16156"/>
                  <a:pt x="15321" y="16165"/>
                  <a:pt x="15304" y="16173"/>
                </a:cubicBezTo>
                <a:cubicBezTo>
                  <a:pt x="15419" y="16173"/>
                  <a:pt x="15519" y="16139"/>
                  <a:pt x="15627" y="16098"/>
                </a:cubicBezTo>
                <a:cubicBezTo>
                  <a:pt x="15644" y="16090"/>
                  <a:pt x="15660" y="16081"/>
                  <a:pt x="15677" y="16073"/>
                </a:cubicBezTo>
              </a:path>
              <a:path w="7988" h="2234">
                <a:moveTo>
                  <a:pt x="15925" y="15354"/>
                </a:moveTo>
                <a:cubicBezTo>
                  <a:pt x="16011" y="15354"/>
                  <a:pt x="16103" y="15337"/>
                  <a:pt x="16173" y="15379"/>
                </a:cubicBezTo>
              </a:path>
              <a:path w="7988" h="2234">
                <a:moveTo>
                  <a:pt x="18281" y="14610"/>
                </a:moveTo>
                <a:cubicBezTo>
                  <a:pt x="18264" y="14593"/>
                  <a:pt x="18352" y="14555"/>
                  <a:pt x="18405" y="14511"/>
                </a:cubicBezTo>
                <a:cubicBezTo>
                  <a:pt x="18503" y="14672"/>
                  <a:pt x="18405" y="14729"/>
                  <a:pt x="18281" y="14858"/>
                </a:cubicBezTo>
                <a:cubicBezTo>
                  <a:pt x="18264" y="14875"/>
                  <a:pt x="18248" y="14891"/>
                  <a:pt x="18231" y="14908"/>
                </a:cubicBezTo>
                <a:cubicBezTo>
                  <a:pt x="18297" y="14899"/>
                  <a:pt x="18447" y="14846"/>
                  <a:pt x="18504" y="14858"/>
                </a:cubicBezTo>
                <a:cubicBezTo>
                  <a:pt x="18504" y="14866"/>
                  <a:pt x="18504" y="14875"/>
                  <a:pt x="18504" y="14883"/>
                </a:cubicBezTo>
              </a:path>
              <a:path w="7988" h="2234">
                <a:moveTo>
                  <a:pt x="18008" y="15156"/>
                </a:moveTo>
                <a:cubicBezTo>
                  <a:pt x="18271" y="15100"/>
                  <a:pt x="18538" y="15059"/>
                  <a:pt x="18802" y="15007"/>
                </a:cubicBezTo>
                <a:cubicBezTo>
                  <a:pt x="18884" y="14991"/>
                  <a:pt x="18942" y="14956"/>
                  <a:pt x="18976" y="15007"/>
                </a:cubicBezTo>
              </a:path>
              <a:path w="7988" h="2234">
                <a:moveTo>
                  <a:pt x="18306" y="15453"/>
                </a:moveTo>
                <a:cubicBezTo>
                  <a:pt x="18216" y="15453"/>
                  <a:pt x="18141" y="15482"/>
                  <a:pt x="18058" y="15503"/>
                </a:cubicBezTo>
                <a:cubicBezTo>
                  <a:pt x="18050" y="15503"/>
                  <a:pt x="18041" y="15503"/>
                  <a:pt x="18033" y="15503"/>
                </a:cubicBezTo>
                <a:cubicBezTo>
                  <a:pt x="18049" y="15583"/>
                  <a:pt x="18058" y="15646"/>
                  <a:pt x="18058" y="15726"/>
                </a:cubicBezTo>
                <a:cubicBezTo>
                  <a:pt x="18079" y="15694"/>
                  <a:pt x="18239" y="15667"/>
                  <a:pt x="18281" y="15726"/>
                </a:cubicBezTo>
                <a:cubicBezTo>
                  <a:pt x="18398" y="15890"/>
                  <a:pt x="18009" y="15898"/>
                  <a:pt x="17959" y="15900"/>
                </a:cubicBezTo>
                <a:cubicBezTo>
                  <a:pt x="17951" y="15900"/>
                  <a:pt x="17942" y="15900"/>
                  <a:pt x="17934" y="15900"/>
                </a:cubicBezTo>
              </a:path>
              <a:path w="7988" h="2234">
                <a:moveTo>
                  <a:pt x="18579" y="15478"/>
                </a:moveTo>
                <a:cubicBezTo>
                  <a:pt x="18479" y="15578"/>
                  <a:pt x="18449" y="15637"/>
                  <a:pt x="18430" y="15776"/>
                </a:cubicBezTo>
                <a:cubicBezTo>
                  <a:pt x="18519" y="15806"/>
                  <a:pt x="18681" y="15814"/>
                  <a:pt x="18703" y="15677"/>
                </a:cubicBezTo>
                <a:cubicBezTo>
                  <a:pt x="18713" y="15616"/>
                  <a:pt x="18642" y="15500"/>
                  <a:pt x="18604" y="15478"/>
                </a:cubicBezTo>
                <a:cubicBezTo>
                  <a:pt x="18596" y="15478"/>
                  <a:pt x="18587" y="15478"/>
                  <a:pt x="18579" y="15478"/>
                </a:cubicBezTo>
              </a:path>
              <a:path w="7988" h="2234">
                <a:moveTo>
                  <a:pt x="19149" y="14288"/>
                </a:moveTo>
                <a:cubicBezTo>
                  <a:pt x="19149" y="14222"/>
                  <a:pt x="19165" y="14222"/>
                  <a:pt x="19224" y="14188"/>
                </a:cubicBezTo>
                <a:cubicBezTo>
                  <a:pt x="19253" y="14330"/>
                  <a:pt x="19242" y="14422"/>
                  <a:pt x="19199" y="14560"/>
                </a:cubicBezTo>
                <a:cubicBezTo>
                  <a:pt x="19252" y="14542"/>
                  <a:pt x="19296" y="14499"/>
                  <a:pt x="19348" y="14486"/>
                </a:cubicBezTo>
              </a:path>
              <a:path w="7988" h="2234">
                <a:moveTo>
                  <a:pt x="18901" y="15627"/>
                </a:moveTo>
                <a:cubicBezTo>
                  <a:pt x="18983" y="15627"/>
                  <a:pt x="19055" y="15656"/>
                  <a:pt x="19124" y="15677"/>
                </a:cubicBezTo>
                <a:cubicBezTo>
                  <a:pt x="19149" y="15677"/>
                  <a:pt x="19157" y="15677"/>
                  <a:pt x="19149" y="15652"/>
                </a:cubicBezTo>
              </a:path>
              <a:path w="7988" h="2234">
                <a:moveTo>
                  <a:pt x="19571" y="15032"/>
                </a:moveTo>
                <a:cubicBezTo>
                  <a:pt x="19631" y="15032"/>
                  <a:pt x="19686" y="15015"/>
                  <a:pt x="19745" y="15007"/>
                </a:cubicBezTo>
              </a:path>
              <a:path w="7988" h="2234">
                <a:moveTo>
                  <a:pt x="19571" y="15156"/>
                </a:moveTo>
                <a:cubicBezTo>
                  <a:pt x="19640" y="15167"/>
                  <a:pt x="19697" y="15180"/>
                  <a:pt x="19769" y="15180"/>
                </a:cubicBezTo>
              </a:path>
              <a:path w="7988" h="2234">
                <a:moveTo>
                  <a:pt x="16768" y="14982"/>
                </a:moveTo>
                <a:cubicBezTo>
                  <a:pt x="16839" y="14881"/>
                  <a:pt x="16894" y="14801"/>
                  <a:pt x="17016" y="14734"/>
                </a:cubicBezTo>
                <a:cubicBezTo>
                  <a:pt x="17094" y="14708"/>
                  <a:pt x="17122" y="14702"/>
                  <a:pt x="17165" y="14759"/>
                </a:cubicBezTo>
                <a:cubicBezTo>
                  <a:pt x="17214" y="15017"/>
                  <a:pt x="17132" y="15263"/>
                  <a:pt x="16991" y="15503"/>
                </a:cubicBezTo>
                <a:cubicBezTo>
                  <a:pt x="16885" y="15684"/>
                  <a:pt x="16743" y="15911"/>
                  <a:pt x="16619" y="16073"/>
                </a:cubicBezTo>
                <a:cubicBezTo>
                  <a:pt x="16619" y="16065"/>
                  <a:pt x="16619" y="16057"/>
                  <a:pt x="16619" y="16049"/>
                </a:cubicBezTo>
                <a:cubicBezTo>
                  <a:pt x="16660" y="15948"/>
                  <a:pt x="16755" y="15715"/>
                  <a:pt x="16917" y="15751"/>
                </a:cubicBezTo>
                <a:cubicBezTo>
                  <a:pt x="17103" y="15792"/>
                  <a:pt x="17085" y="15999"/>
                  <a:pt x="17338" y="15949"/>
                </a:cubicBezTo>
                <a:cubicBezTo>
                  <a:pt x="17492" y="15918"/>
                  <a:pt x="17520" y="15848"/>
                  <a:pt x="17611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75680" y="5133960"/>
            <a:ext cx="876240" cy="527040"/>
          </a:xfrm>
          <a:custGeom>
            <a:avLst/>
            <a:gdLst/>
            <a:ahLst/>
            <a:rect l="l" t="t" r="r" b="b"/>
            <a:pathLst>
              <a:path w="2432" h="1464">
                <a:moveTo>
                  <a:pt x="22374" y="14288"/>
                </a:moveTo>
                <a:cubicBezTo>
                  <a:pt x="22374" y="14298"/>
                  <a:pt x="22436" y="14563"/>
                  <a:pt x="22448" y="14660"/>
                </a:cubicBezTo>
                <a:cubicBezTo>
                  <a:pt x="22453" y="14697"/>
                  <a:pt x="22448" y="14745"/>
                  <a:pt x="22448" y="14784"/>
                </a:cubicBezTo>
              </a:path>
              <a:path w="2432" h="1464">
                <a:moveTo>
                  <a:pt x="22051" y="14932"/>
                </a:moveTo>
                <a:cubicBezTo>
                  <a:pt x="22321" y="14877"/>
                  <a:pt x="22637" y="14863"/>
                  <a:pt x="22895" y="14784"/>
                </a:cubicBezTo>
                <a:cubicBezTo>
                  <a:pt x="22910" y="14780"/>
                  <a:pt x="22900" y="14725"/>
                  <a:pt x="22920" y="14784"/>
                </a:cubicBezTo>
              </a:path>
              <a:path w="2432" h="1464">
                <a:moveTo>
                  <a:pt x="20836" y="14560"/>
                </a:moveTo>
                <a:cubicBezTo>
                  <a:pt x="20784" y="14664"/>
                  <a:pt x="20793" y="14615"/>
                  <a:pt x="20836" y="14511"/>
                </a:cubicBezTo>
                <a:cubicBezTo>
                  <a:pt x="20882" y="14400"/>
                  <a:pt x="21033" y="14207"/>
                  <a:pt x="21183" y="14288"/>
                </a:cubicBezTo>
                <a:cubicBezTo>
                  <a:pt x="21333" y="14368"/>
                  <a:pt x="21226" y="14685"/>
                  <a:pt x="21183" y="14784"/>
                </a:cubicBezTo>
                <a:cubicBezTo>
                  <a:pt x="21087" y="15004"/>
                  <a:pt x="20900" y="15143"/>
                  <a:pt x="20762" y="15329"/>
                </a:cubicBezTo>
                <a:cubicBezTo>
                  <a:pt x="20675" y="15446"/>
                  <a:pt x="20594" y="15588"/>
                  <a:pt x="20513" y="15701"/>
                </a:cubicBezTo>
                <a:cubicBezTo>
                  <a:pt x="20505" y="15709"/>
                  <a:pt x="20497" y="15718"/>
                  <a:pt x="20489" y="15726"/>
                </a:cubicBezTo>
                <a:cubicBezTo>
                  <a:pt x="20558" y="15665"/>
                  <a:pt x="20584" y="15570"/>
                  <a:pt x="20662" y="15503"/>
                </a:cubicBezTo>
                <a:cubicBezTo>
                  <a:pt x="20793" y="15391"/>
                  <a:pt x="20972" y="15355"/>
                  <a:pt x="21059" y="15478"/>
                </a:cubicBezTo>
                <a:cubicBezTo>
                  <a:pt x="21127" y="15574"/>
                  <a:pt x="21196" y="15677"/>
                  <a:pt x="21332" y="15602"/>
                </a:cubicBezTo>
                <a:cubicBezTo>
                  <a:pt x="21416" y="15556"/>
                  <a:pt x="21444" y="15502"/>
                  <a:pt x="2150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1280" y="5796000"/>
            <a:ext cx="741600" cy="34920"/>
          </a:xfrm>
          <a:custGeom>
            <a:avLst/>
            <a:gdLst/>
            <a:ahLst/>
            <a:rect l="l" t="t" r="r" b="b"/>
            <a:pathLst>
              <a:path w="2060" h="100">
                <a:moveTo>
                  <a:pt x="3448" y="16173"/>
                </a:moveTo>
                <a:cubicBezTo>
                  <a:pt x="3588" y="16204"/>
                  <a:pt x="3725" y="16197"/>
                  <a:pt x="3870" y="16197"/>
                </a:cubicBezTo>
                <a:cubicBezTo>
                  <a:pt x="4112" y="16197"/>
                  <a:pt x="4349" y="16186"/>
                  <a:pt x="4589" y="16173"/>
                </a:cubicBezTo>
                <a:cubicBezTo>
                  <a:pt x="4764" y="16164"/>
                  <a:pt x="4934" y="16148"/>
                  <a:pt x="5110" y="16148"/>
                </a:cubicBezTo>
                <a:cubicBezTo>
                  <a:pt x="5220" y="16148"/>
                  <a:pt x="5322" y="16127"/>
                  <a:pt x="5432" y="16123"/>
                </a:cubicBezTo>
                <a:cubicBezTo>
                  <a:pt x="5474" y="16123"/>
                  <a:pt x="5482" y="16123"/>
                  <a:pt x="5507" y="16123"/>
                </a:cubicBezTo>
                <a:cubicBezTo>
                  <a:pt x="5366" y="16168"/>
                  <a:pt x="5219" y="16189"/>
                  <a:pt x="5060" y="16197"/>
                </a:cubicBezTo>
                <a:cubicBezTo>
                  <a:pt x="4885" y="16206"/>
                  <a:pt x="4687" y="16174"/>
                  <a:pt x="4514" y="16148"/>
                </a:cubicBezTo>
                <a:cubicBezTo>
                  <a:pt x="4351" y="16123"/>
                  <a:pt x="4187" y="16148"/>
                  <a:pt x="4018" y="16148"/>
                </a:cubicBezTo>
                <a:cubicBezTo>
                  <a:pt x="3911" y="16148"/>
                  <a:pt x="3803" y="16148"/>
                  <a:pt x="3696" y="16148"/>
                </a:cubicBezTo>
                <a:cubicBezTo>
                  <a:pt x="3641" y="16148"/>
                  <a:pt x="3572" y="16167"/>
                  <a:pt x="3621" y="16173"/>
                </a:cubicBezTo>
                <a:cubicBezTo>
                  <a:pt x="3885" y="16206"/>
                  <a:pt x="4176" y="16111"/>
                  <a:pt x="4440" y="16098"/>
                </a:cubicBezTo>
                <a:cubicBezTo>
                  <a:pt x="4652" y="16088"/>
                  <a:pt x="4910" y="16137"/>
                  <a:pt x="5110" y="16123"/>
                </a:cubicBezTo>
                <a:cubicBezTo>
                  <a:pt x="5169" y="16119"/>
                  <a:pt x="5176" y="16106"/>
                  <a:pt x="5234" y="16098"/>
                </a:cubicBezTo>
                <a:cubicBezTo>
                  <a:pt x="4976" y="16194"/>
                  <a:pt x="4741" y="16194"/>
                  <a:pt x="4465" y="16173"/>
                </a:cubicBezTo>
                <a:cubicBezTo>
                  <a:pt x="4208" y="16153"/>
                  <a:pt x="3999" y="16111"/>
                  <a:pt x="3746" y="16173"/>
                </a:cubicBezTo>
                <a:cubicBezTo>
                  <a:pt x="3684" y="16188"/>
                  <a:pt x="3674" y="16191"/>
                  <a:pt x="3621" y="161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59720" y="5170320"/>
            <a:ext cx="71280" cy="98640"/>
          </a:xfrm>
          <a:custGeom>
            <a:avLst/>
            <a:gdLst/>
            <a:ahLst/>
            <a:rect l="l" t="t" r="r" b="b"/>
            <a:pathLst>
              <a:path w="200" h="274">
                <a:moveTo>
                  <a:pt x="18777" y="14560"/>
                </a:moveTo>
                <a:cubicBezTo>
                  <a:pt x="18854" y="14535"/>
                  <a:pt x="18910" y="14469"/>
                  <a:pt x="18976" y="14436"/>
                </a:cubicBezTo>
              </a:path>
              <a:path w="200" h="274">
                <a:moveTo>
                  <a:pt x="18876" y="14362"/>
                </a:moveTo>
                <a:lnTo>
                  <a:pt x="18876" y="14362"/>
                </a:lnTo>
              </a:path>
              <a:path w="200" h="274">
                <a:moveTo>
                  <a:pt x="18951" y="14635"/>
                </a:moveTo>
                <a:lnTo>
                  <a:pt x="18951" y="1463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6920" y="5626080"/>
            <a:ext cx="117360" cy="98280"/>
          </a:xfrm>
          <a:custGeom>
            <a:avLst/>
            <a:gdLst/>
            <a:ahLst/>
            <a:rect l="l" t="t" r="r" b="b"/>
            <a:pathLst>
              <a:path w="324" h="274">
                <a:moveTo>
                  <a:pt x="19298" y="15677"/>
                </a:moveTo>
                <a:cubicBezTo>
                  <a:pt x="19312" y="15635"/>
                  <a:pt x="19345" y="15635"/>
                  <a:pt x="19397" y="15627"/>
                </a:cubicBezTo>
                <a:cubicBezTo>
                  <a:pt x="19388" y="15744"/>
                  <a:pt x="19374" y="15808"/>
                  <a:pt x="19298" y="15900"/>
                </a:cubicBezTo>
                <a:cubicBezTo>
                  <a:pt x="19397" y="15900"/>
                  <a:pt x="19480" y="15862"/>
                  <a:pt x="19571" y="15825"/>
                </a:cubicBezTo>
                <a:cubicBezTo>
                  <a:pt x="19588" y="15817"/>
                  <a:pt x="19604" y="15809"/>
                  <a:pt x="19621" y="158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5348160"/>
            <a:ext cx="347400" cy="260640"/>
          </a:xfrm>
          <a:custGeom>
            <a:avLst/>
            <a:gdLst/>
            <a:ahLst/>
            <a:rect l="l" t="t" r="r" b="b"/>
            <a:pathLst>
              <a:path w="968" h="720">
                <a:moveTo>
                  <a:pt x="22126" y="15205"/>
                </a:moveTo>
                <a:cubicBezTo>
                  <a:pt x="22185" y="15131"/>
                  <a:pt x="22248" y="15133"/>
                  <a:pt x="22349" y="15106"/>
                </a:cubicBezTo>
                <a:cubicBezTo>
                  <a:pt x="22422" y="15301"/>
                  <a:pt x="22283" y="15375"/>
                  <a:pt x="22151" y="15503"/>
                </a:cubicBezTo>
                <a:cubicBezTo>
                  <a:pt x="22134" y="15520"/>
                  <a:pt x="22118" y="15536"/>
                  <a:pt x="22101" y="15553"/>
                </a:cubicBezTo>
                <a:cubicBezTo>
                  <a:pt x="22213" y="15607"/>
                  <a:pt x="22358" y="15523"/>
                  <a:pt x="22473" y="15478"/>
                </a:cubicBezTo>
                <a:cubicBezTo>
                  <a:pt x="22490" y="15470"/>
                  <a:pt x="22506" y="15461"/>
                  <a:pt x="22523" y="15453"/>
                </a:cubicBezTo>
              </a:path>
              <a:path w="968" h="720">
                <a:moveTo>
                  <a:pt x="22944" y="14858"/>
                </a:moveTo>
                <a:cubicBezTo>
                  <a:pt x="22887" y="14864"/>
                  <a:pt x="22735" y="14875"/>
                  <a:pt x="22696" y="14908"/>
                </a:cubicBezTo>
                <a:cubicBezTo>
                  <a:pt x="22690" y="14913"/>
                  <a:pt x="22677" y="15118"/>
                  <a:pt x="22671" y="15156"/>
                </a:cubicBezTo>
                <a:cubicBezTo>
                  <a:pt x="22774" y="15189"/>
                  <a:pt x="22848" y="15079"/>
                  <a:pt x="22969" y="15106"/>
                </a:cubicBezTo>
                <a:cubicBezTo>
                  <a:pt x="23171" y="15151"/>
                  <a:pt x="23054" y="15381"/>
                  <a:pt x="22920" y="15429"/>
                </a:cubicBezTo>
                <a:cubicBezTo>
                  <a:pt x="22870" y="15437"/>
                  <a:pt x="22821" y="15445"/>
                  <a:pt x="22771" y="15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:  Students will convert decimals to fractions and perc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s a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97000" y="2463840"/>
            <a:ext cx="669960" cy="73080"/>
          </a:xfrm>
          <a:custGeom>
            <a:avLst/>
            <a:gdLst/>
            <a:ahLst/>
            <a:rect l="l" t="t" r="r" b="b"/>
            <a:pathLst>
              <a:path w="1861" h="200">
                <a:moveTo>
                  <a:pt x="3324" y="6995"/>
                </a:moveTo>
                <a:cubicBezTo>
                  <a:pt x="3427" y="6988"/>
                  <a:pt x="3516" y="6972"/>
                  <a:pt x="3621" y="6970"/>
                </a:cubicBezTo>
                <a:cubicBezTo>
                  <a:pt x="3883" y="6965"/>
                  <a:pt x="4130" y="6953"/>
                  <a:pt x="4390" y="6921"/>
                </a:cubicBezTo>
                <a:cubicBezTo>
                  <a:pt x="4564" y="6899"/>
                  <a:pt x="4740" y="6868"/>
                  <a:pt x="4911" y="6846"/>
                </a:cubicBezTo>
                <a:cubicBezTo>
                  <a:pt x="4994" y="6835"/>
                  <a:pt x="5120" y="6832"/>
                  <a:pt x="5184" y="6871"/>
                </a:cubicBezTo>
              </a:path>
              <a:path w="1861" h="200">
                <a:moveTo>
                  <a:pt x="3324" y="7020"/>
                </a:moveTo>
                <a:cubicBezTo>
                  <a:pt x="3443" y="7020"/>
                  <a:pt x="3554" y="7002"/>
                  <a:pt x="3671" y="6995"/>
                </a:cubicBezTo>
                <a:cubicBezTo>
                  <a:pt x="3872" y="6982"/>
                  <a:pt x="4067" y="7009"/>
                  <a:pt x="4266" y="7020"/>
                </a:cubicBezTo>
                <a:cubicBezTo>
                  <a:pt x="4514" y="7033"/>
                  <a:pt x="4769" y="7020"/>
                  <a:pt x="5011" y="6995"/>
                </a:cubicBezTo>
                <a:cubicBezTo>
                  <a:pt x="5077" y="6988"/>
                  <a:pt x="5101" y="7012"/>
                  <a:pt x="5159" y="7020"/>
                </a:cubicBezTo>
                <a:cubicBezTo>
                  <a:pt x="5008" y="7001"/>
                  <a:pt x="4867" y="6995"/>
                  <a:pt x="4713" y="6995"/>
                </a:cubicBezTo>
                <a:cubicBezTo>
                  <a:pt x="4443" y="6995"/>
                  <a:pt x="4187" y="7028"/>
                  <a:pt x="3919" y="7045"/>
                </a:cubicBezTo>
                <a:cubicBezTo>
                  <a:pt x="3835" y="7050"/>
                  <a:pt x="3802" y="7041"/>
                  <a:pt x="3721" y="70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97000" y="3375000"/>
            <a:ext cx="723960" cy="90360"/>
          </a:xfrm>
          <a:custGeom>
            <a:avLst/>
            <a:gdLst/>
            <a:ahLst/>
            <a:rect l="l" t="t" r="r" b="b"/>
            <a:pathLst>
              <a:path w="2010" h="249">
                <a:moveTo>
                  <a:pt x="3324" y="9624"/>
                </a:moveTo>
                <a:cubicBezTo>
                  <a:pt x="3410" y="9617"/>
                  <a:pt x="3485" y="9602"/>
                  <a:pt x="3572" y="9599"/>
                </a:cubicBezTo>
                <a:cubicBezTo>
                  <a:pt x="3716" y="9595"/>
                  <a:pt x="3852" y="9586"/>
                  <a:pt x="3994" y="9575"/>
                </a:cubicBezTo>
                <a:cubicBezTo>
                  <a:pt x="4121" y="9566"/>
                  <a:pt x="4241" y="9538"/>
                  <a:pt x="4366" y="9525"/>
                </a:cubicBezTo>
                <a:cubicBezTo>
                  <a:pt x="4485" y="9513"/>
                  <a:pt x="4596" y="9467"/>
                  <a:pt x="4713" y="9451"/>
                </a:cubicBezTo>
                <a:cubicBezTo>
                  <a:pt x="4830" y="9435"/>
                  <a:pt x="4940" y="9406"/>
                  <a:pt x="5060" y="9401"/>
                </a:cubicBezTo>
                <a:cubicBezTo>
                  <a:pt x="5113" y="9399"/>
                  <a:pt x="5157" y="9382"/>
                  <a:pt x="5209" y="9376"/>
                </a:cubicBezTo>
                <a:cubicBezTo>
                  <a:pt x="5261" y="9376"/>
                  <a:pt x="5279" y="9377"/>
                  <a:pt x="5308" y="9401"/>
                </a:cubicBezTo>
                <a:cubicBezTo>
                  <a:pt x="5217" y="9401"/>
                  <a:pt x="5176" y="9401"/>
                  <a:pt x="5085" y="9401"/>
                </a:cubicBezTo>
                <a:cubicBezTo>
                  <a:pt x="4851" y="9401"/>
                  <a:pt x="4621" y="9412"/>
                  <a:pt x="4390" y="9426"/>
                </a:cubicBezTo>
                <a:cubicBezTo>
                  <a:pt x="4219" y="9436"/>
                  <a:pt x="4040" y="9431"/>
                  <a:pt x="3870" y="9451"/>
                </a:cubicBezTo>
                <a:cubicBezTo>
                  <a:pt x="3758" y="9464"/>
                  <a:pt x="3679" y="9464"/>
                  <a:pt x="3572" y="9451"/>
                </a:cubicBezTo>
                <a:cubicBezTo>
                  <a:pt x="3508" y="9443"/>
                  <a:pt x="3438" y="9451"/>
                  <a:pt x="3373" y="94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87720" y="1982880"/>
            <a:ext cx="893520" cy="714240"/>
          </a:xfrm>
          <a:custGeom>
            <a:avLst/>
            <a:gdLst/>
            <a:ahLst/>
            <a:rect l="l" t="t" r="r" b="b"/>
            <a:pathLst>
              <a:path w="2482" h="1985">
                <a:moveTo>
                  <a:pt x="7169" y="6102"/>
                </a:moveTo>
                <a:cubicBezTo>
                  <a:pt x="7146" y="6170"/>
                  <a:pt x="7123" y="6235"/>
                  <a:pt x="7094" y="6300"/>
                </a:cubicBezTo>
                <a:cubicBezTo>
                  <a:pt x="7204" y="6287"/>
                  <a:pt x="7311" y="6276"/>
                  <a:pt x="7417" y="6251"/>
                </a:cubicBezTo>
              </a:path>
              <a:path w="2482" h="1985">
                <a:moveTo>
                  <a:pt x="7392" y="6028"/>
                </a:moveTo>
                <a:cubicBezTo>
                  <a:pt x="7362" y="6177"/>
                  <a:pt x="7289" y="6328"/>
                  <a:pt x="7243" y="6474"/>
                </a:cubicBezTo>
                <a:cubicBezTo>
                  <a:pt x="7224" y="6548"/>
                  <a:pt x="7216" y="6555"/>
                  <a:pt x="7218" y="6598"/>
                </a:cubicBezTo>
              </a:path>
              <a:path w="2482" h="1985">
                <a:moveTo>
                  <a:pt x="7615" y="6127"/>
                </a:moveTo>
                <a:cubicBezTo>
                  <a:pt x="7566" y="6111"/>
                  <a:pt x="7587" y="6058"/>
                  <a:pt x="7640" y="6028"/>
                </a:cubicBezTo>
                <a:cubicBezTo>
                  <a:pt x="7665" y="6020"/>
                  <a:pt x="7689" y="6011"/>
                  <a:pt x="7714" y="6003"/>
                </a:cubicBezTo>
                <a:cubicBezTo>
                  <a:pt x="7806" y="6141"/>
                  <a:pt x="7744" y="6164"/>
                  <a:pt x="7640" y="6251"/>
                </a:cubicBezTo>
                <a:cubicBezTo>
                  <a:pt x="7632" y="6259"/>
                  <a:pt x="7623" y="6268"/>
                  <a:pt x="7615" y="6276"/>
                </a:cubicBezTo>
                <a:cubicBezTo>
                  <a:pt x="7661" y="6241"/>
                  <a:pt x="7789" y="6228"/>
                  <a:pt x="7789" y="6350"/>
                </a:cubicBezTo>
                <a:cubicBezTo>
                  <a:pt x="7789" y="6493"/>
                  <a:pt x="7680" y="6524"/>
                  <a:pt x="7565" y="6524"/>
                </a:cubicBezTo>
                <a:cubicBezTo>
                  <a:pt x="7557" y="6524"/>
                  <a:pt x="7549" y="6524"/>
                  <a:pt x="7541" y="6524"/>
                </a:cubicBezTo>
              </a:path>
              <a:path w="2482" h="1985">
                <a:moveTo>
                  <a:pt x="6697" y="6821"/>
                </a:moveTo>
                <a:cubicBezTo>
                  <a:pt x="7078" y="6772"/>
                  <a:pt x="7459" y="6714"/>
                  <a:pt x="7838" y="6648"/>
                </a:cubicBezTo>
                <a:cubicBezTo>
                  <a:pt x="8017" y="6617"/>
                  <a:pt x="8181" y="6587"/>
                  <a:pt x="8359" y="6573"/>
                </a:cubicBezTo>
                <a:cubicBezTo>
                  <a:pt x="8351" y="6573"/>
                  <a:pt x="8342" y="6573"/>
                  <a:pt x="8334" y="6573"/>
                </a:cubicBezTo>
              </a:path>
              <a:path w="2482" h="1985">
                <a:moveTo>
                  <a:pt x="6871" y="6945"/>
                </a:moveTo>
                <a:cubicBezTo>
                  <a:pt x="6871" y="6862"/>
                  <a:pt x="6810" y="7045"/>
                  <a:pt x="6772" y="7119"/>
                </a:cubicBezTo>
                <a:cubicBezTo>
                  <a:pt x="6710" y="7242"/>
                  <a:pt x="6695" y="7263"/>
                  <a:pt x="6672" y="7342"/>
                </a:cubicBezTo>
              </a:path>
              <a:path w="2482" h="1985">
                <a:moveTo>
                  <a:pt x="7342" y="7020"/>
                </a:moveTo>
                <a:cubicBezTo>
                  <a:pt x="7238" y="6978"/>
                  <a:pt x="7131" y="7135"/>
                  <a:pt x="7069" y="7218"/>
                </a:cubicBezTo>
                <a:cubicBezTo>
                  <a:pt x="7061" y="7235"/>
                  <a:pt x="7053" y="7251"/>
                  <a:pt x="7045" y="7268"/>
                </a:cubicBezTo>
                <a:cubicBezTo>
                  <a:pt x="7212" y="7332"/>
                  <a:pt x="7351" y="7248"/>
                  <a:pt x="7441" y="7069"/>
                </a:cubicBezTo>
                <a:cubicBezTo>
                  <a:pt x="7493" y="6965"/>
                  <a:pt x="7373" y="6970"/>
                  <a:pt x="7317" y="6970"/>
                </a:cubicBezTo>
              </a:path>
              <a:path w="2482" h="1985">
                <a:moveTo>
                  <a:pt x="7813" y="6846"/>
                </a:moveTo>
                <a:cubicBezTo>
                  <a:pt x="7699" y="6846"/>
                  <a:pt x="7657" y="6916"/>
                  <a:pt x="7615" y="7020"/>
                </a:cubicBezTo>
                <a:cubicBezTo>
                  <a:pt x="7592" y="7110"/>
                  <a:pt x="7584" y="7134"/>
                  <a:pt x="7590" y="7193"/>
                </a:cubicBezTo>
                <a:cubicBezTo>
                  <a:pt x="7725" y="7251"/>
                  <a:pt x="7831" y="7194"/>
                  <a:pt x="7913" y="7069"/>
                </a:cubicBezTo>
                <a:cubicBezTo>
                  <a:pt x="7963" y="6993"/>
                  <a:pt x="7906" y="6883"/>
                  <a:pt x="7813" y="6921"/>
                </a:cubicBezTo>
                <a:cubicBezTo>
                  <a:pt x="7805" y="6929"/>
                  <a:pt x="7797" y="6937"/>
                  <a:pt x="7789" y="6945"/>
                </a:cubicBezTo>
              </a:path>
              <a:path w="2482" h="1985">
                <a:moveTo>
                  <a:pt x="8409" y="5779"/>
                </a:moveTo>
                <a:cubicBezTo>
                  <a:pt x="8329" y="5715"/>
                  <a:pt x="8280" y="5681"/>
                  <a:pt x="8186" y="5631"/>
                </a:cubicBezTo>
                <a:cubicBezTo>
                  <a:pt x="8035" y="5552"/>
                  <a:pt x="7810" y="5546"/>
                  <a:pt x="7640" y="5556"/>
                </a:cubicBezTo>
                <a:cubicBezTo>
                  <a:pt x="7365" y="5571"/>
                  <a:pt x="7069" y="5600"/>
                  <a:pt x="6821" y="5730"/>
                </a:cubicBezTo>
                <a:cubicBezTo>
                  <a:pt x="6582" y="5856"/>
                  <a:pt x="6426" y="6060"/>
                  <a:pt x="6276" y="6276"/>
                </a:cubicBezTo>
                <a:cubicBezTo>
                  <a:pt x="6150" y="6457"/>
                  <a:pt x="6041" y="6742"/>
                  <a:pt x="6077" y="6970"/>
                </a:cubicBezTo>
                <a:cubicBezTo>
                  <a:pt x="6102" y="7129"/>
                  <a:pt x="6262" y="7301"/>
                  <a:pt x="6400" y="7367"/>
                </a:cubicBezTo>
                <a:cubicBezTo>
                  <a:pt x="6695" y="7509"/>
                  <a:pt x="7028" y="7505"/>
                  <a:pt x="7342" y="7441"/>
                </a:cubicBezTo>
                <a:cubicBezTo>
                  <a:pt x="7566" y="7395"/>
                  <a:pt x="7783" y="7351"/>
                  <a:pt x="7987" y="7243"/>
                </a:cubicBezTo>
                <a:cubicBezTo>
                  <a:pt x="8187" y="7137"/>
                  <a:pt x="8377" y="7003"/>
                  <a:pt x="8483" y="6796"/>
                </a:cubicBezTo>
                <a:cubicBezTo>
                  <a:pt x="8571" y="6624"/>
                  <a:pt x="8578" y="6388"/>
                  <a:pt x="8558" y="6201"/>
                </a:cubicBezTo>
                <a:cubicBezTo>
                  <a:pt x="8537" y="6009"/>
                  <a:pt x="8466" y="5863"/>
                  <a:pt x="8359" y="5705"/>
                </a:cubicBezTo>
                <a:cubicBezTo>
                  <a:pt x="8260" y="5559"/>
                  <a:pt x="8190" y="5493"/>
                  <a:pt x="8037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28960" y="3017880"/>
            <a:ext cx="160200" cy="474480"/>
          </a:xfrm>
          <a:custGeom>
            <a:avLst/>
            <a:gdLst/>
            <a:ahLst/>
            <a:rect l="l" t="t" r="r" b="b"/>
            <a:pathLst>
              <a:path w="447" h="1316">
                <a:moveTo>
                  <a:pt x="8136" y="8384"/>
                </a:moveTo>
                <a:cubicBezTo>
                  <a:pt x="8136" y="8392"/>
                  <a:pt x="8136" y="8401"/>
                  <a:pt x="8136" y="8409"/>
                </a:cubicBezTo>
              </a:path>
              <a:path w="447" h="1316">
                <a:moveTo>
                  <a:pt x="8210" y="8682"/>
                </a:moveTo>
                <a:lnTo>
                  <a:pt x="8210" y="8682"/>
                </a:lnTo>
                <a:lnTo>
                  <a:pt x="8210" y="8682"/>
                </a:lnTo>
              </a:path>
              <a:path w="447" h="1316">
                <a:moveTo>
                  <a:pt x="8210" y="8682"/>
                </a:moveTo>
                <a:lnTo>
                  <a:pt x="8210" y="8682"/>
                </a:lnTo>
              </a:path>
              <a:path w="447" h="1316">
                <a:moveTo>
                  <a:pt x="8434" y="9475"/>
                </a:moveTo>
                <a:cubicBezTo>
                  <a:pt x="8485" y="9515"/>
                  <a:pt x="8540" y="9561"/>
                  <a:pt x="8582" y="9575"/>
                </a:cubicBezTo>
              </a:path>
              <a:path w="447" h="1316">
                <a:moveTo>
                  <a:pt x="8558" y="9327"/>
                </a:moveTo>
                <a:cubicBezTo>
                  <a:pt x="8558" y="9343"/>
                  <a:pt x="8558" y="9360"/>
                  <a:pt x="8558" y="9376"/>
                </a:cubicBezTo>
              </a:path>
              <a:path w="447" h="1316">
                <a:moveTo>
                  <a:pt x="8508" y="9699"/>
                </a:moveTo>
                <a:lnTo>
                  <a:pt x="8508" y="9699"/>
                </a:lnTo>
                <a:lnTo>
                  <a:pt x="8508" y="9699"/>
                </a:lnTo>
                <a:lnTo>
                  <a:pt x="8508" y="969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9200" y="2759040"/>
            <a:ext cx="1955880" cy="849240"/>
          </a:xfrm>
          <a:custGeom>
            <a:avLst/>
            <a:gdLst/>
            <a:ahLst/>
            <a:rect l="l" t="t" r="r" b="b"/>
            <a:pathLst>
              <a:path w="5433" h="2357">
                <a:moveTo>
                  <a:pt x="6722" y="8830"/>
                </a:moveTo>
                <a:cubicBezTo>
                  <a:pt x="6756" y="8998"/>
                  <a:pt x="6765" y="9199"/>
                  <a:pt x="6772" y="9376"/>
                </a:cubicBezTo>
                <a:cubicBezTo>
                  <a:pt x="6777" y="9517"/>
                  <a:pt x="6747" y="9637"/>
                  <a:pt x="6747" y="9773"/>
                </a:cubicBezTo>
              </a:path>
              <a:path w="5433" h="2357">
                <a:moveTo>
                  <a:pt x="7590" y="8409"/>
                </a:moveTo>
                <a:cubicBezTo>
                  <a:pt x="7686" y="8395"/>
                  <a:pt x="7782" y="8336"/>
                  <a:pt x="7838" y="8434"/>
                </a:cubicBezTo>
                <a:cubicBezTo>
                  <a:pt x="7933" y="8598"/>
                  <a:pt x="7688" y="8707"/>
                  <a:pt x="7590" y="8781"/>
                </a:cubicBezTo>
                <a:cubicBezTo>
                  <a:pt x="7582" y="8789"/>
                  <a:pt x="7573" y="8798"/>
                  <a:pt x="7565" y="8806"/>
                </a:cubicBezTo>
                <a:cubicBezTo>
                  <a:pt x="7693" y="8806"/>
                  <a:pt x="7813" y="8772"/>
                  <a:pt x="7938" y="8756"/>
                </a:cubicBezTo>
                <a:cubicBezTo>
                  <a:pt x="8008" y="8747"/>
                  <a:pt x="7987" y="8773"/>
                  <a:pt x="7987" y="8830"/>
                </a:cubicBezTo>
              </a:path>
              <a:path w="5433" h="2357">
                <a:moveTo>
                  <a:pt x="7243" y="9153"/>
                </a:moveTo>
                <a:cubicBezTo>
                  <a:pt x="7384" y="9118"/>
                  <a:pt x="7560" y="9064"/>
                  <a:pt x="7714" y="9054"/>
                </a:cubicBezTo>
                <a:cubicBezTo>
                  <a:pt x="7984" y="9036"/>
                  <a:pt x="8262" y="9029"/>
                  <a:pt x="8533" y="9029"/>
                </a:cubicBezTo>
                <a:cubicBezTo>
                  <a:pt x="8541" y="9029"/>
                  <a:pt x="8550" y="9029"/>
                  <a:pt x="8558" y="9029"/>
                </a:cubicBezTo>
              </a:path>
              <a:path w="5433" h="2357">
                <a:moveTo>
                  <a:pt x="7293" y="9401"/>
                </a:moveTo>
                <a:cubicBezTo>
                  <a:pt x="7277" y="9543"/>
                  <a:pt x="7262" y="9683"/>
                  <a:pt x="7243" y="9823"/>
                </a:cubicBezTo>
                <a:cubicBezTo>
                  <a:pt x="7243" y="9857"/>
                  <a:pt x="7252" y="9861"/>
                  <a:pt x="7293" y="9823"/>
                </a:cubicBezTo>
              </a:path>
              <a:path w="5433" h="2357">
                <a:moveTo>
                  <a:pt x="7739" y="9376"/>
                </a:moveTo>
                <a:cubicBezTo>
                  <a:pt x="7629" y="9523"/>
                  <a:pt x="7580" y="9622"/>
                  <a:pt x="7590" y="9798"/>
                </a:cubicBezTo>
                <a:cubicBezTo>
                  <a:pt x="7750" y="9770"/>
                  <a:pt x="7971" y="9678"/>
                  <a:pt x="7888" y="9451"/>
                </a:cubicBezTo>
                <a:cubicBezTo>
                  <a:pt x="7860" y="9375"/>
                  <a:pt x="7742" y="9401"/>
                  <a:pt x="7689" y="9401"/>
                </a:cubicBezTo>
              </a:path>
              <a:path w="5433" h="2357">
                <a:moveTo>
                  <a:pt x="8136" y="9327"/>
                </a:moveTo>
                <a:cubicBezTo>
                  <a:pt x="8030" y="9398"/>
                  <a:pt x="7923" y="9577"/>
                  <a:pt x="7938" y="9723"/>
                </a:cubicBezTo>
                <a:cubicBezTo>
                  <a:pt x="7954" y="9748"/>
                  <a:pt x="7971" y="9773"/>
                  <a:pt x="7987" y="9798"/>
                </a:cubicBezTo>
                <a:cubicBezTo>
                  <a:pt x="8108" y="9757"/>
                  <a:pt x="8555" y="9571"/>
                  <a:pt x="8285" y="9376"/>
                </a:cubicBezTo>
                <a:cubicBezTo>
                  <a:pt x="8235" y="9368"/>
                  <a:pt x="8186" y="9359"/>
                  <a:pt x="8136" y="9351"/>
                </a:cubicBezTo>
              </a:path>
              <a:path w="5433" h="2357">
                <a:moveTo>
                  <a:pt x="9004" y="9029"/>
                </a:moveTo>
                <a:cubicBezTo>
                  <a:pt x="9036" y="8997"/>
                  <a:pt x="9205" y="8985"/>
                  <a:pt x="9277" y="8979"/>
                </a:cubicBezTo>
                <a:cubicBezTo>
                  <a:pt x="9351" y="8979"/>
                  <a:pt x="9360" y="8979"/>
                  <a:pt x="9401" y="8979"/>
                </a:cubicBezTo>
              </a:path>
              <a:path w="5433" h="2357">
                <a:moveTo>
                  <a:pt x="9004" y="9178"/>
                </a:moveTo>
                <a:cubicBezTo>
                  <a:pt x="8996" y="9186"/>
                  <a:pt x="8987" y="9195"/>
                  <a:pt x="8979" y="9203"/>
                </a:cubicBezTo>
                <a:cubicBezTo>
                  <a:pt x="9091" y="9203"/>
                  <a:pt x="9192" y="9203"/>
                  <a:pt x="9302" y="9178"/>
                </a:cubicBezTo>
                <a:cubicBezTo>
                  <a:pt x="9359" y="9159"/>
                  <a:pt x="9366" y="9150"/>
                  <a:pt x="9401" y="9153"/>
                </a:cubicBezTo>
              </a:path>
              <a:path w="5433" h="2357">
                <a:moveTo>
                  <a:pt x="10170" y="8682"/>
                </a:moveTo>
                <a:cubicBezTo>
                  <a:pt x="10218" y="8871"/>
                  <a:pt x="10170" y="9214"/>
                  <a:pt x="10170" y="9426"/>
                </a:cubicBezTo>
                <a:cubicBezTo>
                  <a:pt x="10170" y="9454"/>
                  <a:pt x="10137" y="9705"/>
                  <a:pt x="10195" y="9723"/>
                </a:cubicBezTo>
              </a:path>
              <a:path w="5433" h="2357">
                <a:moveTo>
                  <a:pt x="8062" y="8533"/>
                </a:moveTo>
                <a:cubicBezTo>
                  <a:pt x="8124" y="8520"/>
                  <a:pt x="8183" y="8493"/>
                  <a:pt x="8235" y="8458"/>
                </a:cubicBezTo>
              </a:path>
              <a:path w="5433" h="2357">
                <a:moveTo>
                  <a:pt x="8384" y="8334"/>
                </a:moveTo>
                <a:cubicBezTo>
                  <a:pt x="8442" y="8278"/>
                  <a:pt x="8469" y="8259"/>
                  <a:pt x="8533" y="8260"/>
                </a:cubicBezTo>
                <a:cubicBezTo>
                  <a:pt x="8588" y="8369"/>
                  <a:pt x="8505" y="8449"/>
                  <a:pt x="8458" y="8558"/>
                </a:cubicBezTo>
                <a:cubicBezTo>
                  <a:pt x="8552" y="8549"/>
                  <a:pt x="8639" y="8530"/>
                  <a:pt x="8731" y="8508"/>
                </a:cubicBezTo>
              </a:path>
              <a:path w="5433" h="2357">
                <a:moveTo>
                  <a:pt x="8781" y="9500"/>
                </a:moveTo>
                <a:cubicBezTo>
                  <a:pt x="8829" y="9476"/>
                  <a:pt x="8843" y="9467"/>
                  <a:pt x="8880" y="9475"/>
                </a:cubicBezTo>
                <a:cubicBezTo>
                  <a:pt x="8871" y="9578"/>
                  <a:pt x="8833" y="9651"/>
                  <a:pt x="8806" y="9748"/>
                </a:cubicBezTo>
                <a:cubicBezTo>
                  <a:pt x="8788" y="9811"/>
                  <a:pt x="8936" y="9729"/>
                  <a:pt x="8954" y="9723"/>
                </a:cubicBezTo>
              </a:path>
              <a:path w="5433" h="2357">
                <a:moveTo>
                  <a:pt x="11088" y="8210"/>
                </a:moveTo>
                <a:cubicBezTo>
                  <a:pt x="11077" y="8368"/>
                  <a:pt x="11038" y="8523"/>
                  <a:pt x="11038" y="8682"/>
                </a:cubicBezTo>
              </a:path>
              <a:path w="5433" h="2357">
                <a:moveTo>
                  <a:pt x="10666" y="8905"/>
                </a:moveTo>
                <a:cubicBezTo>
                  <a:pt x="10880" y="8869"/>
                  <a:pt x="11096" y="8858"/>
                  <a:pt x="11311" y="8830"/>
                </a:cubicBezTo>
                <a:cubicBezTo>
                  <a:pt x="11383" y="8820"/>
                  <a:pt x="11437" y="8806"/>
                  <a:pt x="11509" y="8806"/>
                </a:cubicBezTo>
              </a:path>
              <a:path w="5433" h="2357">
                <a:moveTo>
                  <a:pt x="10988" y="9153"/>
                </a:moveTo>
                <a:cubicBezTo>
                  <a:pt x="11030" y="9091"/>
                  <a:pt x="10896" y="9150"/>
                  <a:pt x="10840" y="9153"/>
                </a:cubicBezTo>
                <a:cubicBezTo>
                  <a:pt x="10791" y="9156"/>
                  <a:pt x="10781" y="9298"/>
                  <a:pt x="10765" y="9351"/>
                </a:cubicBezTo>
                <a:cubicBezTo>
                  <a:pt x="10852" y="9351"/>
                  <a:pt x="10895" y="9314"/>
                  <a:pt x="10988" y="9351"/>
                </a:cubicBezTo>
                <a:cubicBezTo>
                  <a:pt x="11151" y="9416"/>
                  <a:pt x="11089" y="9594"/>
                  <a:pt x="10939" y="9624"/>
                </a:cubicBezTo>
                <a:cubicBezTo>
                  <a:pt x="10815" y="9624"/>
                  <a:pt x="10790" y="9624"/>
                  <a:pt x="10716" y="9624"/>
                </a:cubicBezTo>
              </a:path>
              <a:path w="5433" h="2357">
                <a:moveTo>
                  <a:pt x="11385" y="9128"/>
                </a:moveTo>
                <a:cubicBezTo>
                  <a:pt x="11287" y="9267"/>
                  <a:pt x="11286" y="9352"/>
                  <a:pt x="11286" y="9525"/>
                </a:cubicBezTo>
                <a:cubicBezTo>
                  <a:pt x="11427" y="9547"/>
                  <a:pt x="11587" y="9500"/>
                  <a:pt x="11559" y="9302"/>
                </a:cubicBezTo>
                <a:cubicBezTo>
                  <a:pt x="11507" y="9250"/>
                  <a:pt x="11488" y="9233"/>
                  <a:pt x="11435" y="9227"/>
                </a:cubicBezTo>
              </a:path>
              <a:path w="5433" h="2357">
                <a:moveTo>
                  <a:pt x="9847" y="9748"/>
                </a:moveTo>
                <a:cubicBezTo>
                  <a:pt x="9961" y="9820"/>
                  <a:pt x="10067" y="9898"/>
                  <a:pt x="10195" y="9947"/>
                </a:cubicBezTo>
                <a:cubicBezTo>
                  <a:pt x="10415" y="10032"/>
                  <a:pt x="10681" y="10050"/>
                  <a:pt x="10914" y="10021"/>
                </a:cubicBezTo>
                <a:cubicBezTo>
                  <a:pt x="11171" y="9989"/>
                  <a:pt x="11406" y="9921"/>
                  <a:pt x="11633" y="9798"/>
                </a:cubicBezTo>
                <a:cubicBezTo>
                  <a:pt x="11806" y="9704"/>
                  <a:pt x="11959" y="9549"/>
                  <a:pt x="12055" y="9376"/>
                </a:cubicBezTo>
                <a:cubicBezTo>
                  <a:pt x="12147" y="9210"/>
                  <a:pt x="12154" y="9064"/>
                  <a:pt x="12154" y="8880"/>
                </a:cubicBezTo>
                <a:cubicBezTo>
                  <a:pt x="12154" y="8682"/>
                  <a:pt x="12140" y="8524"/>
                  <a:pt x="12080" y="8334"/>
                </a:cubicBezTo>
                <a:cubicBezTo>
                  <a:pt x="12011" y="8115"/>
                  <a:pt x="11893" y="7997"/>
                  <a:pt x="11733" y="7838"/>
                </a:cubicBezTo>
                <a:cubicBezTo>
                  <a:pt x="11623" y="7728"/>
                  <a:pt x="11520" y="7677"/>
                  <a:pt x="11361" y="7665"/>
                </a:cubicBezTo>
                <a:cubicBezTo>
                  <a:pt x="11031" y="7641"/>
                  <a:pt x="10726" y="7737"/>
                  <a:pt x="10418" y="7838"/>
                </a:cubicBezTo>
                <a:cubicBezTo>
                  <a:pt x="10082" y="7948"/>
                  <a:pt x="9790" y="8044"/>
                  <a:pt x="9575" y="8334"/>
                </a:cubicBezTo>
                <a:cubicBezTo>
                  <a:pt x="9464" y="8484"/>
                  <a:pt x="9441" y="8650"/>
                  <a:pt x="9426" y="8830"/>
                </a:cubicBezTo>
                <a:cubicBezTo>
                  <a:pt x="9416" y="8950"/>
                  <a:pt x="9438" y="9041"/>
                  <a:pt x="9475" y="9153"/>
                </a:cubicBezTo>
                <a:cubicBezTo>
                  <a:pt x="9511" y="9261"/>
                  <a:pt x="9563" y="9355"/>
                  <a:pt x="9624" y="9451"/>
                </a:cubicBezTo>
                <a:cubicBezTo>
                  <a:pt x="9660" y="9508"/>
                  <a:pt x="9739" y="9637"/>
                  <a:pt x="9773" y="9674"/>
                </a:cubicBezTo>
                <a:cubicBezTo>
                  <a:pt x="9831" y="9736"/>
                  <a:pt x="9865" y="9782"/>
                  <a:pt x="9922" y="9823"/>
                </a:cubicBezTo>
                <a:cubicBezTo>
                  <a:pt x="9972" y="9860"/>
                  <a:pt x="10020" y="9856"/>
                  <a:pt x="10071" y="98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6920" y="411624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7045" y="11435"/>
                </a:moveTo>
                <a:cubicBezTo>
                  <a:pt x="7045" y="11443"/>
                  <a:pt x="7045" y="11452"/>
                  <a:pt x="7045" y="11460"/>
                </a:cubicBezTo>
              </a:path>
              <a:path w="1" h="51">
                <a:moveTo>
                  <a:pt x="7045" y="11485"/>
                </a:moveTo>
                <a:lnTo>
                  <a:pt x="7045" y="1148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31920" y="4394160"/>
            <a:ext cx="438120" cy="54000"/>
          </a:xfrm>
          <a:custGeom>
            <a:avLst/>
            <a:gdLst/>
            <a:ahLst/>
            <a:rect l="l" t="t" r="r" b="b"/>
            <a:pathLst>
              <a:path w="1216" h="150">
                <a:moveTo>
                  <a:pt x="3423" y="12229"/>
                </a:moveTo>
                <a:cubicBezTo>
                  <a:pt x="3539" y="12268"/>
                  <a:pt x="3849" y="12226"/>
                  <a:pt x="3994" y="12229"/>
                </a:cubicBezTo>
                <a:cubicBezTo>
                  <a:pt x="4195" y="12233"/>
                  <a:pt x="4389" y="12245"/>
                  <a:pt x="4589" y="12254"/>
                </a:cubicBezTo>
                <a:cubicBezTo>
                  <a:pt x="4690" y="12313"/>
                  <a:pt x="4508" y="12273"/>
                  <a:pt x="4440" y="12278"/>
                </a:cubicBezTo>
                <a:cubicBezTo>
                  <a:pt x="4121" y="12303"/>
                  <a:pt x="3816" y="12286"/>
                  <a:pt x="3497" y="12278"/>
                </a:cubicBezTo>
                <a:cubicBezTo>
                  <a:pt x="3481" y="12278"/>
                  <a:pt x="3464" y="12278"/>
                  <a:pt x="3448" y="12278"/>
                </a:cubicBezTo>
                <a:cubicBezTo>
                  <a:pt x="3348" y="12278"/>
                  <a:pt x="3596" y="12299"/>
                  <a:pt x="3696" y="12303"/>
                </a:cubicBezTo>
                <a:cubicBezTo>
                  <a:pt x="3997" y="12315"/>
                  <a:pt x="4798" y="12174"/>
                  <a:pt x="4539" y="12328"/>
                </a:cubicBezTo>
                <a:cubicBezTo>
                  <a:pt x="4389" y="12417"/>
                  <a:pt x="4192" y="12341"/>
                  <a:pt x="4018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3956040"/>
            <a:ext cx="741240" cy="544680"/>
          </a:xfrm>
          <a:custGeom>
            <a:avLst/>
            <a:gdLst/>
            <a:ahLst/>
            <a:rect l="l" t="t" r="r" b="b"/>
            <a:pathLst>
              <a:path w="2059" h="1515">
                <a:moveTo>
                  <a:pt x="7045" y="11559"/>
                </a:moveTo>
                <a:cubicBezTo>
                  <a:pt x="7011" y="11668"/>
                  <a:pt x="6997" y="11773"/>
                  <a:pt x="6970" y="11881"/>
                </a:cubicBezTo>
                <a:cubicBezTo>
                  <a:pt x="6941" y="11995"/>
                  <a:pt x="6901" y="12112"/>
                  <a:pt x="6896" y="12229"/>
                </a:cubicBezTo>
                <a:cubicBezTo>
                  <a:pt x="6893" y="12296"/>
                  <a:pt x="6881" y="12381"/>
                  <a:pt x="6945" y="12427"/>
                </a:cubicBezTo>
                <a:cubicBezTo>
                  <a:pt x="7076" y="12521"/>
                  <a:pt x="7191" y="12507"/>
                  <a:pt x="7342" y="12477"/>
                </a:cubicBezTo>
                <a:cubicBezTo>
                  <a:pt x="7482" y="12449"/>
                  <a:pt x="7598" y="12385"/>
                  <a:pt x="7665" y="12254"/>
                </a:cubicBezTo>
                <a:cubicBezTo>
                  <a:pt x="7706" y="12175"/>
                  <a:pt x="7698" y="12080"/>
                  <a:pt x="7615" y="12030"/>
                </a:cubicBezTo>
                <a:cubicBezTo>
                  <a:pt x="7486" y="11953"/>
                  <a:pt x="7408" y="12035"/>
                  <a:pt x="7367" y="12154"/>
                </a:cubicBezTo>
                <a:cubicBezTo>
                  <a:pt x="7347" y="12212"/>
                  <a:pt x="7340" y="12295"/>
                  <a:pt x="7367" y="12353"/>
                </a:cubicBezTo>
                <a:cubicBezTo>
                  <a:pt x="7399" y="12422"/>
                  <a:pt x="7401" y="12404"/>
                  <a:pt x="7441" y="12353"/>
                </a:cubicBezTo>
              </a:path>
              <a:path w="2059" h="1515">
                <a:moveTo>
                  <a:pt x="8483" y="11237"/>
                </a:moveTo>
                <a:cubicBezTo>
                  <a:pt x="8535" y="11285"/>
                  <a:pt x="8466" y="11081"/>
                  <a:pt x="8434" y="11038"/>
                </a:cubicBezTo>
                <a:cubicBezTo>
                  <a:pt x="8312" y="10873"/>
                  <a:pt x="8142" y="11090"/>
                  <a:pt x="8111" y="11212"/>
                </a:cubicBezTo>
                <a:cubicBezTo>
                  <a:pt x="8049" y="11453"/>
                  <a:pt x="8246" y="11487"/>
                  <a:pt x="8384" y="11336"/>
                </a:cubicBezTo>
                <a:cubicBezTo>
                  <a:pt x="8409" y="11295"/>
                  <a:pt x="8433" y="11253"/>
                  <a:pt x="8458" y="11212"/>
                </a:cubicBezTo>
                <a:cubicBezTo>
                  <a:pt x="8477" y="11154"/>
                  <a:pt x="8486" y="11147"/>
                  <a:pt x="8483" y="11112"/>
                </a:cubicBezTo>
                <a:cubicBezTo>
                  <a:pt x="8483" y="11294"/>
                  <a:pt x="8483" y="11476"/>
                  <a:pt x="8483" y="11658"/>
                </a:cubicBezTo>
              </a:path>
              <a:path w="2059" h="1515">
                <a:moveTo>
                  <a:pt x="7962" y="11807"/>
                </a:moveTo>
                <a:cubicBezTo>
                  <a:pt x="8242" y="11790"/>
                  <a:pt x="8527" y="11763"/>
                  <a:pt x="8806" y="11733"/>
                </a:cubicBezTo>
                <a:cubicBezTo>
                  <a:pt x="8897" y="11715"/>
                  <a:pt x="8904" y="11706"/>
                  <a:pt x="8954" y="11708"/>
                </a:cubicBezTo>
              </a:path>
              <a:path w="2059" h="1515">
                <a:moveTo>
                  <a:pt x="8161" y="11931"/>
                </a:moveTo>
                <a:cubicBezTo>
                  <a:pt x="8188" y="12067"/>
                  <a:pt x="8187" y="12185"/>
                  <a:pt x="8161" y="12328"/>
                </a:cubicBezTo>
                <a:cubicBezTo>
                  <a:pt x="8142" y="12402"/>
                  <a:pt x="8134" y="12409"/>
                  <a:pt x="8136" y="12452"/>
                </a:cubicBezTo>
              </a:path>
              <a:path w="2059" h="1515">
                <a:moveTo>
                  <a:pt x="8706" y="12005"/>
                </a:moveTo>
                <a:cubicBezTo>
                  <a:pt x="8657" y="12022"/>
                  <a:pt x="8575" y="12136"/>
                  <a:pt x="8558" y="12204"/>
                </a:cubicBezTo>
                <a:cubicBezTo>
                  <a:pt x="8532" y="12304"/>
                  <a:pt x="8592" y="12470"/>
                  <a:pt x="8731" y="12402"/>
                </a:cubicBezTo>
                <a:cubicBezTo>
                  <a:pt x="8831" y="12353"/>
                  <a:pt x="9009" y="12190"/>
                  <a:pt x="8880" y="12080"/>
                </a:cubicBezTo>
                <a:cubicBezTo>
                  <a:pt x="8810" y="12033"/>
                  <a:pt x="8790" y="12016"/>
                  <a:pt x="8731" y="120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13120" y="4581360"/>
            <a:ext cx="3027240" cy="839880"/>
          </a:xfrm>
          <a:custGeom>
            <a:avLst/>
            <a:gdLst/>
            <a:ahLst/>
            <a:rect l="l" t="t" r="r" b="b"/>
            <a:pathLst>
              <a:path w="8409" h="2332">
                <a:moveTo>
                  <a:pt x="10616" y="13271"/>
                </a:moveTo>
                <a:cubicBezTo>
                  <a:pt x="10608" y="13271"/>
                  <a:pt x="10600" y="13271"/>
                  <a:pt x="10592" y="13271"/>
                </a:cubicBezTo>
              </a:path>
              <a:path w="8409" h="2332">
                <a:moveTo>
                  <a:pt x="10765" y="13717"/>
                </a:moveTo>
                <a:lnTo>
                  <a:pt x="10765" y="13717"/>
                </a:lnTo>
                <a:lnTo>
                  <a:pt x="10765" y="13717"/>
                </a:lnTo>
              </a:path>
              <a:path w="8409" h="2332">
                <a:moveTo>
                  <a:pt x="10988" y="13146"/>
                </a:moveTo>
                <a:cubicBezTo>
                  <a:pt x="11052" y="13109"/>
                  <a:pt x="11212" y="12972"/>
                  <a:pt x="11261" y="13047"/>
                </a:cubicBezTo>
              </a:path>
              <a:path w="8409" h="2332">
                <a:moveTo>
                  <a:pt x="11013" y="14387"/>
                </a:moveTo>
                <a:lnTo>
                  <a:pt x="11013" y="14387"/>
                </a:lnTo>
              </a:path>
              <a:path w="8409" h="2332">
                <a:moveTo>
                  <a:pt x="10889" y="14883"/>
                </a:moveTo>
                <a:lnTo>
                  <a:pt x="10889" y="14883"/>
                </a:lnTo>
              </a:path>
              <a:path w="8409" h="2332">
                <a:moveTo>
                  <a:pt x="12154" y="14312"/>
                </a:moveTo>
                <a:cubicBezTo>
                  <a:pt x="12302" y="14283"/>
                  <a:pt x="12365" y="14263"/>
                  <a:pt x="12452" y="14188"/>
                </a:cubicBezTo>
              </a:path>
              <a:path w="8409" h="2332">
                <a:moveTo>
                  <a:pt x="15180" y="13047"/>
                </a:moveTo>
                <a:lnTo>
                  <a:pt x="15180" y="13047"/>
                </a:lnTo>
              </a:path>
              <a:path w="8409" h="2332">
                <a:moveTo>
                  <a:pt x="15453" y="12874"/>
                </a:moveTo>
                <a:cubicBezTo>
                  <a:pt x="15555" y="12808"/>
                  <a:pt x="15637" y="12766"/>
                  <a:pt x="15751" y="12725"/>
                </a:cubicBezTo>
              </a:path>
              <a:path w="8409" h="2332">
                <a:moveTo>
                  <a:pt x="15478" y="14734"/>
                </a:moveTo>
                <a:cubicBezTo>
                  <a:pt x="15553" y="14747"/>
                  <a:pt x="15610" y="14786"/>
                  <a:pt x="15677" y="14808"/>
                </a:cubicBezTo>
              </a:path>
              <a:path w="8409" h="2332">
                <a:moveTo>
                  <a:pt x="15503" y="14436"/>
                </a:moveTo>
                <a:cubicBezTo>
                  <a:pt x="15503" y="14453"/>
                  <a:pt x="15503" y="14469"/>
                  <a:pt x="15503" y="14486"/>
                </a:cubicBezTo>
              </a:path>
              <a:path w="8409" h="2332">
                <a:moveTo>
                  <a:pt x="15429" y="15056"/>
                </a:moveTo>
                <a:cubicBezTo>
                  <a:pt x="15462" y="15040"/>
                  <a:pt x="15495" y="15023"/>
                  <a:pt x="15528" y="15007"/>
                </a:cubicBezTo>
              </a:path>
              <a:path w="8409" h="2332">
                <a:moveTo>
                  <a:pt x="15528" y="15007"/>
                </a:moveTo>
                <a:lnTo>
                  <a:pt x="15528" y="15007"/>
                </a:lnTo>
              </a:path>
              <a:path w="8409" h="2332">
                <a:moveTo>
                  <a:pt x="15900" y="14585"/>
                </a:moveTo>
                <a:cubicBezTo>
                  <a:pt x="16041" y="14541"/>
                  <a:pt x="16084" y="14511"/>
                  <a:pt x="16197" y="14412"/>
                </a:cubicBezTo>
              </a:path>
              <a:path w="8409" h="2332">
                <a:moveTo>
                  <a:pt x="16396" y="14163"/>
                </a:moveTo>
                <a:cubicBezTo>
                  <a:pt x="16437" y="14138"/>
                  <a:pt x="16479" y="14114"/>
                  <a:pt x="16520" y="14089"/>
                </a:cubicBezTo>
              </a:path>
              <a:path w="8409" h="2332">
                <a:moveTo>
                  <a:pt x="16520" y="14089"/>
                </a:moveTo>
                <a:lnTo>
                  <a:pt x="16520" y="14089"/>
                </a:lnTo>
              </a:path>
              <a:path w="8409" h="2332">
                <a:moveTo>
                  <a:pt x="17239" y="13692"/>
                </a:moveTo>
                <a:cubicBezTo>
                  <a:pt x="17255" y="13909"/>
                  <a:pt x="17265" y="14097"/>
                  <a:pt x="17239" y="14312"/>
                </a:cubicBezTo>
              </a:path>
              <a:path w="8409" h="2332">
                <a:moveTo>
                  <a:pt x="18926" y="12824"/>
                </a:moveTo>
                <a:cubicBezTo>
                  <a:pt x="18949" y="12963"/>
                  <a:pt x="18956" y="13107"/>
                  <a:pt x="18976" y="13246"/>
                </a:cubicBezTo>
                <a:cubicBezTo>
                  <a:pt x="18995" y="13303"/>
                  <a:pt x="19003" y="13310"/>
                  <a:pt x="19000" y="133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5411880"/>
            <a:ext cx="804960" cy="27000"/>
          </a:xfrm>
          <a:custGeom>
            <a:avLst/>
            <a:gdLst/>
            <a:ahLst/>
            <a:rect l="l" t="t" r="r" b="b"/>
            <a:pathLst>
              <a:path w="2234" h="75">
                <a:moveTo>
                  <a:pt x="3497" y="15032"/>
                </a:moveTo>
                <a:cubicBezTo>
                  <a:pt x="3905" y="15032"/>
                  <a:pt x="4306" y="15055"/>
                  <a:pt x="4713" y="15081"/>
                </a:cubicBezTo>
                <a:cubicBezTo>
                  <a:pt x="5045" y="15102"/>
                  <a:pt x="5373" y="15106"/>
                  <a:pt x="5705" y="15106"/>
                </a:cubicBezTo>
                <a:cubicBezTo>
                  <a:pt x="5713" y="15106"/>
                  <a:pt x="5722" y="15106"/>
                  <a:pt x="5730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6680" y="4321080"/>
            <a:ext cx="4502160" cy="1179720"/>
          </a:xfrm>
          <a:custGeom>
            <a:avLst/>
            <a:gdLst/>
            <a:ahLst/>
            <a:rect l="l" t="t" r="r" b="b"/>
            <a:pathLst>
              <a:path w="12503" h="3276">
                <a:moveTo>
                  <a:pt x="7714" y="14039"/>
                </a:moveTo>
                <a:cubicBezTo>
                  <a:pt x="7783" y="14281"/>
                  <a:pt x="7780" y="14554"/>
                  <a:pt x="7764" y="14808"/>
                </a:cubicBezTo>
                <a:cubicBezTo>
                  <a:pt x="7756" y="14933"/>
                  <a:pt x="7739" y="15206"/>
                  <a:pt x="7739" y="15081"/>
                </a:cubicBezTo>
              </a:path>
              <a:path w="12503" h="3276">
                <a:moveTo>
                  <a:pt x="8458" y="14213"/>
                </a:moveTo>
                <a:cubicBezTo>
                  <a:pt x="8421" y="14098"/>
                  <a:pt x="8373" y="14371"/>
                  <a:pt x="8334" y="14486"/>
                </a:cubicBezTo>
                <a:cubicBezTo>
                  <a:pt x="8253" y="14722"/>
                  <a:pt x="8240" y="14823"/>
                  <a:pt x="8285" y="15056"/>
                </a:cubicBezTo>
                <a:cubicBezTo>
                  <a:pt x="8537" y="15057"/>
                  <a:pt x="8660" y="14891"/>
                  <a:pt x="8706" y="14635"/>
                </a:cubicBezTo>
                <a:cubicBezTo>
                  <a:pt x="8751" y="14385"/>
                  <a:pt x="8564" y="14262"/>
                  <a:pt x="8334" y="14337"/>
                </a:cubicBezTo>
                <a:cubicBezTo>
                  <a:pt x="8296" y="14376"/>
                  <a:pt x="8279" y="14408"/>
                  <a:pt x="8285" y="14362"/>
                </a:cubicBezTo>
              </a:path>
              <a:path w="12503" h="3276">
                <a:moveTo>
                  <a:pt x="9451" y="13568"/>
                </a:moveTo>
                <a:cubicBezTo>
                  <a:pt x="9633" y="13608"/>
                  <a:pt x="9886" y="13706"/>
                  <a:pt x="9699" y="13940"/>
                </a:cubicBezTo>
                <a:cubicBezTo>
                  <a:pt x="9577" y="14093"/>
                  <a:pt x="9497" y="14041"/>
                  <a:pt x="9351" y="13990"/>
                </a:cubicBezTo>
                <a:cubicBezTo>
                  <a:pt x="9396" y="13900"/>
                  <a:pt x="9561" y="13932"/>
                  <a:pt x="9649" y="13965"/>
                </a:cubicBezTo>
                <a:cubicBezTo>
                  <a:pt x="9771" y="14011"/>
                  <a:pt x="9685" y="14019"/>
                  <a:pt x="9748" y="14039"/>
                </a:cubicBezTo>
              </a:path>
              <a:path w="12503" h="3276">
                <a:moveTo>
                  <a:pt x="10244" y="13419"/>
                </a:moveTo>
                <a:cubicBezTo>
                  <a:pt x="10166" y="13446"/>
                  <a:pt x="10037" y="13446"/>
                  <a:pt x="9971" y="13494"/>
                </a:cubicBezTo>
                <a:cubicBezTo>
                  <a:pt x="9945" y="13513"/>
                  <a:pt x="9949" y="13637"/>
                  <a:pt x="9947" y="13667"/>
                </a:cubicBezTo>
                <a:cubicBezTo>
                  <a:pt x="9985" y="13725"/>
                  <a:pt x="10177" y="13655"/>
                  <a:pt x="10269" y="13692"/>
                </a:cubicBezTo>
                <a:cubicBezTo>
                  <a:pt x="10552" y="13805"/>
                  <a:pt x="10224" y="13974"/>
                  <a:pt x="10096" y="13990"/>
                </a:cubicBezTo>
                <a:cubicBezTo>
                  <a:pt x="9996" y="13990"/>
                  <a:pt x="9980" y="13990"/>
                  <a:pt x="9922" y="13990"/>
                </a:cubicBezTo>
              </a:path>
              <a:path w="12503" h="3276">
                <a:moveTo>
                  <a:pt x="9054" y="14337"/>
                </a:moveTo>
                <a:cubicBezTo>
                  <a:pt x="9414" y="14282"/>
                  <a:pt x="9781" y="14230"/>
                  <a:pt x="10145" y="14213"/>
                </a:cubicBezTo>
                <a:cubicBezTo>
                  <a:pt x="10369" y="14213"/>
                  <a:pt x="10412" y="14203"/>
                  <a:pt x="10542" y="14238"/>
                </a:cubicBezTo>
              </a:path>
              <a:path w="12503" h="3276">
                <a:moveTo>
                  <a:pt x="9500" y="14585"/>
                </a:moveTo>
                <a:cubicBezTo>
                  <a:pt x="9500" y="14551"/>
                  <a:pt x="9553" y="14854"/>
                  <a:pt x="9550" y="14908"/>
                </a:cubicBezTo>
                <a:cubicBezTo>
                  <a:pt x="9543" y="15031"/>
                  <a:pt x="9440" y="15147"/>
                  <a:pt x="9550" y="15081"/>
                </a:cubicBezTo>
              </a:path>
              <a:path w="12503" h="3276">
                <a:moveTo>
                  <a:pt x="9922" y="14610"/>
                </a:moveTo>
                <a:cubicBezTo>
                  <a:pt x="9821" y="14590"/>
                  <a:pt x="9723" y="14831"/>
                  <a:pt x="9699" y="14932"/>
                </a:cubicBezTo>
                <a:cubicBezTo>
                  <a:pt x="9699" y="14973"/>
                  <a:pt x="9699" y="15015"/>
                  <a:pt x="9699" y="15056"/>
                </a:cubicBezTo>
                <a:cubicBezTo>
                  <a:pt x="9895" y="15094"/>
                  <a:pt x="10166" y="15059"/>
                  <a:pt x="10120" y="14759"/>
                </a:cubicBezTo>
                <a:cubicBezTo>
                  <a:pt x="10102" y="14639"/>
                  <a:pt x="9971" y="14647"/>
                  <a:pt x="9897" y="14610"/>
                </a:cubicBezTo>
              </a:path>
              <a:path w="12503" h="3276">
                <a:moveTo>
                  <a:pt x="10468" y="14511"/>
                </a:moveTo>
                <a:cubicBezTo>
                  <a:pt x="10357" y="14691"/>
                  <a:pt x="10307" y="14807"/>
                  <a:pt x="10368" y="15007"/>
                </a:cubicBezTo>
                <a:cubicBezTo>
                  <a:pt x="10540" y="15007"/>
                  <a:pt x="10789" y="14906"/>
                  <a:pt x="10716" y="14660"/>
                </a:cubicBezTo>
                <a:cubicBezTo>
                  <a:pt x="10625" y="14599"/>
                  <a:pt x="10580" y="14582"/>
                  <a:pt x="10492" y="14610"/>
                </a:cubicBezTo>
              </a:path>
              <a:path w="12503" h="3276">
                <a:moveTo>
                  <a:pt x="10592" y="13568"/>
                </a:moveTo>
                <a:cubicBezTo>
                  <a:pt x="10664" y="13568"/>
                  <a:pt x="10706" y="13518"/>
                  <a:pt x="10765" y="13494"/>
                </a:cubicBezTo>
                <a:cubicBezTo>
                  <a:pt x="10773" y="13494"/>
                  <a:pt x="10782" y="13494"/>
                  <a:pt x="10790" y="13494"/>
                </a:cubicBezTo>
              </a:path>
              <a:path w="12503" h="3276">
                <a:moveTo>
                  <a:pt x="10964" y="13196"/>
                </a:moveTo>
                <a:cubicBezTo>
                  <a:pt x="10964" y="13291"/>
                  <a:pt x="10937" y="13306"/>
                  <a:pt x="11063" y="13320"/>
                </a:cubicBezTo>
                <a:cubicBezTo>
                  <a:pt x="11141" y="13328"/>
                  <a:pt x="11382" y="13383"/>
                  <a:pt x="11212" y="13519"/>
                </a:cubicBezTo>
                <a:cubicBezTo>
                  <a:pt x="11195" y="13519"/>
                  <a:pt x="11179" y="13519"/>
                  <a:pt x="11162" y="13519"/>
                </a:cubicBezTo>
              </a:path>
              <a:path w="12503" h="3276">
                <a:moveTo>
                  <a:pt x="10864" y="14635"/>
                </a:moveTo>
                <a:cubicBezTo>
                  <a:pt x="10913" y="14654"/>
                  <a:pt x="10993" y="14705"/>
                  <a:pt x="11038" y="14734"/>
                </a:cubicBezTo>
                <a:cubicBezTo>
                  <a:pt x="11046" y="14742"/>
                  <a:pt x="11055" y="14751"/>
                  <a:pt x="11063" y="14759"/>
                </a:cubicBezTo>
              </a:path>
              <a:path w="12503" h="3276">
                <a:moveTo>
                  <a:pt x="11311" y="14560"/>
                </a:moveTo>
                <a:cubicBezTo>
                  <a:pt x="11311" y="14715"/>
                  <a:pt x="11328" y="14652"/>
                  <a:pt x="11435" y="14759"/>
                </a:cubicBezTo>
                <a:cubicBezTo>
                  <a:pt x="11468" y="14791"/>
                  <a:pt x="11540" y="15049"/>
                  <a:pt x="11385" y="14957"/>
                </a:cubicBezTo>
                <a:cubicBezTo>
                  <a:pt x="11360" y="14924"/>
                  <a:pt x="11336" y="14891"/>
                  <a:pt x="11311" y="14858"/>
                </a:cubicBezTo>
              </a:path>
              <a:path w="12503" h="3276">
                <a:moveTo>
                  <a:pt x="11286" y="14585"/>
                </a:moveTo>
                <a:cubicBezTo>
                  <a:pt x="11396" y="14563"/>
                  <a:pt x="11494" y="14524"/>
                  <a:pt x="11584" y="14461"/>
                </a:cubicBezTo>
              </a:path>
              <a:path w="12503" h="3276">
                <a:moveTo>
                  <a:pt x="12154" y="14139"/>
                </a:moveTo>
                <a:cubicBezTo>
                  <a:pt x="12246" y="14114"/>
                  <a:pt x="12329" y="14114"/>
                  <a:pt x="12427" y="14114"/>
                </a:cubicBezTo>
              </a:path>
              <a:path w="12503" h="3276">
                <a:moveTo>
                  <a:pt x="13146" y="13767"/>
                </a:moveTo>
                <a:cubicBezTo>
                  <a:pt x="13186" y="14100"/>
                  <a:pt x="13156" y="14384"/>
                  <a:pt x="13072" y="14709"/>
                </a:cubicBezTo>
                <a:cubicBezTo>
                  <a:pt x="13046" y="14788"/>
                  <a:pt x="13040" y="14809"/>
                  <a:pt x="13097" y="14709"/>
                </a:cubicBezTo>
              </a:path>
              <a:path w="12503" h="3276">
                <a:moveTo>
                  <a:pt x="13568" y="13990"/>
                </a:moveTo>
                <a:cubicBezTo>
                  <a:pt x="13495" y="14249"/>
                  <a:pt x="13438" y="14452"/>
                  <a:pt x="13494" y="14709"/>
                </a:cubicBezTo>
                <a:cubicBezTo>
                  <a:pt x="13751" y="14666"/>
                  <a:pt x="13923" y="14490"/>
                  <a:pt x="13866" y="14188"/>
                </a:cubicBezTo>
                <a:cubicBezTo>
                  <a:pt x="13827" y="13985"/>
                  <a:pt x="13664" y="14022"/>
                  <a:pt x="13519" y="14015"/>
                </a:cubicBezTo>
              </a:path>
              <a:path w="12503" h="3276">
                <a:moveTo>
                  <a:pt x="14734" y="13246"/>
                </a:moveTo>
                <a:cubicBezTo>
                  <a:pt x="14630" y="13278"/>
                  <a:pt x="14545" y="13272"/>
                  <a:pt x="14511" y="13345"/>
                </a:cubicBezTo>
                <a:cubicBezTo>
                  <a:pt x="14466" y="13433"/>
                  <a:pt x="14450" y="13454"/>
                  <a:pt x="14461" y="13519"/>
                </a:cubicBezTo>
                <a:cubicBezTo>
                  <a:pt x="14485" y="13588"/>
                  <a:pt x="14576" y="13492"/>
                  <a:pt x="14635" y="13494"/>
                </a:cubicBezTo>
                <a:cubicBezTo>
                  <a:pt x="14798" y="13499"/>
                  <a:pt x="14827" y="13650"/>
                  <a:pt x="14684" y="13717"/>
                </a:cubicBezTo>
                <a:cubicBezTo>
                  <a:pt x="14602" y="13738"/>
                  <a:pt x="14587" y="13746"/>
                  <a:pt x="14536" y="13742"/>
                </a:cubicBezTo>
              </a:path>
              <a:path w="12503" h="3276">
                <a:moveTo>
                  <a:pt x="14263" y="13940"/>
                </a:moveTo>
                <a:cubicBezTo>
                  <a:pt x="14407" y="13911"/>
                  <a:pt x="14559" y="13885"/>
                  <a:pt x="14709" y="13866"/>
                </a:cubicBezTo>
                <a:cubicBezTo>
                  <a:pt x="14741" y="13862"/>
                  <a:pt x="15014" y="13788"/>
                  <a:pt x="15032" y="13841"/>
                </a:cubicBezTo>
              </a:path>
              <a:path w="12503" h="3276">
                <a:moveTo>
                  <a:pt x="14436" y="14238"/>
                </a:moveTo>
                <a:cubicBezTo>
                  <a:pt x="14536" y="14188"/>
                  <a:pt x="14569" y="14172"/>
                  <a:pt x="14635" y="14139"/>
                </a:cubicBezTo>
                <a:cubicBezTo>
                  <a:pt x="14755" y="14319"/>
                  <a:pt x="14596" y="14476"/>
                  <a:pt x="14461" y="14635"/>
                </a:cubicBezTo>
                <a:cubicBezTo>
                  <a:pt x="14406" y="14690"/>
                  <a:pt x="14381" y="14688"/>
                  <a:pt x="14387" y="14734"/>
                </a:cubicBezTo>
                <a:cubicBezTo>
                  <a:pt x="14515" y="14695"/>
                  <a:pt x="14600" y="14684"/>
                  <a:pt x="14734" y="14684"/>
                </a:cubicBezTo>
              </a:path>
              <a:path w="12503" h="3276">
                <a:moveTo>
                  <a:pt x="14982" y="14213"/>
                </a:moveTo>
                <a:cubicBezTo>
                  <a:pt x="14897" y="14350"/>
                  <a:pt x="14873" y="14477"/>
                  <a:pt x="14858" y="14635"/>
                </a:cubicBezTo>
                <a:cubicBezTo>
                  <a:pt x="15020" y="14679"/>
                  <a:pt x="15140" y="14654"/>
                  <a:pt x="15180" y="14461"/>
                </a:cubicBezTo>
                <a:cubicBezTo>
                  <a:pt x="15231" y="14213"/>
                  <a:pt x="15095" y="14227"/>
                  <a:pt x="14932" y="14288"/>
                </a:cubicBezTo>
              </a:path>
              <a:path w="12503" h="3276">
                <a:moveTo>
                  <a:pt x="15032" y="13395"/>
                </a:moveTo>
                <a:cubicBezTo>
                  <a:pt x="15096" y="13346"/>
                  <a:pt x="15195" y="13310"/>
                  <a:pt x="15255" y="13246"/>
                </a:cubicBezTo>
                <a:cubicBezTo>
                  <a:pt x="15255" y="13221"/>
                  <a:pt x="15255" y="13213"/>
                  <a:pt x="15280" y="13221"/>
                </a:cubicBezTo>
              </a:path>
              <a:path w="12503" h="3276">
                <a:moveTo>
                  <a:pt x="15280" y="13469"/>
                </a:moveTo>
                <a:cubicBezTo>
                  <a:pt x="15280" y="13502"/>
                  <a:pt x="15280" y="13502"/>
                  <a:pt x="15280" y="13444"/>
                </a:cubicBezTo>
              </a:path>
              <a:path w="12503" h="3276">
                <a:moveTo>
                  <a:pt x="15478" y="12948"/>
                </a:moveTo>
                <a:cubicBezTo>
                  <a:pt x="15478" y="12983"/>
                  <a:pt x="15473" y="13000"/>
                  <a:pt x="15453" y="13022"/>
                </a:cubicBezTo>
                <a:cubicBezTo>
                  <a:pt x="15536" y="13036"/>
                  <a:pt x="15669" y="13034"/>
                  <a:pt x="15701" y="13122"/>
                </a:cubicBezTo>
                <a:cubicBezTo>
                  <a:pt x="15764" y="13297"/>
                  <a:pt x="15554" y="13207"/>
                  <a:pt x="15503" y="13196"/>
                </a:cubicBezTo>
              </a:path>
              <a:path w="12503" h="3276">
                <a:moveTo>
                  <a:pt x="15875" y="14610"/>
                </a:moveTo>
                <a:cubicBezTo>
                  <a:pt x="15875" y="14749"/>
                  <a:pt x="15917" y="14740"/>
                  <a:pt x="16049" y="14784"/>
                </a:cubicBezTo>
                <a:cubicBezTo>
                  <a:pt x="16192" y="14831"/>
                  <a:pt x="16123" y="14912"/>
                  <a:pt x="16024" y="14932"/>
                </a:cubicBezTo>
              </a:path>
              <a:path w="12503" h="3276">
                <a:moveTo>
                  <a:pt x="16396" y="13915"/>
                </a:moveTo>
                <a:cubicBezTo>
                  <a:pt x="16504" y="13900"/>
                  <a:pt x="16477" y="13887"/>
                  <a:pt x="16520" y="13940"/>
                </a:cubicBezTo>
              </a:path>
              <a:path w="12503" h="3276">
                <a:moveTo>
                  <a:pt x="17735" y="13543"/>
                </a:moveTo>
                <a:cubicBezTo>
                  <a:pt x="17629" y="13780"/>
                  <a:pt x="17577" y="13956"/>
                  <a:pt x="17587" y="14213"/>
                </a:cubicBezTo>
                <a:cubicBezTo>
                  <a:pt x="17740" y="14201"/>
                  <a:pt x="18186" y="14079"/>
                  <a:pt x="18033" y="13791"/>
                </a:cubicBezTo>
                <a:cubicBezTo>
                  <a:pt x="17899" y="13702"/>
                  <a:pt x="17866" y="13672"/>
                  <a:pt x="17760" y="13667"/>
                </a:cubicBezTo>
              </a:path>
              <a:path w="12503" h="3276">
                <a:moveTo>
                  <a:pt x="18504" y="13717"/>
                </a:moveTo>
                <a:cubicBezTo>
                  <a:pt x="18767" y="13610"/>
                  <a:pt x="19049" y="13522"/>
                  <a:pt x="19323" y="13444"/>
                </a:cubicBezTo>
                <a:cubicBezTo>
                  <a:pt x="19364" y="13436"/>
                  <a:pt x="19406" y="13427"/>
                  <a:pt x="19447" y="13419"/>
                </a:cubicBezTo>
              </a:path>
              <a:path w="12503" h="3276">
                <a:moveTo>
                  <a:pt x="18802" y="13915"/>
                </a:moveTo>
                <a:cubicBezTo>
                  <a:pt x="18802" y="13822"/>
                  <a:pt x="18767" y="14047"/>
                  <a:pt x="18752" y="14139"/>
                </a:cubicBezTo>
                <a:cubicBezTo>
                  <a:pt x="18729" y="14274"/>
                  <a:pt x="18967" y="14150"/>
                  <a:pt x="19075" y="14139"/>
                </a:cubicBezTo>
              </a:path>
              <a:path w="12503" h="3276">
                <a:moveTo>
                  <a:pt x="19000" y="13767"/>
                </a:moveTo>
                <a:cubicBezTo>
                  <a:pt x="19029" y="13987"/>
                  <a:pt x="19073" y="14238"/>
                  <a:pt x="19050" y="14461"/>
                </a:cubicBezTo>
                <a:cubicBezTo>
                  <a:pt x="19030" y="14502"/>
                  <a:pt x="19021" y="14529"/>
                  <a:pt x="19025" y="14486"/>
                </a:cubicBezTo>
              </a:path>
              <a:path w="12503" h="3276">
                <a:moveTo>
                  <a:pt x="16321" y="14957"/>
                </a:moveTo>
                <a:cubicBezTo>
                  <a:pt x="16420" y="14978"/>
                  <a:pt x="16519" y="14997"/>
                  <a:pt x="16619" y="15032"/>
                </a:cubicBezTo>
                <a:cubicBezTo>
                  <a:pt x="16823" y="15103"/>
                  <a:pt x="17077" y="15197"/>
                  <a:pt x="17289" y="15230"/>
                </a:cubicBezTo>
                <a:cubicBezTo>
                  <a:pt x="17816" y="15311"/>
                  <a:pt x="18365" y="15314"/>
                  <a:pt x="18876" y="15156"/>
                </a:cubicBezTo>
                <a:cubicBezTo>
                  <a:pt x="19205" y="15055"/>
                  <a:pt x="19541" y="14898"/>
                  <a:pt x="19794" y="14660"/>
                </a:cubicBezTo>
                <a:cubicBezTo>
                  <a:pt x="20032" y="14436"/>
                  <a:pt x="20189" y="14167"/>
                  <a:pt x="20216" y="13841"/>
                </a:cubicBezTo>
                <a:cubicBezTo>
                  <a:pt x="20240" y="13557"/>
                  <a:pt x="20160" y="13195"/>
                  <a:pt x="20017" y="12948"/>
                </a:cubicBezTo>
                <a:cubicBezTo>
                  <a:pt x="19813" y="12596"/>
                  <a:pt x="19458" y="12371"/>
                  <a:pt x="19100" y="12204"/>
                </a:cubicBezTo>
                <a:cubicBezTo>
                  <a:pt x="18709" y="12021"/>
                  <a:pt x="18258" y="11995"/>
                  <a:pt x="17835" y="12030"/>
                </a:cubicBezTo>
                <a:cubicBezTo>
                  <a:pt x="17525" y="12056"/>
                  <a:pt x="17217" y="12111"/>
                  <a:pt x="16966" y="12303"/>
                </a:cubicBezTo>
                <a:cubicBezTo>
                  <a:pt x="16735" y="12480"/>
                  <a:pt x="16631" y="12777"/>
                  <a:pt x="16594" y="13047"/>
                </a:cubicBezTo>
                <a:cubicBezTo>
                  <a:pt x="16565" y="13257"/>
                  <a:pt x="16552" y="13480"/>
                  <a:pt x="16570" y="13692"/>
                </a:cubicBezTo>
                <a:cubicBezTo>
                  <a:pt x="16585" y="13864"/>
                  <a:pt x="16651" y="14045"/>
                  <a:pt x="16694" y="14213"/>
                </a:cubicBezTo>
                <a:cubicBezTo>
                  <a:pt x="16726" y="14338"/>
                  <a:pt x="16732" y="14463"/>
                  <a:pt x="16768" y="14585"/>
                </a:cubicBezTo>
                <a:cubicBezTo>
                  <a:pt x="16806" y="14714"/>
                  <a:pt x="16869" y="14868"/>
                  <a:pt x="16942" y="14982"/>
                </a:cubicBezTo>
                <a:cubicBezTo>
                  <a:pt x="16965" y="15017"/>
                  <a:pt x="17029" y="15063"/>
                  <a:pt x="17041" y="15081"/>
                </a:cubicBezTo>
                <a:cubicBezTo>
                  <a:pt x="17041" y="15089"/>
                  <a:pt x="17041" y="15098"/>
                  <a:pt x="17041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s tell how many parts of 1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00000" y="2241720"/>
                <a:ext cx="658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743480" y="243036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42 parts of 100 or 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280" y="38955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92160" y="3849840"/>
                <a:ext cx="540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548800" y="38466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5030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20760" y="4911840"/>
                <a:ext cx="4352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633040" y="49831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571760"/>
            <a:ext cx="6404040" cy="2679480"/>
          </a:xfrm>
          <a:custGeom>
            <a:avLst/>
            <a:gdLst/>
            <a:ahLst/>
            <a:rect l="l" t="t" r="r" b="b"/>
            <a:pathLst>
              <a:path w="17786" h="7442">
                <a:moveTo>
                  <a:pt x="2158" y="4887"/>
                </a:moveTo>
                <a:cubicBezTo>
                  <a:pt x="2387" y="4873"/>
                  <a:pt x="2619" y="4850"/>
                  <a:pt x="2853" y="4862"/>
                </a:cubicBezTo>
                <a:cubicBezTo>
                  <a:pt x="3165" y="4878"/>
                  <a:pt x="3484" y="4939"/>
                  <a:pt x="3795" y="4936"/>
                </a:cubicBezTo>
                <a:cubicBezTo>
                  <a:pt x="4167" y="4933"/>
                  <a:pt x="4538" y="4928"/>
                  <a:pt x="4911" y="4936"/>
                </a:cubicBezTo>
                <a:cubicBezTo>
                  <a:pt x="5429" y="4947"/>
                  <a:pt x="5914" y="4917"/>
                  <a:pt x="6424" y="4837"/>
                </a:cubicBezTo>
                <a:cubicBezTo>
                  <a:pt x="6823" y="4775"/>
                  <a:pt x="7217" y="4714"/>
                  <a:pt x="7615" y="4663"/>
                </a:cubicBezTo>
                <a:cubicBezTo>
                  <a:pt x="7920" y="4624"/>
                  <a:pt x="8227" y="4557"/>
                  <a:pt x="8533" y="4539"/>
                </a:cubicBezTo>
                <a:cubicBezTo>
                  <a:pt x="8826" y="4522"/>
                  <a:pt x="9109" y="4557"/>
                  <a:pt x="9401" y="4539"/>
                </a:cubicBezTo>
                <a:cubicBezTo>
                  <a:pt x="9559" y="4529"/>
                  <a:pt x="9712" y="4507"/>
                  <a:pt x="9872" y="4514"/>
                </a:cubicBezTo>
                <a:cubicBezTo>
                  <a:pt x="10104" y="4525"/>
                  <a:pt x="10334" y="4580"/>
                  <a:pt x="10567" y="4589"/>
                </a:cubicBezTo>
                <a:cubicBezTo>
                  <a:pt x="10969" y="4605"/>
                  <a:pt x="11333" y="4631"/>
                  <a:pt x="11733" y="4688"/>
                </a:cubicBezTo>
                <a:cubicBezTo>
                  <a:pt x="11948" y="4719"/>
                  <a:pt x="12185" y="4754"/>
                  <a:pt x="12402" y="4762"/>
                </a:cubicBezTo>
                <a:cubicBezTo>
                  <a:pt x="12840" y="4779"/>
                  <a:pt x="13261" y="4731"/>
                  <a:pt x="13692" y="4688"/>
                </a:cubicBezTo>
                <a:cubicBezTo>
                  <a:pt x="13905" y="4667"/>
                  <a:pt x="14101" y="4653"/>
                  <a:pt x="14312" y="4614"/>
                </a:cubicBezTo>
                <a:cubicBezTo>
                  <a:pt x="14505" y="4578"/>
                  <a:pt x="14690" y="4525"/>
                  <a:pt x="14883" y="4490"/>
                </a:cubicBezTo>
                <a:cubicBezTo>
                  <a:pt x="15048" y="4460"/>
                  <a:pt x="15212" y="4454"/>
                  <a:pt x="15379" y="4440"/>
                </a:cubicBezTo>
                <a:cubicBezTo>
                  <a:pt x="15719" y="4412"/>
                  <a:pt x="16053" y="4393"/>
                  <a:pt x="16396" y="4390"/>
                </a:cubicBezTo>
                <a:cubicBezTo>
                  <a:pt x="17075" y="4385"/>
                  <a:pt x="17755" y="4380"/>
                  <a:pt x="18430" y="4390"/>
                </a:cubicBezTo>
                <a:cubicBezTo>
                  <a:pt x="18655" y="4393"/>
                  <a:pt x="18876" y="4399"/>
                  <a:pt x="19100" y="4415"/>
                </a:cubicBezTo>
                <a:cubicBezTo>
                  <a:pt x="19322" y="4431"/>
                  <a:pt x="19525" y="4420"/>
                  <a:pt x="19745" y="4415"/>
                </a:cubicBezTo>
                <a:cubicBezTo>
                  <a:pt x="19803" y="4414"/>
                  <a:pt x="19860" y="4417"/>
                  <a:pt x="19918" y="4415"/>
                </a:cubicBezTo>
                <a:cubicBezTo>
                  <a:pt x="19753" y="4457"/>
                  <a:pt x="19653" y="4482"/>
                  <a:pt x="19521" y="4514"/>
                </a:cubicBezTo>
              </a:path>
              <a:path w="17786" h="7442">
                <a:moveTo>
                  <a:pt x="14163" y="4986"/>
                </a:moveTo>
                <a:cubicBezTo>
                  <a:pt x="14326" y="4959"/>
                  <a:pt x="14494" y="4921"/>
                  <a:pt x="14660" y="4911"/>
                </a:cubicBezTo>
                <a:cubicBezTo>
                  <a:pt x="14888" y="4897"/>
                  <a:pt x="15124" y="4871"/>
                  <a:pt x="15354" y="4887"/>
                </a:cubicBezTo>
                <a:cubicBezTo>
                  <a:pt x="15603" y="4905"/>
                  <a:pt x="15847" y="4911"/>
                  <a:pt x="16098" y="4911"/>
                </a:cubicBezTo>
                <a:cubicBezTo>
                  <a:pt x="16334" y="4911"/>
                  <a:pt x="16557" y="4915"/>
                  <a:pt x="16793" y="4911"/>
                </a:cubicBezTo>
                <a:cubicBezTo>
                  <a:pt x="17216" y="4904"/>
                  <a:pt x="17638" y="4918"/>
                  <a:pt x="18058" y="4887"/>
                </a:cubicBezTo>
                <a:cubicBezTo>
                  <a:pt x="18640" y="4844"/>
                  <a:pt x="19410" y="4814"/>
                  <a:pt x="19943" y="4911"/>
                </a:cubicBezTo>
              </a:path>
              <a:path w="17786" h="7442">
                <a:moveTo>
                  <a:pt x="14461" y="5383"/>
                </a:moveTo>
                <a:cubicBezTo>
                  <a:pt x="14525" y="5371"/>
                  <a:pt x="14577" y="5360"/>
                  <a:pt x="14660" y="5358"/>
                </a:cubicBezTo>
                <a:cubicBezTo>
                  <a:pt x="15074" y="5349"/>
                  <a:pt x="15489" y="5357"/>
                  <a:pt x="15900" y="5333"/>
                </a:cubicBezTo>
                <a:cubicBezTo>
                  <a:pt x="17111" y="5261"/>
                  <a:pt x="18337" y="5397"/>
                  <a:pt x="19546" y="5308"/>
                </a:cubicBezTo>
                <a:cubicBezTo>
                  <a:pt x="19611" y="5303"/>
                  <a:pt x="19679" y="5308"/>
                  <a:pt x="19745" y="5308"/>
                </a:cubicBezTo>
              </a:path>
              <a:path w="17786" h="7442">
                <a:moveTo>
                  <a:pt x="10964" y="7789"/>
                </a:moveTo>
                <a:cubicBezTo>
                  <a:pt x="11112" y="7789"/>
                  <a:pt x="11241" y="7727"/>
                  <a:pt x="11385" y="7714"/>
                </a:cubicBezTo>
                <a:cubicBezTo>
                  <a:pt x="11627" y="7692"/>
                  <a:pt x="11889" y="7713"/>
                  <a:pt x="12129" y="7665"/>
                </a:cubicBezTo>
                <a:cubicBezTo>
                  <a:pt x="12170" y="7645"/>
                  <a:pt x="12176" y="7636"/>
                  <a:pt x="12204" y="7640"/>
                </a:cubicBezTo>
              </a:path>
              <a:path w="17786" h="7442">
                <a:moveTo>
                  <a:pt x="5383" y="11807"/>
                </a:moveTo>
                <a:cubicBezTo>
                  <a:pt x="5460" y="11794"/>
                  <a:pt x="5557" y="11777"/>
                  <a:pt x="5631" y="11757"/>
                </a:cubicBezTo>
                <a:cubicBezTo>
                  <a:pt x="5714" y="11735"/>
                  <a:pt x="5819" y="11712"/>
                  <a:pt x="5904" y="11708"/>
                </a:cubicBezTo>
                <a:cubicBezTo>
                  <a:pt x="6056" y="11700"/>
                  <a:pt x="6203" y="11712"/>
                  <a:pt x="6350" y="11733"/>
                </a:cubicBezTo>
                <a:cubicBezTo>
                  <a:pt x="6461" y="11749"/>
                  <a:pt x="6584" y="11733"/>
                  <a:pt x="6697" y="117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63840" y="4660920"/>
            <a:ext cx="885960" cy="1090440"/>
          </a:xfrm>
          <a:custGeom>
            <a:avLst/>
            <a:gdLst/>
            <a:ahLst/>
            <a:rect l="l" t="t" r="r" b="b"/>
            <a:pathLst>
              <a:path w="2457" h="3027">
                <a:moveTo>
                  <a:pt x="6846" y="14114"/>
                </a:moveTo>
                <a:cubicBezTo>
                  <a:pt x="6879" y="14095"/>
                  <a:pt x="7094" y="13993"/>
                  <a:pt x="7094" y="13990"/>
                </a:cubicBezTo>
                <a:cubicBezTo>
                  <a:pt x="7086" y="13973"/>
                  <a:pt x="7077" y="13957"/>
                  <a:pt x="7069" y="13940"/>
                </a:cubicBezTo>
              </a:path>
              <a:path w="2457" h="3027">
                <a:moveTo>
                  <a:pt x="6995" y="15453"/>
                </a:moveTo>
                <a:cubicBezTo>
                  <a:pt x="7055" y="15468"/>
                  <a:pt x="7152" y="15560"/>
                  <a:pt x="7218" y="15553"/>
                </a:cubicBezTo>
                <a:cubicBezTo>
                  <a:pt x="7218" y="15545"/>
                  <a:pt x="7218" y="15536"/>
                  <a:pt x="7218" y="15528"/>
                </a:cubicBezTo>
              </a:path>
              <a:path w="2457" h="3027">
                <a:moveTo>
                  <a:pt x="7689" y="15528"/>
                </a:moveTo>
                <a:cubicBezTo>
                  <a:pt x="7681" y="15520"/>
                  <a:pt x="7673" y="15511"/>
                  <a:pt x="7665" y="15503"/>
                </a:cubicBezTo>
                <a:cubicBezTo>
                  <a:pt x="7665" y="15657"/>
                  <a:pt x="7692" y="15797"/>
                  <a:pt x="7714" y="15949"/>
                </a:cubicBezTo>
                <a:cubicBezTo>
                  <a:pt x="7714" y="15974"/>
                  <a:pt x="7714" y="15982"/>
                  <a:pt x="7714" y="15949"/>
                </a:cubicBezTo>
              </a:path>
              <a:path w="2457" h="3027">
                <a:moveTo>
                  <a:pt x="7342" y="13494"/>
                </a:moveTo>
                <a:cubicBezTo>
                  <a:pt x="7382" y="13652"/>
                  <a:pt x="7420" y="13809"/>
                  <a:pt x="7466" y="13965"/>
                </a:cubicBezTo>
              </a:path>
              <a:path w="2457" h="3027">
                <a:moveTo>
                  <a:pt x="8806" y="13072"/>
                </a:moveTo>
                <a:cubicBezTo>
                  <a:pt x="8857" y="12993"/>
                  <a:pt x="8849" y="12996"/>
                  <a:pt x="8930" y="12948"/>
                </a:cubicBezTo>
                <a:cubicBezTo>
                  <a:pt x="9034" y="13146"/>
                  <a:pt x="9088" y="13365"/>
                  <a:pt x="8830" y="13494"/>
                </a:cubicBezTo>
                <a:cubicBezTo>
                  <a:pt x="8797" y="13494"/>
                  <a:pt x="8764" y="13494"/>
                  <a:pt x="8731" y="13494"/>
                </a:cubicBezTo>
                <a:cubicBezTo>
                  <a:pt x="8731" y="13362"/>
                  <a:pt x="8816" y="13339"/>
                  <a:pt x="8954" y="13370"/>
                </a:cubicBezTo>
                <a:cubicBezTo>
                  <a:pt x="9068" y="13396"/>
                  <a:pt x="9053" y="13442"/>
                  <a:pt x="9103" y="13519"/>
                </a:cubicBezTo>
              </a:path>
              <a:path w="2457" h="3027">
                <a:moveTo>
                  <a:pt x="8781" y="15205"/>
                </a:moveTo>
                <a:cubicBezTo>
                  <a:pt x="8831" y="15222"/>
                  <a:pt x="8891" y="15211"/>
                  <a:pt x="8979" y="15205"/>
                </a:cubicBezTo>
                <a:cubicBezTo>
                  <a:pt x="9063" y="15358"/>
                  <a:pt x="9027" y="15432"/>
                  <a:pt x="8905" y="15553"/>
                </a:cubicBezTo>
                <a:cubicBezTo>
                  <a:pt x="8897" y="15561"/>
                  <a:pt x="8888" y="15569"/>
                  <a:pt x="8880" y="15577"/>
                </a:cubicBezTo>
                <a:cubicBezTo>
                  <a:pt x="8909" y="15541"/>
                  <a:pt x="9128" y="15407"/>
                  <a:pt x="9128" y="15577"/>
                </a:cubicBezTo>
                <a:cubicBezTo>
                  <a:pt x="9128" y="15719"/>
                  <a:pt x="8800" y="15898"/>
                  <a:pt x="8781" y="15726"/>
                </a:cubicBezTo>
                <a:cubicBezTo>
                  <a:pt x="8789" y="15676"/>
                  <a:pt x="8798" y="15627"/>
                  <a:pt x="8806" y="15577"/>
                </a:cubicBezTo>
              </a:path>
              <a:path w="2457" h="3027">
                <a:moveTo>
                  <a:pt x="8706" y="14759"/>
                </a:moveTo>
                <a:cubicBezTo>
                  <a:pt x="8896" y="14737"/>
                  <a:pt x="9086" y="14720"/>
                  <a:pt x="9277" y="14709"/>
                </a:cubicBezTo>
                <a:cubicBezTo>
                  <a:pt x="9285" y="14709"/>
                  <a:pt x="9294" y="14709"/>
                  <a:pt x="9302" y="147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52960" y="3741840"/>
            <a:ext cx="820800" cy="465120"/>
          </a:xfrm>
          <a:custGeom>
            <a:avLst/>
            <a:gdLst/>
            <a:ahLst/>
            <a:rect l="l" t="t" r="r" b="b"/>
            <a:pathLst>
              <a:path w="2283" h="1291">
                <a:moveTo>
                  <a:pt x="11757" y="10815"/>
                </a:moveTo>
                <a:cubicBezTo>
                  <a:pt x="11685" y="10938"/>
                  <a:pt x="11846" y="10693"/>
                  <a:pt x="11956" y="10740"/>
                </a:cubicBezTo>
                <a:cubicBezTo>
                  <a:pt x="12338" y="10905"/>
                  <a:pt x="11912" y="11409"/>
                  <a:pt x="11733" y="11534"/>
                </a:cubicBezTo>
                <a:cubicBezTo>
                  <a:pt x="11611" y="11619"/>
                  <a:pt x="11545" y="11617"/>
                  <a:pt x="11559" y="11534"/>
                </a:cubicBezTo>
                <a:cubicBezTo>
                  <a:pt x="11703" y="11417"/>
                  <a:pt x="11909" y="11323"/>
                  <a:pt x="12030" y="11559"/>
                </a:cubicBezTo>
                <a:cubicBezTo>
                  <a:pt x="12038" y="11600"/>
                  <a:pt x="12047" y="11642"/>
                  <a:pt x="12055" y="11683"/>
                </a:cubicBezTo>
              </a:path>
              <a:path w="2283" h="1291">
                <a:moveTo>
                  <a:pt x="12427" y="10641"/>
                </a:moveTo>
                <a:cubicBezTo>
                  <a:pt x="12440" y="10603"/>
                  <a:pt x="12568" y="10526"/>
                  <a:pt x="12626" y="10542"/>
                </a:cubicBezTo>
                <a:cubicBezTo>
                  <a:pt x="12883" y="10615"/>
                  <a:pt x="12587" y="10837"/>
                  <a:pt x="12526" y="10914"/>
                </a:cubicBezTo>
                <a:cubicBezTo>
                  <a:pt x="12526" y="10922"/>
                  <a:pt x="12526" y="10931"/>
                  <a:pt x="12526" y="10939"/>
                </a:cubicBezTo>
                <a:cubicBezTo>
                  <a:pt x="12586" y="10879"/>
                  <a:pt x="12795" y="10846"/>
                  <a:pt x="12799" y="11013"/>
                </a:cubicBezTo>
                <a:cubicBezTo>
                  <a:pt x="12803" y="11181"/>
                  <a:pt x="12571" y="11503"/>
                  <a:pt x="12378" y="11385"/>
                </a:cubicBezTo>
                <a:cubicBezTo>
                  <a:pt x="12361" y="11352"/>
                  <a:pt x="12345" y="11319"/>
                  <a:pt x="12328" y="11286"/>
                </a:cubicBezTo>
              </a:path>
              <a:path w="2283" h="1291">
                <a:moveTo>
                  <a:pt x="13246" y="10393"/>
                </a:moveTo>
                <a:cubicBezTo>
                  <a:pt x="13089" y="10445"/>
                  <a:pt x="13065" y="10541"/>
                  <a:pt x="13047" y="10716"/>
                </a:cubicBezTo>
                <a:cubicBezTo>
                  <a:pt x="13047" y="10724"/>
                  <a:pt x="13047" y="10732"/>
                  <a:pt x="13047" y="10740"/>
                </a:cubicBezTo>
                <a:cubicBezTo>
                  <a:pt x="13236" y="10665"/>
                  <a:pt x="13245" y="10626"/>
                  <a:pt x="13196" y="10443"/>
                </a:cubicBezTo>
                <a:cubicBezTo>
                  <a:pt x="13196" y="10408"/>
                  <a:pt x="13205" y="10395"/>
                  <a:pt x="13246" y="10393"/>
                </a:cubicBezTo>
                <a:cubicBezTo>
                  <a:pt x="13499" y="10568"/>
                  <a:pt x="13492" y="10739"/>
                  <a:pt x="13419" y="11038"/>
                </a:cubicBezTo>
                <a:cubicBezTo>
                  <a:pt x="13385" y="11176"/>
                  <a:pt x="13301" y="11360"/>
                  <a:pt x="13370" y="11237"/>
                </a:cubicBezTo>
              </a:path>
              <a:path w="2283" h="1291">
                <a:moveTo>
                  <a:pt x="13593" y="11212"/>
                </a:moveTo>
                <a:cubicBezTo>
                  <a:pt x="13593" y="11245"/>
                  <a:pt x="13593" y="11278"/>
                  <a:pt x="13593" y="11311"/>
                </a:cubicBezTo>
                <a:cubicBezTo>
                  <a:pt x="13675" y="11297"/>
                  <a:pt x="13944" y="11185"/>
                  <a:pt x="13767" y="11063"/>
                </a:cubicBezTo>
                <a:cubicBezTo>
                  <a:pt x="13666" y="11063"/>
                  <a:pt x="13632" y="11063"/>
                  <a:pt x="13568" y="110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2286000"/>
            <a:ext cx="1839960" cy="1992240"/>
          </a:xfrm>
          <a:custGeom>
            <a:avLst/>
            <a:gdLst/>
            <a:ahLst/>
            <a:rect l="l" t="t" r="r" b="b"/>
            <a:pathLst>
              <a:path w="5111" h="5532">
                <a:moveTo>
                  <a:pt x="16966" y="6672"/>
                </a:moveTo>
                <a:cubicBezTo>
                  <a:pt x="17103" y="6624"/>
                  <a:pt x="17259" y="6588"/>
                  <a:pt x="17388" y="6524"/>
                </a:cubicBezTo>
                <a:cubicBezTo>
                  <a:pt x="17396" y="6516"/>
                  <a:pt x="17405" y="6507"/>
                  <a:pt x="17413" y="6499"/>
                </a:cubicBezTo>
                <a:cubicBezTo>
                  <a:pt x="17396" y="6770"/>
                  <a:pt x="17342" y="7029"/>
                  <a:pt x="17289" y="7293"/>
                </a:cubicBezTo>
                <a:cubicBezTo>
                  <a:pt x="17289" y="7301"/>
                  <a:pt x="17289" y="7309"/>
                  <a:pt x="17289" y="7317"/>
                </a:cubicBezTo>
              </a:path>
              <a:path w="5111" h="5532">
                <a:moveTo>
                  <a:pt x="16098" y="7689"/>
                </a:moveTo>
                <a:cubicBezTo>
                  <a:pt x="16455" y="7658"/>
                  <a:pt x="16804" y="7571"/>
                  <a:pt x="17165" y="7541"/>
                </a:cubicBezTo>
                <a:cubicBezTo>
                  <a:pt x="17512" y="7513"/>
                  <a:pt x="17838" y="7517"/>
                  <a:pt x="18182" y="7541"/>
                </a:cubicBezTo>
                <a:cubicBezTo>
                  <a:pt x="18190" y="7541"/>
                  <a:pt x="18199" y="7541"/>
                  <a:pt x="18207" y="7541"/>
                </a:cubicBezTo>
              </a:path>
              <a:path w="5111" h="5532">
                <a:moveTo>
                  <a:pt x="16669" y="8062"/>
                </a:moveTo>
                <a:cubicBezTo>
                  <a:pt x="16669" y="7863"/>
                  <a:pt x="16654" y="8411"/>
                  <a:pt x="16619" y="8607"/>
                </a:cubicBezTo>
                <a:cubicBezTo>
                  <a:pt x="16612" y="8645"/>
                  <a:pt x="16582" y="8914"/>
                  <a:pt x="16545" y="8806"/>
                </a:cubicBezTo>
              </a:path>
              <a:path w="5111" h="5532">
                <a:moveTo>
                  <a:pt x="17115" y="8037"/>
                </a:moveTo>
                <a:cubicBezTo>
                  <a:pt x="17013" y="8285"/>
                  <a:pt x="16888" y="8441"/>
                  <a:pt x="17066" y="8632"/>
                </a:cubicBezTo>
                <a:cubicBezTo>
                  <a:pt x="17183" y="8552"/>
                  <a:pt x="17476" y="8282"/>
                  <a:pt x="17214" y="8136"/>
                </a:cubicBezTo>
                <a:cubicBezTo>
                  <a:pt x="17173" y="8136"/>
                  <a:pt x="17131" y="8136"/>
                  <a:pt x="17090" y="8136"/>
                </a:cubicBezTo>
              </a:path>
              <a:path w="5111" h="5532">
                <a:moveTo>
                  <a:pt x="17537" y="7938"/>
                </a:moveTo>
                <a:cubicBezTo>
                  <a:pt x="17492" y="8206"/>
                  <a:pt x="17460" y="8331"/>
                  <a:pt x="17636" y="8533"/>
                </a:cubicBezTo>
                <a:cubicBezTo>
                  <a:pt x="17769" y="8463"/>
                  <a:pt x="18158" y="8208"/>
                  <a:pt x="17884" y="8012"/>
                </a:cubicBezTo>
                <a:cubicBezTo>
                  <a:pt x="17719" y="7988"/>
                  <a:pt x="17669" y="7978"/>
                  <a:pt x="17562" y="8012"/>
                </a:cubicBezTo>
              </a:path>
              <a:path w="5111" h="5532">
                <a:moveTo>
                  <a:pt x="18926" y="7441"/>
                </a:moveTo>
                <a:cubicBezTo>
                  <a:pt x="19078" y="7413"/>
                  <a:pt x="19167" y="7390"/>
                  <a:pt x="19298" y="7317"/>
                </a:cubicBezTo>
              </a:path>
              <a:path w="5111" h="5532">
                <a:moveTo>
                  <a:pt x="19794" y="6821"/>
                </a:moveTo>
                <a:cubicBezTo>
                  <a:pt x="19939" y="6821"/>
                  <a:pt x="20073" y="6791"/>
                  <a:pt x="20216" y="6772"/>
                </a:cubicBezTo>
                <a:cubicBezTo>
                  <a:pt x="20224" y="6772"/>
                  <a:pt x="20233" y="6772"/>
                  <a:pt x="20241" y="6772"/>
                </a:cubicBezTo>
                <a:cubicBezTo>
                  <a:pt x="20198" y="7004"/>
                  <a:pt x="20107" y="7216"/>
                  <a:pt x="20042" y="7441"/>
                </a:cubicBezTo>
                <a:cubicBezTo>
                  <a:pt x="20011" y="7549"/>
                  <a:pt x="20043" y="7626"/>
                  <a:pt x="19993" y="7541"/>
                </a:cubicBezTo>
              </a:path>
              <a:path w="5111" h="5532">
                <a:moveTo>
                  <a:pt x="20563" y="6400"/>
                </a:moveTo>
                <a:cubicBezTo>
                  <a:pt x="20480" y="6564"/>
                  <a:pt x="20415" y="6576"/>
                  <a:pt x="20464" y="6747"/>
                </a:cubicBezTo>
                <a:cubicBezTo>
                  <a:pt x="20602" y="6704"/>
                  <a:pt x="20745" y="6576"/>
                  <a:pt x="20638" y="6400"/>
                </a:cubicBezTo>
                <a:cubicBezTo>
                  <a:pt x="20613" y="6383"/>
                  <a:pt x="20588" y="6367"/>
                  <a:pt x="20563" y="6350"/>
                </a:cubicBezTo>
                <a:cubicBezTo>
                  <a:pt x="20636" y="6350"/>
                  <a:pt x="20772" y="6313"/>
                  <a:pt x="20811" y="6400"/>
                </a:cubicBezTo>
                <a:cubicBezTo>
                  <a:pt x="20848" y="6482"/>
                  <a:pt x="20803" y="6700"/>
                  <a:pt x="20786" y="6772"/>
                </a:cubicBezTo>
                <a:cubicBezTo>
                  <a:pt x="20744" y="6956"/>
                  <a:pt x="20710" y="7141"/>
                  <a:pt x="20638" y="7317"/>
                </a:cubicBezTo>
              </a:path>
              <a:path w="5111" h="5532">
                <a:moveTo>
                  <a:pt x="21034" y="7119"/>
                </a:moveTo>
                <a:cubicBezTo>
                  <a:pt x="20986" y="7219"/>
                  <a:pt x="21075" y="7310"/>
                  <a:pt x="21183" y="7218"/>
                </a:cubicBezTo>
                <a:cubicBezTo>
                  <a:pt x="21353" y="7074"/>
                  <a:pt x="21040" y="7132"/>
                  <a:pt x="21010" y="7144"/>
                </a:cubicBezTo>
              </a:path>
              <a:path w="5111" h="5532">
                <a:moveTo>
                  <a:pt x="17115" y="10071"/>
                </a:moveTo>
                <a:cubicBezTo>
                  <a:pt x="17174" y="9998"/>
                  <a:pt x="17190" y="9982"/>
                  <a:pt x="17289" y="9971"/>
                </a:cubicBezTo>
                <a:cubicBezTo>
                  <a:pt x="17327" y="10124"/>
                  <a:pt x="17306" y="10143"/>
                  <a:pt x="17190" y="10244"/>
                </a:cubicBezTo>
                <a:cubicBezTo>
                  <a:pt x="17182" y="10252"/>
                  <a:pt x="17173" y="10261"/>
                  <a:pt x="17165" y="10269"/>
                </a:cubicBezTo>
                <a:cubicBezTo>
                  <a:pt x="17249" y="10269"/>
                  <a:pt x="17416" y="10277"/>
                  <a:pt x="17363" y="10418"/>
                </a:cubicBezTo>
                <a:cubicBezTo>
                  <a:pt x="17296" y="10597"/>
                  <a:pt x="17134" y="10569"/>
                  <a:pt x="16991" y="10542"/>
                </a:cubicBezTo>
              </a:path>
              <a:path w="5111" h="5532">
                <a:moveTo>
                  <a:pt x="16570" y="10790"/>
                </a:moveTo>
                <a:cubicBezTo>
                  <a:pt x="16890" y="10738"/>
                  <a:pt x="17212" y="10723"/>
                  <a:pt x="17537" y="10740"/>
                </a:cubicBezTo>
                <a:cubicBezTo>
                  <a:pt x="17672" y="10747"/>
                  <a:pt x="17779" y="10765"/>
                  <a:pt x="17909" y="10765"/>
                </a:cubicBezTo>
              </a:path>
              <a:path w="5111" h="5532">
                <a:moveTo>
                  <a:pt x="17090" y="11038"/>
                </a:moveTo>
                <a:cubicBezTo>
                  <a:pt x="17090" y="11189"/>
                  <a:pt x="17051" y="11314"/>
                  <a:pt x="17016" y="11460"/>
                </a:cubicBezTo>
                <a:cubicBezTo>
                  <a:pt x="17146" y="11460"/>
                  <a:pt x="17261" y="11456"/>
                  <a:pt x="17388" y="11435"/>
                </a:cubicBezTo>
              </a:path>
              <a:path w="5111" h="5532">
                <a:moveTo>
                  <a:pt x="17264" y="11013"/>
                </a:moveTo>
                <a:cubicBezTo>
                  <a:pt x="17345" y="11122"/>
                  <a:pt x="17276" y="11391"/>
                  <a:pt x="17264" y="11509"/>
                </a:cubicBezTo>
                <a:cubicBezTo>
                  <a:pt x="17251" y="11638"/>
                  <a:pt x="17239" y="11753"/>
                  <a:pt x="17239" y="11881"/>
                </a:cubicBezTo>
              </a:path>
              <a:path w="5111" h="5532">
                <a:moveTo>
                  <a:pt x="19323" y="10641"/>
                </a:moveTo>
                <a:cubicBezTo>
                  <a:pt x="19434" y="10641"/>
                  <a:pt x="19536" y="10625"/>
                  <a:pt x="19645" y="10616"/>
                </a:cubicBezTo>
                <a:cubicBezTo>
                  <a:pt x="19670" y="10616"/>
                  <a:pt x="19695" y="10616"/>
                  <a:pt x="19720" y="10616"/>
                </a:cubicBezTo>
              </a:path>
              <a:path w="5111" h="5532">
                <a:moveTo>
                  <a:pt x="18157" y="10716"/>
                </a:moveTo>
                <a:cubicBezTo>
                  <a:pt x="18108" y="10862"/>
                  <a:pt x="18058" y="10983"/>
                  <a:pt x="18058" y="11137"/>
                </a:cubicBezTo>
              </a:path>
              <a:path w="5111" h="5532">
                <a:moveTo>
                  <a:pt x="18331" y="11038"/>
                </a:moveTo>
                <a:cubicBezTo>
                  <a:pt x="18415" y="11026"/>
                  <a:pt x="18572" y="10945"/>
                  <a:pt x="18579" y="11088"/>
                </a:cubicBezTo>
                <a:cubicBezTo>
                  <a:pt x="18586" y="11232"/>
                  <a:pt x="18472" y="11334"/>
                  <a:pt x="18504" y="11460"/>
                </a:cubicBezTo>
                <a:cubicBezTo>
                  <a:pt x="18604" y="11435"/>
                  <a:pt x="18675" y="11407"/>
                  <a:pt x="18703" y="11311"/>
                </a:cubicBezTo>
              </a:path>
              <a:path w="5111" h="5532">
                <a:moveTo>
                  <a:pt x="18703" y="10988"/>
                </a:moveTo>
                <a:cubicBezTo>
                  <a:pt x="18719" y="11052"/>
                  <a:pt x="18786" y="11057"/>
                  <a:pt x="18852" y="11088"/>
                </a:cubicBezTo>
                <a:cubicBezTo>
                  <a:pt x="18956" y="11137"/>
                  <a:pt x="18901" y="11179"/>
                  <a:pt x="18827" y="11187"/>
                </a:cubicBezTo>
              </a:path>
              <a:path w="5111" h="5532">
                <a:moveTo>
                  <a:pt x="18678" y="11013"/>
                </a:moveTo>
                <a:cubicBezTo>
                  <a:pt x="18765" y="10969"/>
                  <a:pt x="18759" y="10975"/>
                  <a:pt x="18802" y="10889"/>
                </a:cubicBezTo>
              </a:path>
              <a:path w="5111" h="5532">
                <a:moveTo>
                  <a:pt x="18331" y="10914"/>
                </a:moveTo>
                <a:cubicBezTo>
                  <a:pt x="18407" y="10870"/>
                  <a:pt x="18515" y="10839"/>
                  <a:pt x="18604" y="10815"/>
                </a:cubicBezTo>
                <a:cubicBezTo>
                  <a:pt x="18612" y="10815"/>
                  <a:pt x="18620" y="10815"/>
                  <a:pt x="18628" y="10815"/>
                </a:cubicBezTo>
              </a:path>
              <a:path w="5111" h="5532">
                <a:moveTo>
                  <a:pt x="18231" y="10517"/>
                </a:moveTo>
                <a:cubicBezTo>
                  <a:pt x="18315" y="10459"/>
                  <a:pt x="18332" y="10448"/>
                  <a:pt x="18430" y="10468"/>
                </a:cubicBezTo>
                <a:cubicBezTo>
                  <a:pt x="18415" y="10593"/>
                  <a:pt x="18368" y="10678"/>
                  <a:pt x="18331" y="10790"/>
                </a:cubicBezTo>
                <a:cubicBezTo>
                  <a:pt x="18460" y="10790"/>
                  <a:pt x="18505" y="10769"/>
                  <a:pt x="18604" y="10691"/>
                </a:cubicBezTo>
              </a:path>
              <a:path w="5111" h="5532">
                <a:moveTo>
                  <a:pt x="18529" y="10393"/>
                </a:moveTo>
                <a:cubicBezTo>
                  <a:pt x="18565" y="10535"/>
                  <a:pt x="18655" y="10456"/>
                  <a:pt x="18752" y="10542"/>
                </a:cubicBezTo>
                <a:cubicBezTo>
                  <a:pt x="18907" y="10679"/>
                  <a:pt x="18624" y="10656"/>
                  <a:pt x="18579" y="10641"/>
                </a:cubicBezTo>
              </a:path>
              <a:path w="5111" h="5532">
                <a:moveTo>
                  <a:pt x="20042" y="10195"/>
                </a:moveTo>
                <a:cubicBezTo>
                  <a:pt x="20006" y="10177"/>
                  <a:pt x="20153" y="10165"/>
                  <a:pt x="20216" y="10145"/>
                </a:cubicBezTo>
                <a:cubicBezTo>
                  <a:pt x="20241" y="10137"/>
                  <a:pt x="20265" y="10128"/>
                  <a:pt x="20290" y="10120"/>
                </a:cubicBezTo>
                <a:cubicBezTo>
                  <a:pt x="20341" y="10256"/>
                  <a:pt x="20320" y="10442"/>
                  <a:pt x="20290" y="10592"/>
                </a:cubicBezTo>
                <a:cubicBezTo>
                  <a:pt x="20286" y="10613"/>
                  <a:pt x="20222" y="10797"/>
                  <a:pt x="20290" y="10616"/>
                </a:cubicBezTo>
              </a:path>
              <a:path w="5111" h="5532">
                <a:moveTo>
                  <a:pt x="20513" y="10170"/>
                </a:moveTo>
                <a:cubicBezTo>
                  <a:pt x="20477" y="10302"/>
                  <a:pt x="20633" y="10283"/>
                  <a:pt x="20737" y="10319"/>
                </a:cubicBezTo>
                <a:cubicBezTo>
                  <a:pt x="20753" y="10327"/>
                  <a:pt x="20770" y="10336"/>
                  <a:pt x="20786" y="10344"/>
                </a:cubicBezTo>
                <a:cubicBezTo>
                  <a:pt x="20713" y="10508"/>
                  <a:pt x="20652" y="10506"/>
                  <a:pt x="20489" y="10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8160" y="2687760"/>
            <a:ext cx="687600" cy="71280"/>
          </a:xfrm>
          <a:custGeom>
            <a:avLst/>
            <a:gdLst/>
            <a:ahLst/>
            <a:rect l="l" t="t" r="r" b="b"/>
            <a:pathLst>
              <a:path w="1911" h="200">
                <a:moveTo>
                  <a:pt x="2729" y="7665"/>
                </a:moveTo>
                <a:cubicBezTo>
                  <a:pt x="2711" y="7634"/>
                  <a:pt x="2677" y="7594"/>
                  <a:pt x="2729" y="7565"/>
                </a:cubicBezTo>
                <a:cubicBezTo>
                  <a:pt x="2772" y="7542"/>
                  <a:pt x="2828" y="7543"/>
                  <a:pt x="2877" y="7541"/>
                </a:cubicBezTo>
                <a:cubicBezTo>
                  <a:pt x="2939" y="7538"/>
                  <a:pt x="2990" y="7522"/>
                  <a:pt x="3051" y="7516"/>
                </a:cubicBezTo>
                <a:cubicBezTo>
                  <a:pt x="3105" y="7511"/>
                  <a:pt x="3148" y="7498"/>
                  <a:pt x="3200" y="7491"/>
                </a:cubicBezTo>
                <a:cubicBezTo>
                  <a:pt x="3324" y="7473"/>
                  <a:pt x="3453" y="7499"/>
                  <a:pt x="3572" y="7516"/>
                </a:cubicBezTo>
                <a:cubicBezTo>
                  <a:pt x="3807" y="7550"/>
                  <a:pt x="4056" y="7509"/>
                  <a:pt x="4291" y="7541"/>
                </a:cubicBezTo>
                <a:cubicBezTo>
                  <a:pt x="4359" y="7550"/>
                  <a:pt x="4412" y="7527"/>
                  <a:pt x="4465" y="7516"/>
                </a:cubicBezTo>
                <a:cubicBezTo>
                  <a:pt x="4491" y="7511"/>
                  <a:pt x="4605" y="7516"/>
                  <a:pt x="4440" y="7516"/>
                </a:cubicBezTo>
              </a:path>
              <a:path w="1911" h="200">
                <a:moveTo>
                  <a:pt x="2629" y="7541"/>
                </a:moveTo>
                <a:cubicBezTo>
                  <a:pt x="2613" y="7520"/>
                  <a:pt x="2619" y="7512"/>
                  <a:pt x="2604" y="7491"/>
                </a:cubicBezTo>
                <a:cubicBezTo>
                  <a:pt x="2672" y="7499"/>
                  <a:pt x="2733" y="7513"/>
                  <a:pt x="2803" y="7516"/>
                </a:cubicBezTo>
                <a:cubicBezTo>
                  <a:pt x="2913" y="7521"/>
                  <a:pt x="3044" y="7510"/>
                  <a:pt x="3150" y="7491"/>
                </a:cubicBezTo>
                <a:cubicBezTo>
                  <a:pt x="3238" y="7475"/>
                  <a:pt x="3307" y="7466"/>
                  <a:pt x="3398" y="7466"/>
                </a:cubicBezTo>
                <a:cubicBezTo>
                  <a:pt x="3495" y="7466"/>
                  <a:pt x="3580" y="7479"/>
                  <a:pt x="3671" y="7491"/>
                </a:cubicBezTo>
                <a:cubicBezTo>
                  <a:pt x="3750" y="7501"/>
                  <a:pt x="3851" y="7508"/>
                  <a:pt x="3919" y="7516"/>
                </a:cubicBezTo>
                <a:cubicBezTo>
                  <a:pt x="4079" y="7535"/>
                  <a:pt x="4253" y="7516"/>
                  <a:pt x="4415" y="75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3080" y="2598840"/>
            <a:ext cx="98280" cy="17280"/>
          </a:xfrm>
          <a:custGeom>
            <a:avLst/>
            <a:gdLst/>
            <a:ahLst/>
            <a:rect l="l" t="t" r="r" b="b"/>
            <a:pathLst>
              <a:path w="274" h="51">
                <a:moveTo>
                  <a:pt x="18951" y="7243"/>
                </a:moveTo>
                <a:cubicBezTo>
                  <a:pt x="19027" y="7300"/>
                  <a:pt x="19136" y="7239"/>
                  <a:pt x="19224" y="72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63840" y="4875120"/>
            <a:ext cx="331920" cy="804960"/>
          </a:xfrm>
          <a:custGeom>
            <a:avLst/>
            <a:gdLst/>
            <a:ahLst/>
            <a:rect l="l" t="t" r="r" b="b"/>
            <a:pathLst>
              <a:path w="919" h="2234">
                <a:moveTo>
                  <a:pt x="6846" y="13717"/>
                </a:moveTo>
                <a:cubicBezTo>
                  <a:pt x="6846" y="13725"/>
                  <a:pt x="6846" y="13734"/>
                  <a:pt x="6846" y="13742"/>
                </a:cubicBezTo>
              </a:path>
              <a:path w="919" h="2234">
                <a:moveTo>
                  <a:pt x="6945" y="14213"/>
                </a:moveTo>
                <a:cubicBezTo>
                  <a:pt x="6973" y="14213"/>
                  <a:pt x="6984" y="14211"/>
                  <a:pt x="6995" y="14188"/>
                </a:cubicBezTo>
              </a:path>
              <a:path w="919" h="2234">
                <a:moveTo>
                  <a:pt x="6995" y="14188"/>
                </a:moveTo>
                <a:lnTo>
                  <a:pt x="6995" y="14188"/>
                </a:lnTo>
              </a:path>
              <a:path w="919" h="2234">
                <a:moveTo>
                  <a:pt x="7069" y="15205"/>
                </a:moveTo>
                <a:cubicBezTo>
                  <a:pt x="7069" y="15213"/>
                  <a:pt x="7069" y="15222"/>
                  <a:pt x="7069" y="15230"/>
                </a:cubicBezTo>
              </a:path>
              <a:path w="919" h="2234">
                <a:moveTo>
                  <a:pt x="7069" y="15701"/>
                </a:moveTo>
                <a:cubicBezTo>
                  <a:pt x="7077" y="15709"/>
                  <a:pt x="7086" y="15718"/>
                  <a:pt x="7094" y="15726"/>
                </a:cubicBezTo>
              </a:path>
              <a:path w="919" h="2234">
                <a:moveTo>
                  <a:pt x="7466" y="15577"/>
                </a:moveTo>
                <a:cubicBezTo>
                  <a:pt x="7476" y="15646"/>
                  <a:pt x="7478" y="15756"/>
                  <a:pt x="7565" y="15776"/>
                </a:cubicBezTo>
                <a:cubicBezTo>
                  <a:pt x="7688" y="15804"/>
                  <a:pt x="7712" y="15708"/>
                  <a:pt x="7764" y="15627"/>
                </a:cubicBezTo>
              </a:path>
              <a:path w="919" h="2234">
                <a:moveTo>
                  <a:pt x="7169" y="13593"/>
                </a:moveTo>
                <a:cubicBezTo>
                  <a:pt x="7184" y="13647"/>
                  <a:pt x="7206" y="13771"/>
                  <a:pt x="7293" y="13742"/>
                </a:cubicBezTo>
                <a:cubicBezTo>
                  <a:pt x="7420" y="13699"/>
                  <a:pt x="7439" y="13652"/>
                  <a:pt x="7466" y="135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27720" y="5545080"/>
            <a:ext cx="1258560" cy="447840"/>
          </a:xfrm>
          <a:custGeom>
            <a:avLst/>
            <a:gdLst/>
            <a:ahLst/>
            <a:rect l="l" t="t" r="r" b="b"/>
            <a:pathLst>
              <a:path w="3498" h="1241">
                <a:moveTo>
                  <a:pt x="14660" y="15677"/>
                </a:moveTo>
                <a:cubicBezTo>
                  <a:pt x="14630" y="15556"/>
                  <a:pt x="14444" y="15611"/>
                  <a:pt x="14362" y="15627"/>
                </a:cubicBezTo>
                <a:cubicBezTo>
                  <a:pt x="14206" y="15672"/>
                  <a:pt x="14164" y="15677"/>
                  <a:pt x="14089" y="15751"/>
                </a:cubicBezTo>
                <a:cubicBezTo>
                  <a:pt x="14192" y="15882"/>
                  <a:pt x="14589" y="16032"/>
                  <a:pt x="14560" y="16247"/>
                </a:cubicBezTo>
                <a:cubicBezTo>
                  <a:pt x="14470" y="16337"/>
                  <a:pt x="14449" y="16367"/>
                  <a:pt x="14362" y="16371"/>
                </a:cubicBezTo>
                <a:cubicBezTo>
                  <a:pt x="14297" y="16113"/>
                  <a:pt x="14380" y="15926"/>
                  <a:pt x="14486" y="15677"/>
                </a:cubicBezTo>
                <a:cubicBezTo>
                  <a:pt x="14506" y="15636"/>
                  <a:pt x="14525" y="15620"/>
                  <a:pt x="14486" y="15627"/>
                </a:cubicBezTo>
              </a:path>
              <a:path w="3498" h="1241">
                <a:moveTo>
                  <a:pt x="13667" y="16594"/>
                </a:moveTo>
                <a:cubicBezTo>
                  <a:pt x="13708" y="16421"/>
                  <a:pt x="13744" y="16233"/>
                  <a:pt x="13717" y="16049"/>
                </a:cubicBezTo>
                <a:cubicBezTo>
                  <a:pt x="13690" y="15863"/>
                  <a:pt x="13608" y="15700"/>
                  <a:pt x="13543" y="15528"/>
                </a:cubicBezTo>
                <a:cubicBezTo>
                  <a:pt x="13882" y="15471"/>
                  <a:pt x="14264" y="15477"/>
                  <a:pt x="14610" y="15453"/>
                </a:cubicBezTo>
                <a:cubicBezTo>
                  <a:pt x="15065" y="15422"/>
                  <a:pt x="15568" y="15352"/>
                  <a:pt x="16024" y="15404"/>
                </a:cubicBezTo>
                <a:cubicBezTo>
                  <a:pt x="16165" y="15420"/>
                  <a:pt x="16006" y="15418"/>
                  <a:pt x="16024" y="15453"/>
                </a:cubicBezTo>
              </a:path>
              <a:path w="3498" h="1241">
                <a:moveTo>
                  <a:pt x="12576" y="15850"/>
                </a:moveTo>
                <a:cubicBezTo>
                  <a:pt x="12598" y="16051"/>
                  <a:pt x="12601" y="16243"/>
                  <a:pt x="12601" y="16446"/>
                </a:cubicBezTo>
                <a:cubicBezTo>
                  <a:pt x="12562" y="16629"/>
                  <a:pt x="12628" y="16329"/>
                  <a:pt x="12675" y="16148"/>
                </a:cubicBezTo>
              </a:path>
              <a:path w="3498" h="1241">
                <a:moveTo>
                  <a:pt x="12874" y="15751"/>
                </a:moveTo>
                <a:cubicBezTo>
                  <a:pt x="12997" y="15793"/>
                  <a:pt x="13038" y="15648"/>
                  <a:pt x="13146" y="15825"/>
                </a:cubicBezTo>
                <a:cubicBezTo>
                  <a:pt x="13315" y="16102"/>
                  <a:pt x="13086" y="16327"/>
                  <a:pt x="12849" y="16421"/>
                </a:cubicBezTo>
                <a:cubicBezTo>
                  <a:pt x="12726" y="16442"/>
                  <a:pt x="12696" y="16469"/>
                  <a:pt x="12650" y="16396"/>
                </a:cubicBezTo>
                <a:cubicBezTo>
                  <a:pt x="12801" y="16266"/>
                  <a:pt x="13025" y="16192"/>
                  <a:pt x="13171" y="16421"/>
                </a:cubicBezTo>
                <a:cubicBezTo>
                  <a:pt x="13206" y="16476"/>
                  <a:pt x="13212" y="16597"/>
                  <a:pt x="13196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0760" y="3625920"/>
            <a:ext cx="571320" cy="322200"/>
          </a:xfrm>
          <a:custGeom>
            <a:avLst/>
            <a:gdLst/>
            <a:ahLst/>
            <a:rect l="l" t="t" r="r" b="b"/>
            <a:pathLst>
              <a:path w="1589" h="894">
                <a:moveTo>
                  <a:pt x="17140" y="10096"/>
                </a:moveTo>
                <a:cubicBezTo>
                  <a:pt x="17140" y="10088"/>
                  <a:pt x="17140" y="10079"/>
                  <a:pt x="17140" y="10071"/>
                </a:cubicBezTo>
              </a:path>
              <a:path w="1589" h="894">
                <a:moveTo>
                  <a:pt x="17140" y="10071"/>
                </a:moveTo>
                <a:lnTo>
                  <a:pt x="17140" y="10071"/>
                </a:lnTo>
              </a:path>
              <a:path w="1589" h="894">
                <a:moveTo>
                  <a:pt x="18058" y="10790"/>
                </a:moveTo>
                <a:cubicBezTo>
                  <a:pt x="18086" y="10857"/>
                  <a:pt x="18132" y="10908"/>
                  <a:pt x="18182" y="10964"/>
                </a:cubicBezTo>
              </a:path>
              <a:path w="1589" h="894">
                <a:moveTo>
                  <a:pt x="18479" y="10443"/>
                </a:moveTo>
                <a:cubicBezTo>
                  <a:pt x="18565" y="10370"/>
                  <a:pt x="18622" y="10335"/>
                  <a:pt x="18728" y="10294"/>
                </a:cubicBezTo>
              </a:path>
              <a:path w="1589" h="894">
                <a:moveTo>
                  <a:pt x="18728" y="10294"/>
                </a:moveTo>
                <a:lnTo>
                  <a:pt x="18728" y="102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83280" y="3571920"/>
            <a:ext cx="911520" cy="401760"/>
          </a:xfrm>
          <a:custGeom>
            <a:avLst/>
            <a:gdLst/>
            <a:ahLst/>
            <a:rect l="l" t="t" r="r" b="b"/>
            <a:pathLst>
              <a:path w="2531" h="1117">
                <a:moveTo>
                  <a:pt x="19397" y="10840"/>
                </a:moveTo>
                <a:cubicBezTo>
                  <a:pt x="19516" y="10819"/>
                  <a:pt x="19629" y="10798"/>
                  <a:pt x="19745" y="10765"/>
                </a:cubicBezTo>
              </a:path>
              <a:path w="2531" h="1117">
                <a:moveTo>
                  <a:pt x="20513" y="10096"/>
                </a:moveTo>
                <a:cubicBezTo>
                  <a:pt x="20629" y="10038"/>
                  <a:pt x="20745" y="9980"/>
                  <a:pt x="20861" y="9922"/>
                </a:cubicBezTo>
              </a:path>
              <a:path w="2531" h="1117">
                <a:moveTo>
                  <a:pt x="21481" y="10889"/>
                </a:moveTo>
                <a:cubicBezTo>
                  <a:pt x="21598" y="10874"/>
                  <a:pt x="21710" y="10848"/>
                  <a:pt x="21828" y="10840"/>
                </a:cubicBezTo>
              </a:path>
              <a:path w="2531" h="1117">
                <a:moveTo>
                  <a:pt x="21580" y="11038"/>
                </a:moveTo>
                <a:cubicBezTo>
                  <a:pt x="21698" y="11030"/>
                  <a:pt x="21811" y="11005"/>
                  <a:pt x="21927" y="109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97840" y="3884760"/>
            <a:ext cx="455400" cy="312480"/>
          </a:xfrm>
          <a:custGeom>
            <a:avLst/>
            <a:gdLst/>
            <a:ahLst/>
            <a:rect l="l" t="t" r="r" b="b"/>
            <a:pathLst>
              <a:path w="1266" h="869">
                <a:moveTo>
                  <a:pt x="19993" y="11063"/>
                </a:moveTo>
                <a:cubicBezTo>
                  <a:pt x="20064" y="11267"/>
                  <a:pt x="20123" y="11444"/>
                  <a:pt x="20141" y="11658"/>
                </a:cubicBezTo>
              </a:path>
              <a:path w="1266" h="869">
                <a:moveTo>
                  <a:pt x="20365" y="11013"/>
                </a:moveTo>
                <a:cubicBezTo>
                  <a:pt x="20344" y="11262"/>
                  <a:pt x="20337" y="11420"/>
                  <a:pt x="20513" y="11584"/>
                </a:cubicBezTo>
                <a:cubicBezTo>
                  <a:pt x="20606" y="11476"/>
                  <a:pt x="20850" y="11145"/>
                  <a:pt x="20538" y="11088"/>
                </a:cubicBezTo>
                <a:cubicBezTo>
                  <a:pt x="20497" y="11096"/>
                  <a:pt x="20455" y="11104"/>
                  <a:pt x="20414" y="11112"/>
                </a:cubicBezTo>
              </a:path>
              <a:path w="1266" h="869">
                <a:moveTo>
                  <a:pt x="20910" y="10964"/>
                </a:moveTo>
                <a:cubicBezTo>
                  <a:pt x="20896" y="11068"/>
                  <a:pt x="20825" y="11436"/>
                  <a:pt x="20985" y="11485"/>
                </a:cubicBezTo>
                <a:cubicBezTo>
                  <a:pt x="21206" y="11552"/>
                  <a:pt x="21235" y="11233"/>
                  <a:pt x="21084" y="11137"/>
                </a:cubicBezTo>
                <a:cubicBezTo>
                  <a:pt x="21010" y="11137"/>
                  <a:pt x="20985" y="11137"/>
                  <a:pt x="20935" y="11137"/>
                </a:cubicBezTo>
              </a:path>
              <a:path w="1266" h="869">
                <a:moveTo>
                  <a:pt x="20067" y="10864"/>
                </a:moveTo>
                <a:cubicBezTo>
                  <a:pt x="20345" y="10809"/>
                  <a:pt x="20599" y="10793"/>
                  <a:pt x="20886" y="10790"/>
                </a:cubicBezTo>
                <a:cubicBezTo>
                  <a:pt x="21010" y="10789"/>
                  <a:pt x="21134" y="10790"/>
                  <a:pt x="21258" y="107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34200" y="3643200"/>
            <a:ext cx="554040" cy="465120"/>
          </a:xfrm>
          <a:custGeom>
            <a:avLst/>
            <a:gdLst/>
            <a:ahLst/>
            <a:rect l="l" t="t" r="r" b="b"/>
            <a:pathLst>
              <a:path w="1539" h="1291">
                <a:moveTo>
                  <a:pt x="22597" y="10567"/>
                </a:moveTo>
                <a:cubicBezTo>
                  <a:pt x="22715" y="10514"/>
                  <a:pt x="22863" y="10502"/>
                  <a:pt x="22994" y="10468"/>
                </a:cubicBezTo>
                <a:cubicBezTo>
                  <a:pt x="22994" y="10751"/>
                  <a:pt x="22949" y="11008"/>
                  <a:pt x="22895" y="11286"/>
                </a:cubicBezTo>
                <a:cubicBezTo>
                  <a:pt x="22870" y="11410"/>
                  <a:pt x="22862" y="11451"/>
                  <a:pt x="22895" y="11286"/>
                </a:cubicBezTo>
              </a:path>
              <a:path w="1539" h="1291">
                <a:moveTo>
                  <a:pt x="23416" y="10393"/>
                </a:moveTo>
                <a:cubicBezTo>
                  <a:pt x="23374" y="10431"/>
                  <a:pt x="23180" y="10538"/>
                  <a:pt x="23168" y="10567"/>
                </a:cubicBezTo>
                <a:cubicBezTo>
                  <a:pt x="23133" y="10654"/>
                  <a:pt x="23127" y="10772"/>
                  <a:pt x="23118" y="10864"/>
                </a:cubicBezTo>
                <a:cubicBezTo>
                  <a:pt x="23213" y="10833"/>
                  <a:pt x="23330" y="10740"/>
                  <a:pt x="23440" y="10815"/>
                </a:cubicBezTo>
                <a:cubicBezTo>
                  <a:pt x="23662" y="10967"/>
                  <a:pt x="23429" y="11271"/>
                  <a:pt x="23242" y="11311"/>
                </a:cubicBezTo>
                <a:cubicBezTo>
                  <a:pt x="23184" y="11303"/>
                  <a:pt x="23126" y="11294"/>
                  <a:pt x="23068" y="11286"/>
                </a:cubicBezTo>
              </a:path>
              <a:path w="1539" h="1291">
                <a:moveTo>
                  <a:pt x="23614" y="10145"/>
                </a:moveTo>
                <a:cubicBezTo>
                  <a:pt x="23568" y="10272"/>
                  <a:pt x="23553" y="10363"/>
                  <a:pt x="23589" y="10492"/>
                </a:cubicBezTo>
                <a:cubicBezTo>
                  <a:pt x="23656" y="10389"/>
                  <a:pt x="23669" y="10330"/>
                  <a:pt x="23639" y="10220"/>
                </a:cubicBezTo>
                <a:cubicBezTo>
                  <a:pt x="23639" y="10173"/>
                  <a:pt x="23651" y="10147"/>
                  <a:pt x="23688" y="10120"/>
                </a:cubicBezTo>
                <a:cubicBezTo>
                  <a:pt x="23975" y="10209"/>
                  <a:pt x="23928" y="10482"/>
                  <a:pt x="23887" y="10765"/>
                </a:cubicBezTo>
                <a:cubicBezTo>
                  <a:pt x="23867" y="10901"/>
                  <a:pt x="23810" y="11029"/>
                  <a:pt x="23788" y="11162"/>
                </a:cubicBezTo>
              </a:path>
              <a:path w="1539" h="1291">
                <a:moveTo>
                  <a:pt x="24011" y="10964"/>
                </a:moveTo>
                <a:cubicBezTo>
                  <a:pt x="24032" y="11048"/>
                  <a:pt x="24033" y="11067"/>
                  <a:pt x="24061" y="11112"/>
                </a:cubicBezTo>
                <a:cubicBezTo>
                  <a:pt x="24129" y="11054"/>
                  <a:pt x="24191" y="10926"/>
                  <a:pt x="24036" y="10939"/>
                </a:cubicBezTo>
                <a:cubicBezTo>
                  <a:pt x="24011" y="10947"/>
                  <a:pt x="23986" y="10956"/>
                  <a:pt x="23961" y="109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vert decimals to percents you multiply a decimal by 100 to find the parts of 100 ….  Shortcut …. Move the decimal 2 spaces to the right and add a %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4267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82 = 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040" y="2633760"/>
            <a:ext cx="3510000" cy="2144520"/>
          </a:xfrm>
          <a:custGeom>
            <a:avLst/>
            <a:gdLst/>
            <a:ahLst/>
            <a:rect l="l" t="t" r="r" b="b"/>
            <a:pathLst>
              <a:path w="9749" h="5955">
                <a:moveTo>
                  <a:pt x="10889" y="7317"/>
                </a:moveTo>
                <a:cubicBezTo>
                  <a:pt x="10897" y="7317"/>
                  <a:pt x="10906" y="7317"/>
                  <a:pt x="10914" y="7317"/>
                </a:cubicBezTo>
              </a:path>
              <a:path w="9749" h="5955">
                <a:moveTo>
                  <a:pt x="1166" y="13271"/>
                </a:moveTo>
                <a:lnTo>
                  <a:pt x="1166" y="132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120" y="4160880"/>
            <a:ext cx="874800" cy="617400"/>
          </a:xfrm>
          <a:custGeom>
            <a:avLst/>
            <a:gdLst/>
            <a:ahLst/>
            <a:rect l="l" t="t" r="r" b="b"/>
            <a:pathLst>
              <a:path w="2432" h="1713">
                <a:moveTo>
                  <a:pt x="1860" y="11658"/>
                </a:moveTo>
                <a:cubicBezTo>
                  <a:pt x="1844" y="11869"/>
                  <a:pt x="1830" y="12096"/>
                  <a:pt x="1786" y="12303"/>
                </a:cubicBezTo>
                <a:cubicBezTo>
                  <a:pt x="1753" y="12369"/>
                  <a:pt x="1753" y="12370"/>
                  <a:pt x="1811" y="12254"/>
                </a:cubicBezTo>
              </a:path>
              <a:path w="2432" h="1713">
                <a:moveTo>
                  <a:pt x="2208" y="11633"/>
                </a:moveTo>
                <a:cubicBezTo>
                  <a:pt x="2166" y="11849"/>
                  <a:pt x="2082" y="12012"/>
                  <a:pt x="2208" y="12179"/>
                </a:cubicBezTo>
                <a:cubicBezTo>
                  <a:pt x="2280" y="12088"/>
                  <a:pt x="2559" y="11710"/>
                  <a:pt x="2257" y="11683"/>
                </a:cubicBezTo>
                <a:cubicBezTo>
                  <a:pt x="2181" y="11722"/>
                  <a:pt x="2129" y="11721"/>
                  <a:pt x="2183" y="11757"/>
                </a:cubicBezTo>
              </a:path>
              <a:path w="2432" h="1713">
                <a:moveTo>
                  <a:pt x="2555" y="11733"/>
                </a:moveTo>
                <a:cubicBezTo>
                  <a:pt x="2531" y="11873"/>
                  <a:pt x="2518" y="11915"/>
                  <a:pt x="2604" y="11981"/>
                </a:cubicBezTo>
                <a:cubicBezTo>
                  <a:pt x="2732" y="11954"/>
                  <a:pt x="3194" y="11744"/>
                  <a:pt x="2853" y="11559"/>
                </a:cubicBezTo>
                <a:cubicBezTo>
                  <a:pt x="2707" y="11588"/>
                  <a:pt x="2651" y="11614"/>
                  <a:pt x="2604" y="11733"/>
                </a:cubicBezTo>
              </a:path>
              <a:path w="2432" h="1713">
                <a:moveTo>
                  <a:pt x="1215" y="13271"/>
                </a:moveTo>
                <a:cubicBezTo>
                  <a:pt x="1653" y="13106"/>
                  <a:pt x="2115" y="13080"/>
                  <a:pt x="2580" y="13047"/>
                </a:cubicBezTo>
                <a:cubicBezTo>
                  <a:pt x="2919" y="13023"/>
                  <a:pt x="3311" y="13095"/>
                  <a:pt x="3646" y="13047"/>
                </a:cubicBezTo>
                <a:cubicBezTo>
                  <a:pt x="3638" y="13039"/>
                  <a:pt x="3629" y="13030"/>
                  <a:pt x="3621" y="130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120" y="4581360"/>
            <a:ext cx="98640" cy="19692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141" y="12725"/>
                </a:moveTo>
                <a:cubicBezTo>
                  <a:pt x="1231" y="12832"/>
                  <a:pt x="1498" y="13107"/>
                  <a:pt x="1414" y="13271"/>
                </a:cubicBezTo>
                <a:cubicBezTo>
                  <a:pt x="1406" y="13246"/>
                  <a:pt x="1397" y="13221"/>
                  <a:pt x="1389" y="13196"/>
                </a:cubicBezTo>
              </a:path>
              <a:path w="274" h="547">
                <a:moveTo>
                  <a:pt x="1240" y="12799"/>
                </a:moveTo>
                <a:cubicBezTo>
                  <a:pt x="1182" y="13034"/>
                  <a:pt x="1166" y="13026"/>
                  <a:pt x="1166" y="132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4240" y="4446720"/>
            <a:ext cx="455760" cy="233280"/>
          </a:xfrm>
          <a:custGeom>
            <a:avLst/>
            <a:gdLst/>
            <a:ahLst/>
            <a:rect l="l" t="t" r="r" b="b"/>
            <a:pathLst>
              <a:path w="1266" h="646">
                <a:moveTo>
                  <a:pt x="2034" y="12750"/>
                </a:moveTo>
                <a:cubicBezTo>
                  <a:pt x="2028" y="12767"/>
                  <a:pt x="1935" y="12914"/>
                  <a:pt x="2009" y="12898"/>
                </a:cubicBezTo>
                <a:cubicBezTo>
                  <a:pt x="2053" y="12877"/>
                  <a:pt x="2065" y="12874"/>
                  <a:pt x="2084" y="12849"/>
                </a:cubicBezTo>
                <a:cubicBezTo>
                  <a:pt x="2031" y="12831"/>
                  <a:pt x="2019" y="12827"/>
                  <a:pt x="1984" y="12874"/>
                </a:cubicBezTo>
              </a:path>
              <a:path w="1266" h="646">
                <a:moveTo>
                  <a:pt x="2654" y="12402"/>
                </a:moveTo>
                <a:cubicBezTo>
                  <a:pt x="2574" y="12438"/>
                  <a:pt x="2313" y="12510"/>
                  <a:pt x="2381" y="12650"/>
                </a:cubicBezTo>
                <a:cubicBezTo>
                  <a:pt x="2477" y="12850"/>
                  <a:pt x="2670" y="12768"/>
                  <a:pt x="2530" y="12998"/>
                </a:cubicBezTo>
                <a:cubicBezTo>
                  <a:pt x="2350" y="12901"/>
                  <a:pt x="2418" y="12787"/>
                  <a:pt x="2555" y="12626"/>
                </a:cubicBezTo>
                <a:cubicBezTo>
                  <a:pt x="2580" y="12626"/>
                  <a:pt x="2588" y="12626"/>
                  <a:pt x="2580" y="12601"/>
                </a:cubicBezTo>
              </a:path>
              <a:path w="1266" h="646">
                <a:moveTo>
                  <a:pt x="2778" y="12402"/>
                </a:moveTo>
                <a:cubicBezTo>
                  <a:pt x="2925" y="12330"/>
                  <a:pt x="3234" y="12369"/>
                  <a:pt x="3200" y="12626"/>
                </a:cubicBezTo>
                <a:cubicBezTo>
                  <a:pt x="3172" y="12837"/>
                  <a:pt x="2900" y="12905"/>
                  <a:pt x="2828" y="12774"/>
                </a:cubicBezTo>
                <a:cubicBezTo>
                  <a:pt x="3028" y="12700"/>
                  <a:pt x="3105" y="12715"/>
                  <a:pt x="3249" y="128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3098880"/>
            <a:ext cx="1473120" cy="81000"/>
          </a:xfrm>
          <a:custGeom>
            <a:avLst/>
            <a:gdLst/>
            <a:ahLst/>
            <a:rect l="l" t="t" r="r" b="b"/>
            <a:pathLst>
              <a:path w="4094" h="224">
                <a:moveTo>
                  <a:pt x="11385" y="8632"/>
                </a:moveTo>
                <a:cubicBezTo>
                  <a:pt x="11472" y="8675"/>
                  <a:pt x="11560" y="8779"/>
                  <a:pt x="11658" y="8806"/>
                </a:cubicBezTo>
                <a:cubicBezTo>
                  <a:pt x="11832" y="8855"/>
                  <a:pt x="11916" y="8702"/>
                  <a:pt x="12005" y="8607"/>
                </a:cubicBezTo>
                <a:cubicBezTo>
                  <a:pt x="12051" y="8671"/>
                  <a:pt x="12023" y="8732"/>
                  <a:pt x="12154" y="8756"/>
                </a:cubicBezTo>
                <a:cubicBezTo>
                  <a:pt x="12304" y="8783"/>
                  <a:pt x="12442" y="8726"/>
                  <a:pt x="12576" y="8682"/>
                </a:cubicBezTo>
                <a:cubicBezTo>
                  <a:pt x="12686" y="8808"/>
                  <a:pt x="12723" y="8860"/>
                  <a:pt x="12948" y="8830"/>
                </a:cubicBezTo>
                <a:cubicBezTo>
                  <a:pt x="13039" y="8818"/>
                  <a:pt x="13338" y="8643"/>
                  <a:pt x="13419" y="8682"/>
                </a:cubicBezTo>
                <a:cubicBezTo>
                  <a:pt x="13642" y="8790"/>
                  <a:pt x="13768" y="8833"/>
                  <a:pt x="14089" y="8781"/>
                </a:cubicBezTo>
                <a:cubicBezTo>
                  <a:pt x="14265" y="8737"/>
                  <a:pt x="14309" y="8729"/>
                  <a:pt x="14412" y="8682"/>
                </a:cubicBezTo>
                <a:cubicBezTo>
                  <a:pt x="14433" y="8797"/>
                  <a:pt x="14414" y="8868"/>
                  <a:pt x="14585" y="8830"/>
                </a:cubicBezTo>
                <a:cubicBezTo>
                  <a:pt x="14735" y="8797"/>
                  <a:pt x="14739" y="8734"/>
                  <a:pt x="14858" y="8781"/>
                </a:cubicBezTo>
                <a:cubicBezTo>
                  <a:pt x="15070" y="8865"/>
                  <a:pt x="15265" y="8791"/>
                  <a:pt x="15478" y="87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3160" y="4616280"/>
            <a:ext cx="374760" cy="152640"/>
          </a:xfrm>
          <a:custGeom>
            <a:avLst/>
            <a:gdLst/>
            <a:ahLst/>
            <a:rect l="l" t="t" r="r" b="b"/>
            <a:pathLst>
              <a:path w="1043" h="423">
                <a:moveTo>
                  <a:pt x="8806" y="12998"/>
                </a:moveTo>
                <a:cubicBezTo>
                  <a:pt x="8773" y="12987"/>
                  <a:pt x="8776" y="12958"/>
                  <a:pt x="8756" y="12948"/>
                </a:cubicBezTo>
                <a:cubicBezTo>
                  <a:pt x="8748" y="12948"/>
                  <a:pt x="8739" y="12948"/>
                  <a:pt x="8731" y="12948"/>
                </a:cubicBezTo>
                <a:cubicBezTo>
                  <a:pt x="8738" y="12980"/>
                  <a:pt x="8753" y="13073"/>
                  <a:pt x="8781" y="13097"/>
                </a:cubicBezTo>
                <a:cubicBezTo>
                  <a:pt x="8813" y="13125"/>
                  <a:pt x="8806" y="13130"/>
                  <a:pt x="8806" y="13196"/>
                </a:cubicBezTo>
                <a:cubicBezTo>
                  <a:pt x="8806" y="13237"/>
                  <a:pt x="8839" y="13242"/>
                  <a:pt x="8880" y="13246"/>
                </a:cubicBezTo>
                <a:cubicBezTo>
                  <a:pt x="8931" y="13251"/>
                  <a:pt x="8981" y="13208"/>
                  <a:pt x="9029" y="13196"/>
                </a:cubicBezTo>
                <a:cubicBezTo>
                  <a:pt x="9058" y="13189"/>
                  <a:pt x="9124" y="13134"/>
                  <a:pt x="9128" y="13122"/>
                </a:cubicBezTo>
                <a:cubicBezTo>
                  <a:pt x="9144" y="13073"/>
                  <a:pt x="9153" y="13028"/>
                  <a:pt x="9153" y="12973"/>
                </a:cubicBezTo>
                <a:cubicBezTo>
                  <a:pt x="9153" y="12948"/>
                  <a:pt x="9153" y="12923"/>
                  <a:pt x="9153" y="12898"/>
                </a:cubicBezTo>
                <a:cubicBezTo>
                  <a:pt x="9153" y="12947"/>
                  <a:pt x="9171" y="12985"/>
                  <a:pt x="9178" y="13022"/>
                </a:cubicBezTo>
                <a:cubicBezTo>
                  <a:pt x="9192" y="13092"/>
                  <a:pt x="9187" y="13110"/>
                  <a:pt x="9252" y="13146"/>
                </a:cubicBezTo>
                <a:cubicBezTo>
                  <a:pt x="9291" y="13168"/>
                  <a:pt x="9384" y="13207"/>
                  <a:pt x="9426" y="13196"/>
                </a:cubicBezTo>
                <a:cubicBezTo>
                  <a:pt x="9470" y="13185"/>
                  <a:pt x="9541" y="13169"/>
                  <a:pt x="9575" y="13146"/>
                </a:cubicBezTo>
                <a:cubicBezTo>
                  <a:pt x="9609" y="13124"/>
                  <a:pt x="9649" y="13111"/>
                  <a:pt x="9674" y="13072"/>
                </a:cubicBezTo>
                <a:cubicBezTo>
                  <a:pt x="9716" y="13006"/>
                  <a:pt x="9702" y="13032"/>
                  <a:pt x="9723" y="12973"/>
                </a:cubicBezTo>
                <a:cubicBezTo>
                  <a:pt x="9738" y="12932"/>
                  <a:pt x="9765" y="12889"/>
                  <a:pt x="9773" y="12874"/>
                </a:cubicBezTo>
                <a:cubicBezTo>
                  <a:pt x="9773" y="12849"/>
                  <a:pt x="9773" y="12841"/>
                  <a:pt x="9773" y="128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5348160"/>
            <a:ext cx="61920" cy="73080"/>
          </a:xfrm>
          <a:custGeom>
            <a:avLst/>
            <a:gdLst/>
            <a:ahLst/>
            <a:rect l="l" t="t" r="r" b="b"/>
            <a:pathLst>
              <a:path w="175" h="199">
                <a:moveTo>
                  <a:pt x="13171" y="14908"/>
                </a:moveTo>
                <a:cubicBezTo>
                  <a:pt x="13171" y="14997"/>
                  <a:pt x="13164" y="15024"/>
                  <a:pt x="13221" y="15056"/>
                </a:cubicBezTo>
                <a:cubicBezTo>
                  <a:pt x="13340" y="14965"/>
                  <a:pt x="13407" y="14892"/>
                  <a:pt x="13221" y="148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4240" y="5224320"/>
            <a:ext cx="554040" cy="500040"/>
          </a:xfrm>
          <a:custGeom>
            <a:avLst/>
            <a:gdLst/>
            <a:ahLst/>
            <a:rect l="l" t="t" r="r" b="b"/>
            <a:pathLst>
              <a:path w="1539" h="1390">
                <a:moveTo>
                  <a:pt x="8632" y="15106"/>
                </a:moveTo>
                <a:cubicBezTo>
                  <a:pt x="8632" y="15098"/>
                  <a:pt x="8632" y="15089"/>
                  <a:pt x="8632" y="15081"/>
                </a:cubicBezTo>
                <a:cubicBezTo>
                  <a:pt x="8514" y="15081"/>
                  <a:pt x="8415" y="15209"/>
                  <a:pt x="8483" y="15329"/>
                </a:cubicBezTo>
                <a:cubicBezTo>
                  <a:pt x="8540" y="15430"/>
                  <a:pt x="8819" y="15200"/>
                  <a:pt x="8607" y="15106"/>
                </a:cubicBezTo>
                <a:cubicBezTo>
                  <a:pt x="8567" y="15126"/>
                  <a:pt x="8551" y="15125"/>
                  <a:pt x="8558" y="15156"/>
                </a:cubicBezTo>
              </a:path>
              <a:path w="1539" h="1390">
                <a:moveTo>
                  <a:pt x="8905" y="14684"/>
                </a:moveTo>
                <a:cubicBezTo>
                  <a:pt x="8895" y="14805"/>
                  <a:pt x="8883" y="14927"/>
                  <a:pt x="8830" y="15032"/>
                </a:cubicBezTo>
                <a:cubicBezTo>
                  <a:pt x="9010" y="15051"/>
                  <a:pt x="9142" y="15056"/>
                  <a:pt x="9252" y="14932"/>
                </a:cubicBezTo>
              </a:path>
              <a:path w="1539" h="1390">
                <a:moveTo>
                  <a:pt x="9153" y="14511"/>
                </a:moveTo>
                <a:cubicBezTo>
                  <a:pt x="9166" y="14760"/>
                  <a:pt x="9178" y="15005"/>
                  <a:pt x="9178" y="15255"/>
                </a:cubicBezTo>
                <a:cubicBezTo>
                  <a:pt x="9178" y="15263"/>
                  <a:pt x="9178" y="15272"/>
                  <a:pt x="9178" y="15280"/>
                </a:cubicBezTo>
              </a:path>
              <a:path w="1539" h="1390">
                <a:moveTo>
                  <a:pt x="9798" y="14858"/>
                </a:moveTo>
                <a:cubicBezTo>
                  <a:pt x="9798" y="14728"/>
                  <a:pt x="9802" y="14652"/>
                  <a:pt x="9699" y="14560"/>
                </a:cubicBezTo>
                <a:cubicBezTo>
                  <a:pt x="9635" y="14529"/>
                  <a:pt x="9603" y="14525"/>
                  <a:pt x="9550" y="14560"/>
                </a:cubicBezTo>
                <a:cubicBezTo>
                  <a:pt x="9523" y="14629"/>
                  <a:pt x="9367" y="15120"/>
                  <a:pt x="9624" y="15007"/>
                </a:cubicBezTo>
                <a:cubicBezTo>
                  <a:pt x="9766" y="14944"/>
                  <a:pt x="9759" y="14783"/>
                  <a:pt x="9773" y="14660"/>
                </a:cubicBezTo>
                <a:cubicBezTo>
                  <a:pt x="9806" y="14877"/>
                  <a:pt x="9803" y="15086"/>
                  <a:pt x="9773" y="15304"/>
                </a:cubicBezTo>
              </a:path>
              <a:path w="1539" h="1390">
                <a:moveTo>
                  <a:pt x="8657" y="15180"/>
                </a:moveTo>
                <a:cubicBezTo>
                  <a:pt x="8657" y="15213"/>
                  <a:pt x="8657" y="15230"/>
                  <a:pt x="8657" y="15255"/>
                </a:cubicBezTo>
                <a:cubicBezTo>
                  <a:pt x="8689" y="15244"/>
                  <a:pt x="8712" y="15126"/>
                  <a:pt x="8682" y="15156"/>
                </a:cubicBezTo>
                <a:cubicBezTo>
                  <a:pt x="8584" y="15253"/>
                  <a:pt x="8574" y="15342"/>
                  <a:pt x="8706" y="15329"/>
                </a:cubicBezTo>
              </a:path>
              <a:path w="1539" h="1390">
                <a:moveTo>
                  <a:pt x="8756" y="15528"/>
                </a:moveTo>
                <a:cubicBezTo>
                  <a:pt x="8728" y="15528"/>
                  <a:pt x="8717" y="15526"/>
                  <a:pt x="8706" y="15503"/>
                </a:cubicBezTo>
                <a:cubicBezTo>
                  <a:pt x="8706" y="15598"/>
                  <a:pt x="8703" y="15683"/>
                  <a:pt x="8731" y="15776"/>
                </a:cubicBezTo>
                <a:cubicBezTo>
                  <a:pt x="8771" y="15908"/>
                  <a:pt x="8870" y="15890"/>
                  <a:pt x="8954" y="15850"/>
                </a:cubicBezTo>
                <a:cubicBezTo>
                  <a:pt x="9036" y="15811"/>
                  <a:pt x="9125" y="15756"/>
                  <a:pt x="9178" y="15677"/>
                </a:cubicBezTo>
                <a:cubicBezTo>
                  <a:pt x="9210" y="15629"/>
                  <a:pt x="9197" y="15623"/>
                  <a:pt x="9203" y="15577"/>
                </a:cubicBezTo>
                <a:cubicBezTo>
                  <a:pt x="9233" y="15685"/>
                  <a:pt x="9244" y="15770"/>
                  <a:pt x="9351" y="15825"/>
                </a:cubicBezTo>
                <a:cubicBezTo>
                  <a:pt x="9492" y="15898"/>
                  <a:pt x="9589" y="15864"/>
                  <a:pt x="9723" y="15801"/>
                </a:cubicBezTo>
                <a:cubicBezTo>
                  <a:pt x="9850" y="15741"/>
                  <a:pt x="9913" y="15680"/>
                  <a:pt x="9996" y="15577"/>
                </a:cubicBezTo>
                <a:cubicBezTo>
                  <a:pt x="10017" y="15551"/>
                  <a:pt x="10015" y="15547"/>
                  <a:pt x="10021" y="15503"/>
                </a:cubicBezTo>
                <a:cubicBezTo>
                  <a:pt x="10014" y="15512"/>
                  <a:pt x="9981" y="15607"/>
                  <a:pt x="9996" y="15577"/>
                </a:cubicBezTo>
                <a:cubicBezTo>
                  <a:pt x="10017" y="15535"/>
                  <a:pt x="10058" y="15429"/>
                  <a:pt x="9971" y="15453"/>
                </a:cubicBezTo>
                <a:cubicBezTo>
                  <a:pt x="9937" y="15462"/>
                  <a:pt x="9933" y="15509"/>
                  <a:pt x="9922" y="155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76760" y="5322960"/>
            <a:ext cx="206280" cy="61920"/>
          </a:xfrm>
          <a:custGeom>
            <a:avLst/>
            <a:gdLst/>
            <a:ahLst/>
            <a:rect l="l" t="t" r="r" b="b"/>
            <a:pathLst>
              <a:path w="572" h="174">
                <a:moveTo>
                  <a:pt x="10492" y="14833"/>
                </a:moveTo>
                <a:cubicBezTo>
                  <a:pt x="10608" y="14776"/>
                  <a:pt x="10795" y="14754"/>
                  <a:pt x="10939" y="14784"/>
                </a:cubicBezTo>
                <a:cubicBezTo>
                  <a:pt x="10947" y="14792"/>
                  <a:pt x="10956" y="14800"/>
                  <a:pt x="10964" y="14808"/>
                </a:cubicBezTo>
              </a:path>
              <a:path w="572" h="174">
                <a:moveTo>
                  <a:pt x="10641" y="14957"/>
                </a:moveTo>
                <a:cubicBezTo>
                  <a:pt x="10794" y="14925"/>
                  <a:pt x="10906" y="14908"/>
                  <a:pt x="11063" y="149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49800" y="5099040"/>
            <a:ext cx="482400" cy="339840"/>
          </a:xfrm>
          <a:custGeom>
            <a:avLst/>
            <a:gdLst/>
            <a:ahLst/>
            <a:rect l="l" t="t" r="r" b="b"/>
            <a:pathLst>
              <a:path w="1340" h="944">
                <a:moveTo>
                  <a:pt x="11881" y="14387"/>
                </a:moveTo>
                <a:cubicBezTo>
                  <a:pt x="11881" y="14483"/>
                  <a:pt x="11845" y="14549"/>
                  <a:pt x="11807" y="14635"/>
                </a:cubicBezTo>
                <a:cubicBezTo>
                  <a:pt x="11871" y="14635"/>
                  <a:pt x="12154" y="14616"/>
                  <a:pt x="12154" y="14635"/>
                </a:cubicBezTo>
                <a:cubicBezTo>
                  <a:pt x="12146" y="14635"/>
                  <a:pt x="12137" y="14635"/>
                  <a:pt x="12129" y="14635"/>
                </a:cubicBezTo>
              </a:path>
              <a:path w="1340" h="944">
                <a:moveTo>
                  <a:pt x="12080" y="14263"/>
                </a:moveTo>
                <a:cubicBezTo>
                  <a:pt x="12080" y="14533"/>
                  <a:pt x="12066" y="14792"/>
                  <a:pt x="12005" y="15056"/>
                </a:cubicBezTo>
                <a:cubicBezTo>
                  <a:pt x="11978" y="15113"/>
                  <a:pt x="11972" y="15122"/>
                  <a:pt x="12005" y="15032"/>
                </a:cubicBezTo>
              </a:path>
              <a:path w="1340" h="944">
                <a:moveTo>
                  <a:pt x="12650" y="14536"/>
                </a:moveTo>
                <a:cubicBezTo>
                  <a:pt x="12753" y="14433"/>
                  <a:pt x="12672" y="14357"/>
                  <a:pt x="12576" y="14288"/>
                </a:cubicBezTo>
                <a:cubicBezTo>
                  <a:pt x="12540" y="14327"/>
                  <a:pt x="12251" y="14743"/>
                  <a:pt x="12502" y="14684"/>
                </a:cubicBezTo>
                <a:cubicBezTo>
                  <a:pt x="12616" y="14599"/>
                  <a:pt x="12659" y="14559"/>
                  <a:pt x="12700" y="14461"/>
                </a:cubicBezTo>
                <a:cubicBezTo>
                  <a:pt x="12700" y="14420"/>
                  <a:pt x="12700" y="14396"/>
                  <a:pt x="12700" y="14436"/>
                </a:cubicBezTo>
                <a:cubicBezTo>
                  <a:pt x="12694" y="14507"/>
                  <a:pt x="12573" y="15007"/>
                  <a:pt x="12601" y="15032"/>
                </a:cubicBezTo>
                <a:cubicBezTo>
                  <a:pt x="12609" y="15007"/>
                  <a:pt x="12618" y="14982"/>
                  <a:pt x="12626" y="14957"/>
                </a:cubicBezTo>
              </a:path>
              <a:path w="1340" h="944">
                <a:moveTo>
                  <a:pt x="12923" y="14188"/>
                </a:moveTo>
                <a:cubicBezTo>
                  <a:pt x="12897" y="14307"/>
                  <a:pt x="12883" y="14394"/>
                  <a:pt x="12898" y="14511"/>
                </a:cubicBezTo>
                <a:cubicBezTo>
                  <a:pt x="12990" y="14442"/>
                  <a:pt x="12936" y="14321"/>
                  <a:pt x="12923" y="14213"/>
                </a:cubicBezTo>
                <a:cubicBezTo>
                  <a:pt x="12923" y="14196"/>
                  <a:pt x="12923" y="14180"/>
                  <a:pt x="12923" y="14163"/>
                </a:cubicBezTo>
                <a:cubicBezTo>
                  <a:pt x="13190" y="14217"/>
                  <a:pt x="13157" y="14438"/>
                  <a:pt x="13097" y="14684"/>
                </a:cubicBezTo>
                <a:cubicBezTo>
                  <a:pt x="13070" y="14793"/>
                  <a:pt x="12988" y="14948"/>
                  <a:pt x="12998" y="149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48240" y="444672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7636" y="12378"/>
                </a:moveTo>
                <a:lnTo>
                  <a:pt x="17636" y="12378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  <a:path w="1" h="26">
                <a:moveTo>
                  <a:pt x="17636" y="12353"/>
                </a:moveTo>
                <a:lnTo>
                  <a:pt x="17636" y="1235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56200" y="4152960"/>
            <a:ext cx="652680" cy="507960"/>
          </a:xfrm>
          <a:custGeom>
            <a:avLst/>
            <a:gdLst/>
            <a:ahLst/>
            <a:rect l="l" t="t" r="r" b="b"/>
            <a:pathLst>
              <a:path w="1811" h="1415">
                <a:moveTo>
                  <a:pt x="16644" y="12204"/>
                </a:moveTo>
                <a:cubicBezTo>
                  <a:pt x="16583" y="12229"/>
                  <a:pt x="16558" y="12261"/>
                  <a:pt x="16545" y="12328"/>
                </a:cubicBezTo>
                <a:cubicBezTo>
                  <a:pt x="16624" y="12305"/>
                  <a:pt x="16660" y="12178"/>
                  <a:pt x="16545" y="12254"/>
                </a:cubicBezTo>
                <a:cubicBezTo>
                  <a:pt x="16545" y="12278"/>
                  <a:pt x="16545" y="12287"/>
                  <a:pt x="16545" y="12303"/>
                </a:cubicBezTo>
              </a:path>
              <a:path w="1811" h="1415">
                <a:moveTo>
                  <a:pt x="17140" y="11733"/>
                </a:moveTo>
                <a:cubicBezTo>
                  <a:pt x="17095" y="11643"/>
                  <a:pt x="17238" y="11626"/>
                  <a:pt x="17314" y="11609"/>
                </a:cubicBezTo>
                <a:cubicBezTo>
                  <a:pt x="17342" y="11736"/>
                  <a:pt x="17352" y="11855"/>
                  <a:pt x="17214" y="11931"/>
                </a:cubicBezTo>
                <a:cubicBezTo>
                  <a:pt x="17214" y="11923"/>
                  <a:pt x="17214" y="11914"/>
                  <a:pt x="17214" y="11906"/>
                </a:cubicBezTo>
                <a:cubicBezTo>
                  <a:pt x="17337" y="11931"/>
                  <a:pt x="17505" y="12047"/>
                  <a:pt x="17388" y="12204"/>
                </a:cubicBezTo>
                <a:cubicBezTo>
                  <a:pt x="17298" y="12324"/>
                  <a:pt x="17076" y="12321"/>
                  <a:pt x="16991" y="12254"/>
                </a:cubicBezTo>
              </a:path>
              <a:path w="1811" h="1415">
                <a:moveTo>
                  <a:pt x="16619" y="12229"/>
                </a:moveTo>
                <a:cubicBezTo>
                  <a:pt x="16619" y="12221"/>
                  <a:pt x="16619" y="12212"/>
                  <a:pt x="16619" y="12204"/>
                </a:cubicBezTo>
                <a:cubicBezTo>
                  <a:pt x="16619" y="12235"/>
                  <a:pt x="16576" y="12328"/>
                  <a:pt x="16619" y="12328"/>
                </a:cubicBezTo>
                <a:cubicBezTo>
                  <a:pt x="16740" y="12328"/>
                  <a:pt x="16738" y="12164"/>
                  <a:pt x="16718" y="12179"/>
                </a:cubicBezTo>
                <a:cubicBezTo>
                  <a:pt x="16577" y="12282"/>
                  <a:pt x="16568" y="12328"/>
                  <a:pt x="16743" y="12303"/>
                </a:cubicBezTo>
                <a:cubicBezTo>
                  <a:pt x="16770" y="12224"/>
                  <a:pt x="16760" y="12252"/>
                  <a:pt x="16669" y="12278"/>
                </a:cubicBezTo>
              </a:path>
              <a:path w="1811" h="1415">
                <a:moveTo>
                  <a:pt x="16570" y="12601"/>
                </a:moveTo>
                <a:cubicBezTo>
                  <a:pt x="16598" y="12601"/>
                  <a:pt x="16608" y="12598"/>
                  <a:pt x="16619" y="12576"/>
                </a:cubicBezTo>
                <a:cubicBezTo>
                  <a:pt x="16607" y="12623"/>
                  <a:pt x="16577" y="12666"/>
                  <a:pt x="16594" y="12725"/>
                </a:cubicBezTo>
                <a:cubicBezTo>
                  <a:pt x="16617" y="12808"/>
                  <a:pt x="16672" y="12867"/>
                  <a:pt x="16743" y="12898"/>
                </a:cubicBezTo>
                <a:cubicBezTo>
                  <a:pt x="16794" y="12920"/>
                  <a:pt x="16887" y="12945"/>
                  <a:pt x="16942" y="12948"/>
                </a:cubicBezTo>
                <a:cubicBezTo>
                  <a:pt x="17020" y="12952"/>
                  <a:pt x="17069" y="12930"/>
                  <a:pt x="17140" y="12923"/>
                </a:cubicBezTo>
                <a:cubicBezTo>
                  <a:pt x="17189" y="12918"/>
                  <a:pt x="17246" y="12923"/>
                  <a:pt x="17289" y="12898"/>
                </a:cubicBezTo>
                <a:cubicBezTo>
                  <a:pt x="17328" y="12876"/>
                  <a:pt x="17369" y="12823"/>
                  <a:pt x="17388" y="12799"/>
                </a:cubicBezTo>
                <a:cubicBezTo>
                  <a:pt x="17417" y="12762"/>
                  <a:pt x="17475" y="12720"/>
                  <a:pt x="17487" y="12675"/>
                </a:cubicBezTo>
                <a:cubicBezTo>
                  <a:pt x="17499" y="12630"/>
                  <a:pt x="17513" y="12578"/>
                  <a:pt x="17537" y="12526"/>
                </a:cubicBezTo>
                <a:cubicBezTo>
                  <a:pt x="17553" y="12491"/>
                  <a:pt x="17570" y="12432"/>
                  <a:pt x="17587" y="12402"/>
                </a:cubicBezTo>
                <a:cubicBezTo>
                  <a:pt x="17591" y="12395"/>
                  <a:pt x="17623" y="12381"/>
                  <a:pt x="17636" y="12378"/>
                </a:cubicBezTo>
              </a:path>
              <a:path w="1811" h="1415">
                <a:moveTo>
                  <a:pt x="17636" y="12378"/>
                </a:moveTo>
                <a:cubicBezTo>
                  <a:pt x="17636" y="12442"/>
                  <a:pt x="17622" y="12476"/>
                  <a:pt x="17611" y="12526"/>
                </a:cubicBezTo>
                <a:cubicBezTo>
                  <a:pt x="17601" y="12574"/>
                  <a:pt x="17592" y="12632"/>
                  <a:pt x="17587" y="12675"/>
                </a:cubicBezTo>
                <a:cubicBezTo>
                  <a:pt x="17580" y="12742"/>
                  <a:pt x="17612" y="12709"/>
                  <a:pt x="17636" y="12774"/>
                </a:cubicBezTo>
                <a:cubicBezTo>
                  <a:pt x="17653" y="12822"/>
                  <a:pt x="17666" y="12829"/>
                  <a:pt x="17711" y="12849"/>
                </a:cubicBezTo>
                <a:cubicBezTo>
                  <a:pt x="17774" y="12877"/>
                  <a:pt x="17813" y="12874"/>
                  <a:pt x="17884" y="12874"/>
                </a:cubicBezTo>
                <a:cubicBezTo>
                  <a:pt x="17930" y="12874"/>
                  <a:pt x="17974" y="12872"/>
                  <a:pt x="18008" y="12849"/>
                </a:cubicBezTo>
                <a:cubicBezTo>
                  <a:pt x="18055" y="12818"/>
                  <a:pt x="18101" y="12788"/>
                  <a:pt x="18157" y="12774"/>
                </a:cubicBezTo>
                <a:cubicBezTo>
                  <a:pt x="18205" y="12762"/>
                  <a:pt x="18213" y="12719"/>
                  <a:pt x="18256" y="12700"/>
                </a:cubicBezTo>
                <a:cubicBezTo>
                  <a:pt x="18271" y="12693"/>
                  <a:pt x="18322" y="12614"/>
                  <a:pt x="18331" y="12576"/>
                </a:cubicBezTo>
                <a:cubicBezTo>
                  <a:pt x="18345" y="12517"/>
                  <a:pt x="18355" y="12504"/>
                  <a:pt x="18355" y="12427"/>
                </a:cubicBezTo>
                <a:cubicBezTo>
                  <a:pt x="18355" y="12369"/>
                  <a:pt x="18355" y="12312"/>
                  <a:pt x="18355" y="12254"/>
                </a:cubicBezTo>
                <a:cubicBezTo>
                  <a:pt x="18318" y="12301"/>
                  <a:pt x="18313" y="12319"/>
                  <a:pt x="18306" y="12378"/>
                </a:cubicBezTo>
                <a:cubicBezTo>
                  <a:pt x="18332" y="12320"/>
                  <a:pt x="18398" y="12254"/>
                  <a:pt x="18306" y="12254"/>
                </a:cubicBezTo>
                <a:cubicBezTo>
                  <a:pt x="18283" y="12254"/>
                  <a:pt x="18317" y="12299"/>
                  <a:pt x="18331" y="12204"/>
                </a:cubicBezTo>
              </a:path>
              <a:path w="1811" h="1415">
                <a:moveTo>
                  <a:pt x="18008" y="11559"/>
                </a:moveTo>
                <a:cubicBezTo>
                  <a:pt x="17911" y="11500"/>
                  <a:pt x="17924" y="11577"/>
                  <a:pt x="17859" y="11633"/>
                </a:cubicBezTo>
                <a:cubicBezTo>
                  <a:pt x="17785" y="11698"/>
                  <a:pt x="17770" y="11758"/>
                  <a:pt x="17735" y="11857"/>
                </a:cubicBezTo>
                <a:cubicBezTo>
                  <a:pt x="17711" y="11925"/>
                  <a:pt x="17698" y="12012"/>
                  <a:pt x="17686" y="12080"/>
                </a:cubicBezTo>
                <a:cubicBezTo>
                  <a:pt x="17677" y="12131"/>
                  <a:pt x="17710" y="12205"/>
                  <a:pt x="17760" y="12229"/>
                </a:cubicBezTo>
                <a:cubicBezTo>
                  <a:pt x="17850" y="12272"/>
                  <a:pt x="17878" y="12245"/>
                  <a:pt x="17959" y="12204"/>
                </a:cubicBezTo>
                <a:cubicBezTo>
                  <a:pt x="18017" y="12175"/>
                  <a:pt x="18038" y="12126"/>
                  <a:pt x="18083" y="12080"/>
                </a:cubicBezTo>
                <a:cubicBezTo>
                  <a:pt x="18118" y="12044"/>
                  <a:pt x="18144" y="11998"/>
                  <a:pt x="18157" y="11956"/>
                </a:cubicBezTo>
                <a:cubicBezTo>
                  <a:pt x="18177" y="11893"/>
                  <a:pt x="18182" y="11868"/>
                  <a:pt x="18182" y="11807"/>
                </a:cubicBezTo>
                <a:cubicBezTo>
                  <a:pt x="18182" y="11728"/>
                  <a:pt x="18132" y="11701"/>
                  <a:pt x="18107" y="11658"/>
                </a:cubicBezTo>
                <a:cubicBezTo>
                  <a:pt x="18086" y="11622"/>
                  <a:pt x="18086" y="11590"/>
                  <a:pt x="18033" y="11584"/>
                </a:cubicBezTo>
                <a:cubicBezTo>
                  <a:pt x="18025" y="11584"/>
                  <a:pt x="18016" y="11584"/>
                  <a:pt x="18008" y="115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7360" y="4224240"/>
            <a:ext cx="142920" cy="71640"/>
          </a:xfrm>
          <a:custGeom>
            <a:avLst/>
            <a:gdLst/>
            <a:ahLst/>
            <a:rect l="l" t="t" r="r" b="b"/>
            <a:pathLst>
              <a:path w="398" h="199">
                <a:moveTo>
                  <a:pt x="19149" y="11782"/>
                </a:moveTo>
                <a:cubicBezTo>
                  <a:pt x="19239" y="11737"/>
                  <a:pt x="19364" y="11739"/>
                  <a:pt x="19472" y="11733"/>
                </a:cubicBezTo>
              </a:path>
              <a:path w="398" h="199">
                <a:moveTo>
                  <a:pt x="19075" y="11931"/>
                </a:moveTo>
                <a:cubicBezTo>
                  <a:pt x="19177" y="11931"/>
                  <a:pt x="19313" y="11957"/>
                  <a:pt x="19397" y="119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4040" y="4062240"/>
            <a:ext cx="696960" cy="349560"/>
          </a:xfrm>
          <a:custGeom>
            <a:avLst/>
            <a:gdLst/>
            <a:ahLst/>
            <a:rect l="l" t="t" r="r" b="b"/>
            <a:pathLst>
              <a:path w="1936" h="969">
                <a:moveTo>
                  <a:pt x="20414" y="11559"/>
                </a:moveTo>
                <a:cubicBezTo>
                  <a:pt x="20453" y="11549"/>
                  <a:pt x="20499" y="11532"/>
                  <a:pt x="20538" y="11509"/>
                </a:cubicBezTo>
                <a:cubicBezTo>
                  <a:pt x="20642" y="11448"/>
                  <a:pt x="20672" y="11458"/>
                  <a:pt x="20786" y="11485"/>
                </a:cubicBezTo>
                <a:cubicBezTo>
                  <a:pt x="20754" y="11697"/>
                  <a:pt x="20701" y="11724"/>
                  <a:pt x="20538" y="11857"/>
                </a:cubicBezTo>
                <a:cubicBezTo>
                  <a:pt x="20467" y="11822"/>
                  <a:pt x="20641" y="11823"/>
                  <a:pt x="20712" y="11857"/>
                </a:cubicBezTo>
                <a:cubicBezTo>
                  <a:pt x="20979" y="11986"/>
                  <a:pt x="20754" y="12209"/>
                  <a:pt x="20563" y="12254"/>
                </a:cubicBezTo>
                <a:cubicBezTo>
                  <a:pt x="20362" y="12301"/>
                  <a:pt x="20317" y="12254"/>
                  <a:pt x="20340" y="12129"/>
                </a:cubicBezTo>
              </a:path>
              <a:path w="1936" h="969">
                <a:moveTo>
                  <a:pt x="21158" y="11509"/>
                </a:moveTo>
                <a:cubicBezTo>
                  <a:pt x="21031" y="11596"/>
                  <a:pt x="20948" y="11816"/>
                  <a:pt x="20960" y="11981"/>
                </a:cubicBezTo>
                <a:cubicBezTo>
                  <a:pt x="20977" y="12022"/>
                  <a:pt x="20993" y="12064"/>
                  <a:pt x="21010" y="12105"/>
                </a:cubicBezTo>
                <a:cubicBezTo>
                  <a:pt x="21233" y="12084"/>
                  <a:pt x="21455" y="12002"/>
                  <a:pt x="21406" y="11708"/>
                </a:cubicBezTo>
                <a:cubicBezTo>
                  <a:pt x="21384" y="11575"/>
                  <a:pt x="21185" y="11549"/>
                  <a:pt x="21084" y="11534"/>
                </a:cubicBezTo>
              </a:path>
              <a:path w="1936" h="969">
                <a:moveTo>
                  <a:pt x="21704" y="11336"/>
                </a:moveTo>
                <a:cubicBezTo>
                  <a:pt x="21575" y="11393"/>
                  <a:pt x="21551" y="11490"/>
                  <a:pt x="21530" y="11633"/>
                </a:cubicBezTo>
                <a:cubicBezTo>
                  <a:pt x="21695" y="11597"/>
                  <a:pt x="21665" y="11532"/>
                  <a:pt x="21654" y="11385"/>
                </a:cubicBezTo>
                <a:cubicBezTo>
                  <a:pt x="21654" y="11344"/>
                  <a:pt x="21654" y="11336"/>
                  <a:pt x="21654" y="11311"/>
                </a:cubicBezTo>
                <a:cubicBezTo>
                  <a:pt x="21898" y="11297"/>
                  <a:pt x="22012" y="11431"/>
                  <a:pt x="21952" y="11708"/>
                </a:cubicBezTo>
                <a:cubicBezTo>
                  <a:pt x="21916" y="11874"/>
                  <a:pt x="21793" y="12037"/>
                  <a:pt x="21704" y="12179"/>
                </a:cubicBezTo>
              </a:path>
              <a:path w="1936" h="969">
                <a:moveTo>
                  <a:pt x="22076" y="11881"/>
                </a:moveTo>
                <a:cubicBezTo>
                  <a:pt x="22053" y="11935"/>
                  <a:pt x="22015" y="12208"/>
                  <a:pt x="22175" y="12055"/>
                </a:cubicBezTo>
                <a:cubicBezTo>
                  <a:pt x="22348" y="11890"/>
                  <a:pt x="22100" y="11950"/>
                  <a:pt x="2205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91200" y="5081760"/>
            <a:ext cx="1546200" cy="160200"/>
          </a:xfrm>
          <a:custGeom>
            <a:avLst/>
            <a:gdLst/>
            <a:ahLst/>
            <a:rect l="l" t="t" r="r" b="b"/>
            <a:pathLst>
              <a:path w="4292" h="447">
                <a:moveTo>
                  <a:pt x="19422" y="14511"/>
                </a:moveTo>
                <a:cubicBezTo>
                  <a:pt x="19573" y="14535"/>
                  <a:pt x="19717" y="14553"/>
                  <a:pt x="19869" y="14560"/>
                </a:cubicBezTo>
              </a:path>
              <a:path w="4292" h="447">
                <a:moveTo>
                  <a:pt x="23515" y="14163"/>
                </a:moveTo>
                <a:cubicBezTo>
                  <a:pt x="23623" y="14142"/>
                  <a:pt x="23649" y="14139"/>
                  <a:pt x="23713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38920" y="5018040"/>
            <a:ext cx="527040" cy="285840"/>
          </a:xfrm>
          <a:custGeom>
            <a:avLst/>
            <a:gdLst/>
            <a:ahLst/>
            <a:rect l="l" t="t" r="r" b="b"/>
            <a:pathLst>
              <a:path w="1465" h="795">
                <a:moveTo>
                  <a:pt x="16594" y="14610"/>
                </a:moveTo>
                <a:cubicBezTo>
                  <a:pt x="16594" y="14557"/>
                  <a:pt x="16562" y="14638"/>
                  <a:pt x="16570" y="14660"/>
                </a:cubicBezTo>
                <a:cubicBezTo>
                  <a:pt x="16595" y="14732"/>
                  <a:pt x="16664" y="14636"/>
                  <a:pt x="16644" y="14585"/>
                </a:cubicBezTo>
                <a:cubicBezTo>
                  <a:pt x="16584" y="14605"/>
                  <a:pt x="16587" y="14616"/>
                  <a:pt x="16570" y="14684"/>
                </a:cubicBezTo>
                <a:cubicBezTo>
                  <a:pt x="16604" y="14684"/>
                  <a:pt x="16608" y="14675"/>
                  <a:pt x="16570" y="14635"/>
                </a:cubicBezTo>
              </a:path>
              <a:path w="1465" h="795">
                <a:moveTo>
                  <a:pt x="17165" y="14089"/>
                </a:moveTo>
                <a:cubicBezTo>
                  <a:pt x="17036" y="14040"/>
                  <a:pt x="16975" y="14141"/>
                  <a:pt x="16966" y="14288"/>
                </a:cubicBezTo>
                <a:cubicBezTo>
                  <a:pt x="16957" y="14438"/>
                  <a:pt x="17024" y="14518"/>
                  <a:pt x="17115" y="14610"/>
                </a:cubicBezTo>
                <a:cubicBezTo>
                  <a:pt x="17239" y="14514"/>
                  <a:pt x="17553" y="14252"/>
                  <a:pt x="17289" y="14089"/>
                </a:cubicBezTo>
                <a:cubicBezTo>
                  <a:pt x="17210" y="14040"/>
                  <a:pt x="17115" y="14043"/>
                  <a:pt x="17115" y="14064"/>
                </a:cubicBezTo>
              </a:path>
              <a:path w="1465" h="795">
                <a:moveTo>
                  <a:pt x="17512" y="13965"/>
                </a:moveTo>
                <a:cubicBezTo>
                  <a:pt x="17613" y="13955"/>
                  <a:pt x="17799" y="13887"/>
                  <a:pt x="17835" y="14039"/>
                </a:cubicBezTo>
                <a:cubicBezTo>
                  <a:pt x="17852" y="14110"/>
                  <a:pt x="17751" y="14173"/>
                  <a:pt x="17711" y="14213"/>
                </a:cubicBezTo>
                <a:cubicBezTo>
                  <a:pt x="17838" y="14139"/>
                  <a:pt x="17971" y="14181"/>
                  <a:pt x="17959" y="14362"/>
                </a:cubicBezTo>
                <a:cubicBezTo>
                  <a:pt x="17950" y="14504"/>
                  <a:pt x="17792" y="14667"/>
                  <a:pt x="17636" y="14610"/>
                </a:cubicBezTo>
                <a:cubicBezTo>
                  <a:pt x="17636" y="14602"/>
                  <a:pt x="17636" y="14593"/>
                  <a:pt x="17636" y="14585"/>
                </a:cubicBezTo>
              </a:path>
              <a:path w="1465" h="795">
                <a:moveTo>
                  <a:pt x="16619" y="14585"/>
                </a:moveTo>
                <a:cubicBezTo>
                  <a:pt x="16544" y="14566"/>
                  <a:pt x="16522" y="14553"/>
                  <a:pt x="16495" y="14660"/>
                </a:cubicBezTo>
                <a:cubicBezTo>
                  <a:pt x="16495" y="14719"/>
                  <a:pt x="16505" y="14739"/>
                  <a:pt x="16570" y="14734"/>
                </a:cubicBezTo>
                <a:cubicBezTo>
                  <a:pt x="16654" y="14649"/>
                  <a:pt x="16635" y="14634"/>
                  <a:pt x="16619" y="14511"/>
                </a:cubicBezTo>
                <a:cubicBezTo>
                  <a:pt x="16580" y="14526"/>
                  <a:pt x="16452" y="14635"/>
                  <a:pt x="16545" y="14684"/>
                </a:cubicBezTo>
                <a:cubicBezTo>
                  <a:pt x="16627" y="14727"/>
                  <a:pt x="16655" y="14631"/>
                  <a:pt x="16694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00920" y="5126040"/>
            <a:ext cx="1602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9447" y="14238"/>
                </a:moveTo>
                <a:cubicBezTo>
                  <a:pt x="19581" y="14238"/>
                  <a:pt x="19690" y="14251"/>
                  <a:pt x="19819" y="14288"/>
                </a:cubicBezTo>
                <a:cubicBezTo>
                  <a:pt x="19879" y="14308"/>
                  <a:pt x="19914" y="14305"/>
                  <a:pt x="19869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12040" y="4964040"/>
            <a:ext cx="374760" cy="2872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20861" y="13940"/>
                </a:moveTo>
                <a:cubicBezTo>
                  <a:pt x="20823" y="13865"/>
                  <a:pt x="20595" y="14365"/>
                  <a:pt x="20588" y="14387"/>
                </a:cubicBezTo>
                <a:cubicBezTo>
                  <a:pt x="20588" y="14437"/>
                  <a:pt x="20588" y="14486"/>
                  <a:pt x="20588" y="14536"/>
                </a:cubicBezTo>
                <a:cubicBezTo>
                  <a:pt x="20839" y="14605"/>
                  <a:pt x="21007" y="14493"/>
                  <a:pt x="21084" y="14213"/>
                </a:cubicBezTo>
                <a:cubicBezTo>
                  <a:pt x="21129" y="14050"/>
                  <a:pt x="21084" y="13924"/>
                  <a:pt x="20935" y="13891"/>
                </a:cubicBezTo>
              </a:path>
              <a:path w="1043" h="795">
                <a:moveTo>
                  <a:pt x="21258" y="13816"/>
                </a:moveTo>
                <a:cubicBezTo>
                  <a:pt x="21337" y="13806"/>
                  <a:pt x="21585" y="13723"/>
                  <a:pt x="21630" y="13841"/>
                </a:cubicBezTo>
                <a:cubicBezTo>
                  <a:pt x="21678" y="13964"/>
                  <a:pt x="21474" y="14047"/>
                  <a:pt x="21406" y="14089"/>
                </a:cubicBezTo>
                <a:cubicBezTo>
                  <a:pt x="21382" y="14089"/>
                  <a:pt x="21374" y="14089"/>
                  <a:pt x="21382" y="14064"/>
                </a:cubicBezTo>
                <a:cubicBezTo>
                  <a:pt x="21518" y="14078"/>
                  <a:pt x="21660" y="14134"/>
                  <a:pt x="21605" y="14312"/>
                </a:cubicBezTo>
                <a:cubicBezTo>
                  <a:pt x="21544" y="14509"/>
                  <a:pt x="21280" y="14530"/>
                  <a:pt x="21158" y="14387"/>
                </a:cubicBezTo>
                <a:cubicBezTo>
                  <a:pt x="21158" y="14370"/>
                  <a:pt x="21158" y="14354"/>
                  <a:pt x="21158" y="143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4938840"/>
            <a:ext cx="303120" cy="295200"/>
          </a:xfrm>
          <a:custGeom>
            <a:avLst/>
            <a:gdLst/>
            <a:ahLst/>
            <a:rect l="l" t="t" r="r" b="b"/>
            <a:pathLst>
              <a:path w="844" h="820">
                <a:moveTo>
                  <a:pt x="22250" y="13816"/>
                </a:moveTo>
                <a:cubicBezTo>
                  <a:pt x="22250" y="13774"/>
                  <a:pt x="22260" y="13778"/>
                  <a:pt x="22225" y="13767"/>
                </a:cubicBezTo>
                <a:cubicBezTo>
                  <a:pt x="22148" y="13789"/>
                  <a:pt x="22058" y="13914"/>
                  <a:pt x="22101" y="14015"/>
                </a:cubicBezTo>
                <a:cubicBezTo>
                  <a:pt x="22157" y="14146"/>
                  <a:pt x="22394" y="13987"/>
                  <a:pt x="22374" y="13866"/>
                </a:cubicBezTo>
                <a:cubicBezTo>
                  <a:pt x="22366" y="13815"/>
                  <a:pt x="22259" y="13778"/>
                  <a:pt x="22225" y="13767"/>
                </a:cubicBezTo>
                <a:cubicBezTo>
                  <a:pt x="22217" y="13767"/>
                  <a:pt x="22208" y="13767"/>
                  <a:pt x="22200" y="13767"/>
                </a:cubicBezTo>
                <a:cubicBezTo>
                  <a:pt x="22344" y="13767"/>
                  <a:pt x="22456" y="13703"/>
                  <a:pt x="22597" y="13717"/>
                </a:cubicBezTo>
                <a:cubicBezTo>
                  <a:pt x="22815" y="13739"/>
                  <a:pt x="22568" y="14157"/>
                  <a:pt x="22547" y="14188"/>
                </a:cubicBezTo>
                <a:cubicBezTo>
                  <a:pt x="22505" y="14252"/>
                  <a:pt x="22254" y="14496"/>
                  <a:pt x="22275" y="14536"/>
                </a:cubicBezTo>
              </a:path>
              <a:path w="844" h="820">
                <a:moveTo>
                  <a:pt x="22820" y="14238"/>
                </a:moveTo>
                <a:cubicBezTo>
                  <a:pt x="22762" y="14354"/>
                  <a:pt x="22737" y="14392"/>
                  <a:pt x="22746" y="14511"/>
                </a:cubicBezTo>
                <a:cubicBezTo>
                  <a:pt x="22826" y="14519"/>
                  <a:pt x="23068" y="14396"/>
                  <a:pt x="22920" y="14288"/>
                </a:cubicBezTo>
                <a:cubicBezTo>
                  <a:pt x="22879" y="14280"/>
                  <a:pt x="22837" y="14271"/>
                  <a:pt x="22796" y="142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439120" y="4813200"/>
            <a:ext cx="507960" cy="357120"/>
          </a:xfrm>
          <a:custGeom>
            <a:avLst/>
            <a:gdLst/>
            <a:ahLst/>
            <a:rect l="l" t="t" r="r" b="b"/>
            <a:pathLst>
              <a:path w="1415" h="993">
                <a:moveTo>
                  <a:pt x="23440" y="13915"/>
                </a:moveTo>
                <a:cubicBezTo>
                  <a:pt x="23553" y="13915"/>
                  <a:pt x="23653" y="13892"/>
                  <a:pt x="23763" y="13866"/>
                </a:cubicBezTo>
              </a:path>
              <a:path w="1415" h="993">
                <a:moveTo>
                  <a:pt x="23961" y="13667"/>
                </a:moveTo>
                <a:cubicBezTo>
                  <a:pt x="24087" y="13657"/>
                  <a:pt x="24154" y="13616"/>
                  <a:pt x="24259" y="13667"/>
                </a:cubicBezTo>
                <a:cubicBezTo>
                  <a:pt x="24274" y="13880"/>
                  <a:pt x="24187" y="13871"/>
                  <a:pt x="24036" y="13990"/>
                </a:cubicBezTo>
                <a:cubicBezTo>
                  <a:pt x="24044" y="13990"/>
                  <a:pt x="24053" y="13990"/>
                  <a:pt x="24061" y="13990"/>
                </a:cubicBezTo>
                <a:cubicBezTo>
                  <a:pt x="24141" y="13990"/>
                  <a:pt x="24304" y="13999"/>
                  <a:pt x="24234" y="14139"/>
                </a:cubicBezTo>
                <a:cubicBezTo>
                  <a:pt x="24202" y="14204"/>
                  <a:pt x="23955" y="14437"/>
                  <a:pt x="23862" y="14362"/>
                </a:cubicBezTo>
                <a:cubicBezTo>
                  <a:pt x="23870" y="14354"/>
                  <a:pt x="23879" y="14345"/>
                  <a:pt x="23887" y="14337"/>
                </a:cubicBezTo>
              </a:path>
              <a:path w="1415" h="993">
                <a:moveTo>
                  <a:pt x="24457" y="13469"/>
                </a:moveTo>
                <a:cubicBezTo>
                  <a:pt x="24407" y="13544"/>
                  <a:pt x="24348" y="13590"/>
                  <a:pt x="24383" y="13643"/>
                </a:cubicBezTo>
                <a:cubicBezTo>
                  <a:pt x="24537" y="13642"/>
                  <a:pt x="24550" y="13593"/>
                  <a:pt x="24532" y="13444"/>
                </a:cubicBezTo>
                <a:cubicBezTo>
                  <a:pt x="24532" y="13404"/>
                  <a:pt x="24542" y="13385"/>
                  <a:pt x="24581" y="13370"/>
                </a:cubicBezTo>
                <a:cubicBezTo>
                  <a:pt x="24766" y="13431"/>
                  <a:pt x="24774" y="13619"/>
                  <a:pt x="24705" y="13816"/>
                </a:cubicBezTo>
                <a:cubicBezTo>
                  <a:pt x="24652" y="13967"/>
                  <a:pt x="24523" y="14186"/>
                  <a:pt x="24408" y="14288"/>
                </a:cubicBezTo>
              </a:path>
              <a:path w="1415" h="993">
                <a:moveTo>
                  <a:pt x="24705" y="14114"/>
                </a:moveTo>
                <a:cubicBezTo>
                  <a:pt x="24677" y="14200"/>
                  <a:pt x="24663" y="14230"/>
                  <a:pt x="24681" y="14312"/>
                </a:cubicBezTo>
                <a:cubicBezTo>
                  <a:pt x="24731" y="14300"/>
                  <a:pt x="24951" y="14151"/>
                  <a:pt x="24805" y="14163"/>
                </a:cubicBezTo>
                <a:cubicBezTo>
                  <a:pt x="24772" y="14171"/>
                  <a:pt x="24738" y="14180"/>
                  <a:pt x="24705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56200" y="5330880"/>
            <a:ext cx="669960" cy="295200"/>
          </a:xfrm>
          <a:custGeom>
            <a:avLst/>
            <a:gdLst/>
            <a:ahLst/>
            <a:rect l="l" t="t" r="r" b="b"/>
            <a:pathLst>
              <a:path w="1861" h="820">
                <a:moveTo>
                  <a:pt x="16545" y="15180"/>
                </a:moveTo>
                <a:cubicBezTo>
                  <a:pt x="16604" y="15200"/>
                  <a:pt x="16610" y="15213"/>
                  <a:pt x="16619" y="15304"/>
                </a:cubicBezTo>
                <a:cubicBezTo>
                  <a:pt x="16631" y="15431"/>
                  <a:pt x="16665" y="15540"/>
                  <a:pt x="16793" y="15602"/>
                </a:cubicBezTo>
                <a:cubicBezTo>
                  <a:pt x="16946" y="15676"/>
                  <a:pt x="17105" y="15603"/>
                  <a:pt x="17239" y="15528"/>
                </a:cubicBezTo>
                <a:cubicBezTo>
                  <a:pt x="17322" y="15481"/>
                  <a:pt x="17387" y="15432"/>
                  <a:pt x="17438" y="15354"/>
                </a:cubicBezTo>
                <a:cubicBezTo>
                  <a:pt x="17473" y="15301"/>
                  <a:pt x="17503" y="15217"/>
                  <a:pt x="17512" y="15156"/>
                </a:cubicBezTo>
                <a:cubicBezTo>
                  <a:pt x="17517" y="15124"/>
                  <a:pt x="17512" y="15089"/>
                  <a:pt x="17512" y="15056"/>
                </a:cubicBezTo>
                <a:cubicBezTo>
                  <a:pt x="17512" y="15122"/>
                  <a:pt x="17501" y="15140"/>
                  <a:pt x="17512" y="15205"/>
                </a:cubicBezTo>
                <a:cubicBezTo>
                  <a:pt x="17524" y="15275"/>
                  <a:pt x="17542" y="15371"/>
                  <a:pt x="17587" y="15429"/>
                </a:cubicBezTo>
                <a:cubicBezTo>
                  <a:pt x="17664" y="15529"/>
                  <a:pt x="17776" y="15522"/>
                  <a:pt x="17884" y="15503"/>
                </a:cubicBezTo>
                <a:cubicBezTo>
                  <a:pt x="18045" y="15475"/>
                  <a:pt x="18218" y="15399"/>
                  <a:pt x="18306" y="15255"/>
                </a:cubicBezTo>
                <a:cubicBezTo>
                  <a:pt x="18350" y="15183"/>
                  <a:pt x="18424" y="15022"/>
                  <a:pt x="18405" y="14932"/>
                </a:cubicBezTo>
                <a:cubicBezTo>
                  <a:pt x="18397" y="14893"/>
                  <a:pt x="18383" y="14877"/>
                  <a:pt x="18380" y="14833"/>
                </a:cubicBezTo>
                <a:cubicBezTo>
                  <a:pt x="18380" y="14825"/>
                  <a:pt x="18380" y="14816"/>
                  <a:pt x="18380" y="148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18240" y="3000240"/>
            <a:ext cx="420840" cy="473040"/>
          </a:xfrm>
          <a:custGeom>
            <a:avLst/>
            <a:gdLst/>
            <a:ahLst/>
            <a:rect l="l" t="t" r="r" b="b"/>
            <a:pathLst>
              <a:path w="1166" h="1316">
                <a:moveTo>
                  <a:pt x="21357" y="8334"/>
                </a:moveTo>
                <a:cubicBezTo>
                  <a:pt x="21511" y="8412"/>
                  <a:pt x="21492" y="8819"/>
                  <a:pt x="21506" y="8954"/>
                </a:cubicBezTo>
                <a:cubicBezTo>
                  <a:pt x="21531" y="9193"/>
                  <a:pt x="21506" y="9412"/>
                  <a:pt x="21506" y="9649"/>
                </a:cubicBezTo>
              </a:path>
              <a:path w="1166" h="1316">
                <a:moveTo>
                  <a:pt x="20886" y="9351"/>
                </a:moveTo>
                <a:cubicBezTo>
                  <a:pt x="21190" y="9137"/>
                  <a:pt x="21527" y="9027"/>
                  <a:pt x="21878" y="8905"/>
                </a:cubicBezTo>
                <a:cubicBezTo>
                  <a:pt x="22081" y="8835"/>
                  <a:pt x="21990" y="8865"/>
                  <a:pt x="22051" y="8830"/>
                </a:cubicBezTo>
              </a:path>
              <a:path w="1166" h="1316">
                <a:moveTo>
                  <a:pt x="21952" y="8334"/>
                </a:moveTo>
                <a:cubicBezTo>
                  <a:pt x="21814" y="8571"/>
                  <a:pt x="21662" y="8866"/>
                  <a:pt x="21481" y="9103"/>
                </a:cubicBezTo>
                <a:cubicBezTo>
                  <a:pt x="21405" y="9203"/>
                  <a:pt x="21303" y="9325"/>
                  <a:pt x="21233" y="9426"/>
                </a:cubicBezTo>
              </a:path>
              <a:path w="1166" h="1316">
                <a:moveTo>
                  <a:pt x="21109" y="8682"/>
                </a:moveTo>
                <a:cubicBezTo>
                  <a:pt x="21361" y="8833"/>
                  <a:pt x="21622" y="8994"/>
                  <a:pt x="21853" y="9178"/>
                </a:cubicBezTo>
                <a:cubicBezTo>
                  <a:pt x="21910" y="9224"/>
                  <a:pt x="21953" y="9253"/>
                  <a:pt x="22002" y="93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rom % to decimal means dividing by 100….shortcut….replace the % symbol with a decimal and move it 2 places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  35%  = .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5%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88040" y="3187800"/>
            <a:ext cx="554040" cy="357120"/>
          </a:xfrm>
          <a:custGeom>
            <a:avLst/>
            <a:gdLst/>
            <a:ahLst/>
            <a:rect l="l" t="t" r="r" b="b"/>
            <a:pathLst>
              <a:path w="1539" h="993">
                <a:moveTo>
                  <a:pt x="17264" y="9079"/>
                </a:moveTo>
                <a:cubicBezTo>
                  <a:pt x="17379" y="9060"/>
                  <a:pt x="17442" y="8958"/>
                  <a:pt x="17562" y="8954"/>
                </a:cubicBezTo>
                <a:cubicBezTo>
                  <a:pt x="17587" y="8962"/>
                  <a:pt x="17611" y="8971"/>
                  <a:pt x="17636" y="8979"/>
                </a:cubicBezTo>
                <a:cubicBezTo>
                  <a:pt x="17610" y="9097"/>
                  <a:pt x="17550" y="9325"/>
                  <a:pt x="17388" y="9351"/>
                </a:cubicBezTo>
                <a:cubicBezTo>
                  <a:pt x="17380" y="9343"/>
                  <a:pt x="17371" y="9335"/>
                  <a:pt x="17363" y="9327"/>
                </a:cubicBezTo>
                <a:cubicBezTo>
                  <a:pt x="17545" y="9281"/>
                  <a:pt x="17720" y="9311"/>
                  <a:pt x="17711" y="9550"/>
                </a:cubicBezTo>
                <a:cubicBezTo>
                  <a:pt x="17704" y="9744"/>
                  <a:pt x="17343" y="10002"/>
                  <a:pt x="17190" y="9798"/>
                </a:cubicBezTo>
                <a:cubicBezTo>
                  <a:pt x="17198" y="9773"/>
                  <a:pt x="17206" y="9748"/>
                  <a:pt x="17214" y="9723"/>
                </a:cubicBezTo>
              </a:path>
              <a:path w="1539" h="993">
                <a:moveTo>
                  <a:pt x="18455" y="8880"/>
                </a:moveTo>
                <a:cubicBezTo>
                  <a:pt x="18348" y="8880"/>
                  <a:pt x="18259" y="8872"/>
                  <a:pt x="18157" y="8855"/>
                </a:cubicBezTo>
                <a:cubicBezTo>
                  <a:pt x="18038" y="8835"/>
                  <a:pt x="18059" y="9075"/>
                  <a:pt x="18058" y="9128"/>
                </a:cubicBezTo>
                <a:cubicBezTo>
                  <a:pt x="18058" y="9211"/>
                  <a:pt x="18058" y="9227"/>
                  <a:pt x="18058" y="9277"/>
                </a:cubicBezTo>
                <a:cubicBezTo>
                  <a:pt x="18163" y="9224"/>
                  <a:pt x="18284" y="9137"/>
                  <a:pt x="18405" y="9203"/>
                </a:cubicBezTo>
                <a:cubicBezTo>
                  <a:pt x="18570" y="9294"/>
                  <a:pt x="18559" y="9558"/>
                  <a:pt x="18430" y="9674"/>
                </a:cubicBezTo>
                <a:cubicBezTo>
                  <a:pt x="18303" y="9788"/>
                  <a:pt x="18175" y="9747"/>
                  <a:pt x="18033" y="9723"/>
                </a:cubicBezTo>
              </a:path>
              <a:path w="1539" h="993">
                <a:moveTo>
                  <a:pt x="18703" y="9723"/>
                </a:moveTo>
                <a:cubicBezTo>
                  <a:pt x="18662" y="9664"/>
                  <a:pt x="18652" y="9718"/>
                  <a:pt x="18628" y="9773"/>
                </a:cubicBezTo>
                <a:cubicBezTo>
                  <a:pt x="18703" y="9730"/>
                  <a:pt x="18678" y="9675"/>
                  <a:pt x="18653" y="9699"/>
                </a:cubicBezTo>
                <a:cubicBezTo>
                  <a:pt x="18628" y="9723"/>
                  <a:pt x="18633" y="9823"/>
                  <a:pt x="18678" y="9773"/>
                </a:cubicBezTo>
                <a:cubicBezTo>
                  <a:pt x="18765" y="9677"/>
                  <a:pt x="18604" y="9719"/>
                  <a:pt x="18628" y="9773"/>
                </a:cubicBezTo>
                <a:cubicBezTo>
                  <a:pt x="18670" y="9868"/>
                  <a:pt x="18812" y="9664"/>
                  <a:pt x="18678" y="9699"/>
                </a:cubicBezTo>
                <a:cubicBezTo>
                  <a:pt x="18588" y="9722"/>
                  <a:pt x="18653" y="9840"/>
                  <a:pt x="18703" y="9748"/>
                </a:cubicBezTo>
                <a:cubicBezTo>
                  <a:pt x="18726" y="9706"/>
                  <a:pt x="18717" y="9681"/>
                  <a:pt x="18703" y="9674"/>
                </a:cubicBezTo>
                <a:cubicBezTo>
                  <a:pt x="18656" y="9720"/>
                  <a:pt x="18641" y="9794"/>
                  <a:pt x="18678" y="9748"/>
                </a:cubicBezTo>
                <a:cubicBezTo>
                  <a:pt x="18678" y="9740"/>
                  <a:pt x="18678" y="9731"/>
                  <a:pt x="18678" y="97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3375000"/>
            <a:ext cx="482400" cy="135000"/>
          </a:xfrm>
          <a:custGeom>
            <a:avLst/>
            <a:gdLst/>
            <a:ahLst/>
            <a:rect l="l" t="t" r="r" b="b"/>
            <a:pathLst>
              <a:path w="1340" h="373">
                <a:moveTo>
                  <a:pt x="18703" y="9748"/>
                </a:moveTo>
                <a:cubicBezTo>
                  <a:pt x="18711" y="9748"/>
                  <a:pt x="18720" y="9748"/>
                  <a:pt x="18728" y="9748"/>
                </a:cubicBezTo>
              </a:path>
              <a:path w="1340" h="373">
                <a:moveTo>
                  <a:pt x="18728" y="9748"/>
                </a:moveTo>
                <a:lnTo>
                  <a:pt x="18728" y="9748"/>
                </a:lnTo>
              </a:path>
              <a:path w="1340" h="373">
                <a:moveTo>
                  <a:pt x="19670" y="9426"/>
                </a:moveTo>
                <a:cubicBezTo>
                  <a:pt x="19797" y="9411"/>
                  <a:pt x="19920" y="9403"/>
                  <a:pt x="20042" y="93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1840" y="3517920"/>
            <a:ext cx="669960" cy="241200"/>
          </a:xfrm>
          <a:custGeom>
            <a:avLst/>
            <a:gdLst/>
            <a:ahLst/>
            <a:rect l="l" t="t" r="r" b="b"/>
            <a:pathLst>
              <a:path w="1861" h="671">
                <a:moveTo>
                  <a:pt x="18728" y="9773"/>
                </a:moveTo>
                <a:cubicBezTo>
                  <a:pt x="18728" y="9822"/>
                  <a:pt x="18758" y="9848"/>
                  <a:pt x="18752" y="9897"/>
                </a:cubicBezTo>
                <a:cubicBezTo>
                  <a:pt x="18747" y="9936"/>
                  <a:pt x="18730" y="9953"/>
                  <a:pt x="18728" y="9996"/>
                </a:cubicBezTo>
                <a:cubicBezTo>
                  <a:pt x="18724" y="10064"/>
                  <a:pt x="18738" y="10109"/>
                  <a:pt x="18703" y="10170"/>
                </a:cubicBezTo>
                <a:cubicBezTo>
                  <a:pt x="18678" y="10214"/>
                  <a:pt x="18660" y="10221"/>
                  <a:pt x="18604" y="10244"/>
                </a:cubicBezTo>
                <a:cubicBezTo>
                  <a:pt x="18505" y="10285"/>
                  <a:pt x="18440" y="10329"/>
                  <a:pt x="18331" y="10344"/>
                </a:cubicBezTo>
                <a:cubicBezTo>
                  <a:pt x="18289" y="10350"/>
                  <a:pt x="18161" y="10344"/>
                  <a:pt x="18132" y="10319"/>
                </a:cubicBezTo>
                <a:cubicBezTo>
                  <a:pt x="18105" y="10296"/>
                  <a:pt x="18089" y="10253"/>
                  <a:pt x="18083" y="10220"/>
                </a:cubicBezTo>
                <a:cubicBezTo>
                  <a:pt x="18074" y="10165"/>
                  <a:pt x="18060" y="10124"/>
                  <a:pt x="18058" y="10071"/>
                </a:cubicBezTo>
                <a:cubicBezTo>
                  <a:pt x="18056" y="10014"/>
                  <a:pt x="18041" y="9967"/>
                  <a:pt x="18033" y="9922"/>
                </a:cubicBezTo>
                <a:cubicBezTo>
                  <a:pt x="18033" y="9914"/>
                  <a:pt x="18033" y="9905"/>
                  <a:pt x="18033" y="9897"/>
                </a:cubicBezTo>
                <a:cubicBezTo>
                  <a:pt x="18045" y="9991"/>
                  <a:pt x="18054" y="10073"/>
                  <a:pt x="18033" y="10170"/>
                </a:cubicBezTo>
                <a:cubicBezTo>
                  <a:pt x="18016" y="10249"/>
                  <a:pt x="18006" y="10339"/>
                  <a:pt x="17934" y="10368"/>
                </a:cubicBezTo>
                <a:cubicBezTo>
                  <a:pt x="17852" y="10401"/>
                  <a:pt x="17746" y="10403"/>
                  <a:pt x="17661" y="10418"/>
                </a:cubicBezTo>
                <a:cubicBezTo>
                  <a:pt x="17561" y="10436"/>
                  <a:pt x="17441" y="10466"/>
                  <a:pt x="17338" y="10443"/>
                </a:cubicBezTo>
                <a:cubicBezTo>
                  <a:pt x="17252" y="10424"/>
                  <a:pt x="17185" y="10407"/>
                  <a:pt x="17140" y="10344"/>
                </a:cubicBezTo>
                <a:cubicBezTo>
                  <a:pt x="17113" y="10306"/>
                  <a:pt x="17099" y="10269"/>
                  <a:pt x="17090" y="10220"/>
                </a:cubicBezTo>
                <a:cubicBezTo>
                  <a:pt x="17080" y="10166"/>
                  <a:pt x="17073" y="10092"/>
                  <a:pt x="17066" y="10046"/>
                </a:cubicBezTo>
                <a:cubicBezTo>
                  <a:pt x="17056" y="9978"/>
                  <a:pt x="17079" y="9979"/>
                  <a:pt x="17041" y="9947"/>
                </a:cubicBezTo>
                <a:cubicBezTo>
                  <a:pt x="16983" y="9899"/>
                  <a:pt x="16962" y="9922"/>
                  <a:pt x="16942" y="9996"/>
                </a:cubicBezTo>
                <a:cubicBezTo>
                  <a:pt x="16942" y="10037"/>
                  <a:pt x="16933" y="10054"/>
                  <a:pt x="16966" y="10046"/>
                </a:cubicBezTo>
                <a:cubicBezTo>
                  <a:pt x="16995" y="10008"/>
                  <a:pt x="17064" y="9952"/>
                  <a:pt x="17041" y="9872"/>
                </a:cubicBezTo>
                <a:cubicBezTo>
                  <a:pt x="17033" y="9864"/>
                  <a:pt x="17024" y="9855"/>
                  <a:pt x="17016" y="9847"/>
                </a:cubicBezTo>
                <a:cubicBezTo>
                  <a:pt x="16918" y="9874"/>
                  <a:pt x="16871" y="9883"/>
                  <a:pt x="16892" y="10021"/>
                </a:cubicBezTo>
                <a:cubicBezTo>
                  <a:pt x="16892" y="10046"/>
                  <a:pt x="16892" y="10054"/>
                  <a:pt x="16917" y="10046"/>
                </a:cubicBezTo>
                <a:cubicBezTo>
                  <a:pt x="17009" y="10021"/>
                  <a:pt x="17132" y="9938"/>
                  <a:pt x="17016" y="9847"/>
                </a:cubicBezTo>
                <a:cubicBezTo>
                  <a:pt x="16892" y="9750"/>
                  <a:pt x="16896" y="9961"/>
                  <a:pt x="16892" y="10021"/>
                </a:cubicBezTo>
                <a:cubicBezTo>
                  <a:pt x="16920" y="10049"/>
                  <a:pt x="16933" y="10058"/>
                  <a:pt x="16966" y="10046"/>
                </a:cubicBezTo>
                <a:cubicBezTo>
                  <a:pt x="16986" y="10018"/>
                  <a:pt x="17105" y="9781"/>
                  <a:pt x="16966" y="9847"/>
                </a:cubicBezTo>
                <a:cubicBezTo>
                  <a:pt x="16900" y="9878"/>
                  <a:pt x="16911" y="9942"/>
                  <a:pt x="16892" y="9996"/>
                </a:cubicBezTo>
                <a:cubicBezTo>
                  <a:pt x="17006" y="9973"/>
                  <a:pt x="16983" y="9963"/>
                  <a:pt x="17016" y="9847"/>
                </a:cubicBezTo>
                <a:cubicBezTo>
                  <a:pt x="17006" y="9852"/>
                  <a:pt x="16848" y="9874"/>
                  <a:pt x="16942" y="9971"/>
                </a:cubicBezTo>
                <a:cubicBezTo>
                  <a:pt x="16953" y="9982"/>
                  <a:pt x="17124" y="9732"/>
                  <a:pt x="16966" y="9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35840" y="3295800"/>
            <a:ext cx="144360" cy="3492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9546" y="9252"/>
                </a:moveTo>
                <a:cubicBezTo>
                  <a:pt x="19636" y="9241"/>
                  <a:pt x="19867" y="9123"/>
                  <a:pt x="19943" y="9153"/>
                </a:cubicBezTo>
                <a:cubicBezTo>
                  <a:pt x="19935" y="9170"/>
                  <a:pt x="19926" y="9186"/>
                  <a:pt x="19918" y="92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39040" y="3170160"/>
            <a:ext cx="938160" cy="384120"/>
          </a:xfrm>
          <a:custGeom>
            <a:avLst/>
            <a:gdLst/>
            <a:ahLst/>
            <a:rect l="l" t="t" r="r" b="b"/>
            <a:pathLst>
              <a:path w="2606" h="1067">
                <a:moveTo>
                  <a:pt x="21059" y="8979"/>
                </a:moveTo>
                <a:cubicBezTo>
                  <a:pt x="20865" y="9011"/>
                  <a:pt x="20764" y="9289"/>
                  <a:pt x="20712" y="9451"/>
                </a:cubicBezTo>
                <a:cubicBezTo>
                  <a:pt x="20671" y="9676"/>
                  <a:pt x="20636" y="9723"/>
                  <a:pt x="20712" y="9847"/>
                </a:cubicBezTo>
                <a:cubicBezTo>
                  <a:pt x="21055" y="9821"/>
                  <a:pt x="21284" y="9605"/>
                  <a:pt x="21208" y="9203"/>
                </a:cubicBezTo>
                <a:cubicBezTo>
                  <a:pt x="21172" y="9013"/>
                  <a:pt x="20946" y="8942"/>
                  <a:pt x="20886" y="9079"/>
                </a:cubicBezTo>
              </a:path>
              <a:path w="2606" h="1067">
                <a:moveTo>
                  <a:pt x="21481" y="9599"/>
                </a:moveTo>
                <a:cubicBezTo>
                  <a:pt x="21430" y="9736"/>
                  <a:pt x="21462" y="9624"/>
                  <a:pt x="21481" y="9699"/>
                </a:cubicBezTo>
              </a:path>
              <a:path w="2606" h="1067">
                <a:moveTo>
                  <a:pt x="21853" y="9054"/>
                </a:moveTo>
                <a:cubicBezTo>
                  <a:pt x="21930" y="9035"/>
                  <a:pt x="22188" y="8925"/>
                  <a:pt x="22200" y="9103"/>
                </a:cubicBezTo>
                <a:cubicBezTo>
                  <a:pt x="22208" y="9221"/>
                  <a:pt x="22054" y="9266"/>
                  <a:pt x="21977" y="9302"/>
                </a:cubicBezTo>
                <a:cubicBezTo>
                  <a:pt x="22104" y="9281"/>
                  <a:pt x="22240" y="9296"/>
                  <a:pt x="22324" y="9426"/>
                </a:cubicBezTo>
                <a:cubicBezTo>
                  <a:pt x="22472" y="9657"/>
                  <a:pt x="22081" y="9770"/>
                  <a:pt x="21927" y="9699"/>
                </a:cubicBezTo>
                <a:cubicBezTo>
                  <a:pt x="21869" y="9610"/>
                  <a:pt x="21864" y="9573"/>
                  <a:pt x="21977" y="9525"/>
                </a:cubicBezTo>
              </a:path>
              <a:path w="2606" h="1067">
                <a:moveTo>
                  <a:pt x="22969" y="8806"/>
                </a:moveTo>
                <a:cubicBezTo>
                  <a:pt x="22937" y="8814"/>
                  <a:pt x="22738" y="8834"/>
                  <a:pt x="22721" y="8855"/>
                </a:cubicBezTo>
                <a:cubicBezTo>
                  <a:pt x="22687" y="8898"/>
                  <a:pt x="22707" y="9086"/>
                  <a:pt x="22696" y="9153"/>
                </a:cubicBezTo>
                <a:cubicBezTo>
                  <a:pt x="22696" y="9170"/>
                  <a:pt x="22696" y="9186"/>
                  <a:pt x="22696" y="9203"/>
                </a:cubicBezTo>
                <a:cubicBezTo>
                  <a:pt x="22824" y="9166"/>
                  <a:pt x="22922" y="9100"/>
                  <a:pt x="23068" y="9128"/>
                </a:cubicBezTo>
                <a:cubicBezTo>
                  <a:pt x="23343" y="9181"/>
                  <a:pt x="23291" y="9477"/>
                  <a:pt x="23093" y="9599"/>
                </a:cubicBezTo>
                <a:cubicBezTo>
                  <a:pt x="23049" y="9626"/>
                  <a:pt x="22798" y="9704"/>
                  <a:pt x="22771" y="962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46200" y="4626000"/>
            <a:ext cx="679680" cy="527040"/>
          </a:xfrm>
          <a:custGeom>
            <a:avLst/>
            <a:gdLst/>
            <a:ahLst/>
            <a:rect l="l" t="t" r="r" b="b"/>
            <a:pathLst>
              <a:path w="1887" h="1464">
                <a:moveTo>
                  <a:pt x="8657" y="13494"/>
                </a:moveTo>
                <a:cubicBezTo>
                  <a:pt x="8657" y="13451"/>
                  <a:pt x="8654" y="13421"/>
                  <a:pt x="8632" y="13469"/>
                </a:cubicBezTo>
                <a:cubicBezTo>
                  <a:pt x="8583" y="13576"/>
                  <a:pt x="8648" y="13529"/>
                  <a:pt x="8682" y="13469"/>
                </a:cubicBezTo>
                <a:cubicBezTo>
                  <a:pt x="8682" y="13461"/>
                  <a:pt x="8682" y="13452"/>
                  <a:pt x="8682" y="13444"/>
                </a:cubicBezTo>
                <a:cubicBezTo>
                  <a:pt x="8566" y="13502"/>
                  <a:pt x="8693" y="13489"/>
                  <a:pt x="8682" y="13444"/>
                </a:cubicBezTo>
                <a:cubicBezTo>
                  <a:pt x="8671" y="13402"/>
                  <a:pt x="8651" y="13519"/>
                  <a:pt x="8607" y="13519"/>
                </a:cubicBezTo>
                <a:cubicBezTo>
                  <a:pt x="8570" y="13519"/>
                  <a:pt x="8578" y="13472"/>
                  <a:pt x="8607" y="13494"/>
                </a:cubicBezTo>
                <a:cubicBezTo>
                  <a:pt x="8615" y="13494"/>
                  <a:pt x="8624" y="13494"/>
                  <a:pt x="8632" y="13494"/>
                </a:cubicBezTo>
              </a:path>
              <a:path w="1887" h="1464">
                <a:moveTo>
                  <a:pt x="8632" y="13667"/>
                </a:moveTo>
                <a:cubicBezTo>
                  <a:pt x="8632" y="13769"/>
                  <a:pt x="8635" y="13849"/>
                  <a:pt x="8582" y="13940"/>
                </a:cubicBezTo>
                <a:cubicBezTo>
                  <a:pt x="8515" y="14056"/>
                  <a:pt x="8438" y="14107"/>
                  <a:pt x="8310" y="14139"/>
                </a:cubicBezTo>
                <a:cubicBezTo>
                  <a:pt x="8137" y="14182"/>
                  <a:pt x="8016" y="14128"/>
                  <a:pt x="7863" y="14064"/>
                </a:cubicBezTo>
                <a:cubicBezTo>
                  <a:pt x="7712" y="14001"/>
                  <a:pt x="7766" y="13961"/>
                  <a:pt x="7739" y="13816"/>
                </a:cubicBezTo>
                <a:cubicBezTo>
                  <a:pt x="7737" y="13803"/>
                  <a:pt x="7692" y="13694"/>
                  <a:pt x="7714" y="13667"/>
                </a:cubicBezTo>
                <a:cubicBezTo>
                  <a:pt x="7722" y="13675"/>
                  <a:pt x="7731" y="13684"/>
                  <a:pt x="7739" y="13692"/>
                </a:cubicBezTo>
                <a:cubicBezTo>
                  <a:pt x="7686" y="13813"/>
                  <a:pt x="7668" y="13915"/>
                  <a:pt x="7640" y="14039"/>
                </a:cubicBezTo>
                <a:cubicBezTo>
                  <a:pt x="7619" y="14132"/>
                  <a:pt x="7577" y="14218"/>
                  <a:pt x="7491" y="14263"/>
                </a:cubicBezTo>
                <a:cubicBezTo>
                  <a:pt x="7397" y="14312"/>
                  <a:pt x="7288" y="14328"/>
                  <a:pt x="7193" y="14288"/>
                </a:cubicBezTo>
                <a:cubicBezTo>
                  <a:pt x="7145" y="14268"/>
                  <a:pt x="6999" y="14179"/>
                  <a:pt x="6970" y="14139"/>
                </a:cubicBezTo>
                <a:cubicBezTo>
                  <a:pt x="6929" y="14083"/>
                  <a:pt x="6923" y="13954"/>
                  <a:pt x="6921" y="13891"/>
                </a:cubicBezTo>
                <a:cubicBezTo>
                  <a:pt x="6919" y="13835"/>
                  <a:pt x="6953" y="13693"/>
                  <a:pt x="6945" y="13643"/>
                </a:cubicBezTo>
                <a:cubicBezTo>
                  <a:pt x="6940" y="13611"/>
                  <a:pt x="6967" y="13618"/>
                  <a:pt x="6945" y="13593"/>
                </a:cubicBezTo>
                <a:cubicBezTo>
                  <a:pt x="6923" y="13570"/>
                  <a:pt x="6918" y="13562"/>
                  <a:pt x="6896" y="13568"/>
                </a:cubicBezTo>
                <a:cubicBezTo>
                  <a:pt x="6863" y="13606"/>
                  <a:pt x="6794" y="13640"/>
                  <a:pt x="6871" y="13717"/>
                </a:cubicBezTo>
                <a:cubicBezTo>
                  <a:pt x="6896" y="13717"/>
                  <a:pt x="6920" y="13717"/>
                  <a:pt x="6945" y="13717"/>
                </a:cubicBezTo>
                <a:cubicBezTo>
                  <a:pt x="6945" y="13667"/>
                  <a:pt x="6945" y="13618"/>
                  <a:pt x="6945" y="13568"/>
                </a:cubicBezTo>
                <a:cubicBezTo>
                  <a:pt x="6820" y="13568"/>
                  <a:pt x="6780" y="13558"/>
                  <a:pt x="6796" y="13717"/>
                </a:cubicBezTo>
                <a:cubicBezTo>
                  <a:pt x="6804" y="13742"/>
                  <a:pt x="6813" y="13766"/>
                  <a:pt x="6821" y="13791"/>
                </a:cubicBezTo>
                <a:cubicBezTo>
                  <a:pt x="6932" y="13764"/>
                  <a:pt x="6935" y="13721"/>
                  <a:pt x="6921" y="13618"/>
                </a:cubicBezTo>
                <a:cubicBezTo>
                  <a:pt x="6913" y="13610"/>
                  <a:pt x="6904" y="13601"/>
                  <a:pt x="6896" y="13593"/>
                </a:cubicBezTo>
                <a:cubicBezTo>
                  <a:pt x="6830" y="13659"/>
                  <a:pt x="6816" y="13688"/>
                  <a:pt x="6896" y="13717"/>
                </a:cubicBezTo>
                <a:cubicBezTo>
                  <a:pt x="6904" y="13717"/>
                  <a:pt x="6913" y="13717"/>
                  <a:pt x="6921" y="13717"/>
                </a:cubicBezTo>
              </a:path>
              <a:path w="1887" h="1464">
                <a:moveTo>
                  <a:pt x="7293" y="12849"/>
                </a:moveTo>
                <a:cubicBezTo>
                  <a:pt x="7248" y="12871"/>
                  <a:pt x="7194" y="12968"/>
                  <a:pt x="7169" y="13022"/>
                </a:cubicBezTo>
                <a:cubicBezTo>
                  <a:pt x="7117" y="13135"/>
                  <a:pt x="7154" y="13234"/>
                  <a:pt x="7169" y="13345"/>
                </a:cubicBezTo>
                <a:cubicBezTo>
                  <a:pt x="7180" y="13427"/>
                  <a:pt x="7176" y="13425"/>
                  <a:pt x="7243" y="13444"/>
                </a:cubicBezTo>
                <a:cubicBezTo>
                  <a:pt x="7369" y="13480"/>
                  <a:pt x="7402" y="13406"/>
                  <a:pt x="7441" y="13295"/>
                </a:cubicBezTo>
                <a:cubicBezTo>
                  <a:pt x="7475" y="13199"/>
                  <a:pt x="7476" y="13115"/>
                  <a:pt x="7441" y="13022"/>
                </a:cubicBezTo>
                <a:cubicBezTo>
                  <a:pt x="7425" y="12980"/>
                  <a:pt x="7361" y="12908"/>
                  <a:pt x="7342" y="12898"/>
                </a:cubicBezTo>
                <a:cubicBezTo>
                  <a:pt x="7317" y="12898"/>
                  <a:pt x="7309" y="12898"/>
                  <a:pt x="7293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06800" y="490212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632" y="13618"/>
                </a:moveTo>
                <a:cubicBezTo>
                  <a:pt x="8632" y="13626"/>
                  <a:pt x="8632" y="13635"/>
                  <a:pt x="8632" y="13643"/>
                </a:cubicBezTo>
              </a:path>
              <a:path w="1" h="26">
                <a:moveTo>
                  <a:pt x="8632" y="13643"/>
                </a:moveTo>
                <a:lnTo>
                  <a:pt x="8632" y="1364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4960" y="4626000"/>
            <a:ext cx="260280" cy="204840"/>
          </a:xfrm>
          <a:custGeom>
            <a:avLst/>
            <a:gdLst/>
            <a:ahLst/>
            <a:rect l="l" t="t" r="r" b="b"/>
            <a:pathLst>
              <a:path w="720" h="571">
                <a:moveTo>
                  <a:pt x="11931" y="13271"/>
                </a:moveTo>
                <a:cubicBezTo>
                  <a:pt x="11908" y="13248"/>
                  <a:pt x="11900" y="13237"/>
                  <a:pt x="11906" y="13271"/>
                </a:cubicBezTo>
                <a:cubicBezTo>
                  <a:pt x="11846" y="13349"/>
                  <a:pt x="11938" y="13325"/>
                  <a:pt x="11956" y="13271"/>
                </a:cubicBezTo>
                <a:cubicBezTo>
                  <a:pt x="12009" y="13113"/>
                  <a:pt x="11821" y="13284"/>
                  <a:pt x="11881" y="13345"/>
                </a:cubicBezTo>
                <a:cubicBezTo>
                  <a:pt x="11916" y="13345"/>
                  <a:pt x="11934" y="13340"/>
                  <a:pt x="11956" y="13320"/>
                </a:cubicBezTo>
                <a:cubicBezTo>
                  <a:pt x="11932" y="13262"/>
                  <a:pt x="11938" y="13257"/>
                  <a:pt x="11906" y="13320"/>
                </a:cubicBezTo>
              </a:path>
              <a:path w="720" h="571">
                <a:moveTo>
                  <a:pt x="11435" y="12898"/>
                </a:moveTo>
                <a:cubicBezTo>
                  <a:pt x="11435" y="12868"/>
                  <a:pt x="11415" y="12800"/>
                  <a:pt x="11361" y="12849"/>
                </a:cubicBezTo>
                <a:cubicBezTo>
                  <a:pt x="11183" y="13010"/>
                  <a:pt x="11222" y="13251"/>
                  <a:pt x="11311" y="13419"/>
                </a:cubicBezTo>
                <a:cubicBezTo>
                  <a:pt x="11515" y="13328"/>
                  <a:pt x="11680" y="13172"/>
                  <a:pt x="11509" y="12923"/>
                </a:cubicBezTo>
                <a:cubicBezTo>
                  <a:pt x="11460" y="12851"/>
                  <a:pt x="11166" y="12804"/>
                  <a:pt x="11336" y="128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4000" y="4491000"/>
            <a:ext cx="358920" cy="312840"/>
          </a:xfrm>
          <a:custGeom>
            <a:avLst/>
            <a:gdLst/>
            <a:ahLst/>
            <a:rect l="l" t="t" r="r" b="b"/>
            <a:pathLst>
              <a:path w="994" h="869">
                <a:moveTo>
                  <a:pt x="12650" y="12700"/>
                </a:moveTo>
                <a:cubicBezTo>
                  <a:pt x="12530" y="12619"/>
                  <a:pt x="12419" y="12986"/>
                  <a:pt x="12402" y="13072"/>
                </a:cubicBezTo>
                <a:cubicBezTo>
                  <a:pt x="12402" y="13225"/>
                  <a:pt x="12393" y="13264"/>
                  <a:pt x="12452" y="13345"/>
                </a:cubicBezTo>
                <a:cubicBezTo>
                  <a:pt x="12685" y="13278"/>
                  <a:pt x="12867" y="13116"/>
                  <a:pt x="12774" y="12824"/>
                </a:cubicBezTo>
                <a:cubicBezTo>
                  <a:pt x="12738" y="12711"/>
                  <a:pt x="12667" y="12710"/>
                  <a:pt x="12576" y="12700"/>
                </a:cubicBezTo>
              </a:path>
              <a:path w="994" h="869">
                <a:moveTo>
                  <a:pt x="13345" y="12477"/>
                </a:moveTo>
                <a:cubicBezTo>
                  <a:pt x="13189" y="12501"/>
                  <a:pt x="13089" y="12562"/>
                  <a:pt x="12998" y="12700"/>
                </a:cubicBezTo>
                <a:cubicBezTo>
                  <a:pt x="12981" y="12733"/>
                  <a:pt x="12965" y="12766"/>
                  <a:pt x="12948" y="12799"/>
                </a:cubicBezTo>
                <a:cubicBezTo>
                  <a:pt x="13071" y="12922"/>
                  <a:pt x="13241" y="12975"/>
                  <a:pt x="13395" y="13072"/>
                </a:cubicBezTo>
                <a:cubicBezTo>
                  <a:pt x="13351" y="13133"/>
                  <a:pt x="13050" y="13391"/>
                  <a:pt x="13022" y="13146"/>
                </a:cubicBezTo>
                <a:cubicBezTo>
                  <a:pt x="12997" y="12924"/>
                  <a:pt x="13279" y="12791"/>
                  <a:pt x="13295" y="12576"/>
                </a:cubicBezTo>
                <a:cubicBezTo>
                  <a:pt x="13260" y="12576"/>
                  <a:pt x="13248" y="12586"/>
                  <a:pt x="1324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6240" y="5670720"/>
            <a:ext cx="857520" cy="347400"/>
          </a:xfrm>
          <a:custGeom>
            <a:avLst/>
            <a:gdLst/>
            <a:ahLst/>
            <a:rect l="l" t="t" r="r" b="b"/>
            <a:pathLst>
              <a:path w="2382" h="968">
                <a:moveTo>
                  <a:pt x="11658" y="15900"/>
                </a:moveTo>
                <a:cubicBezTo>
                  <a:pt x="11706" y="16058"/>
                  <a:pt x="11654" y="15970"/>
                  <a:pt x="11708" y="15900"/>
                </a:cubicBezTo>
                <a:cubicBezTo>
                  <a:pt x="11809" y="15799"/>
                  <a:pt x="11845" y="15766"/>
                  <a:pt x="11956" y="15801"/>
                </a:cubicBezTo>
                <a:cubicBezTo>
                  <a:pt x="12115" y="16148"/>
                  <a:pt x="11950" y="16357"/>
                  <a:pt x="11658" y="16619"/>
                </a:cubicBezTo>
                <a:cubicBezTo>
                  <a:pt x="11537" y="16699"/>
                  <a:pt x="11519" y="16743"/>
                  <a:pt x="11435" y="16694"/>
                </a:cubicBezTo>
                <a:cubicBezTo>
                  <a:pt x="11455" y="16482"/>
                  <a:pt x="11485" y="16301"/>
                  <a:pt x="11757" y="16346"/>
                </a:cubicBezTo>
                <a:cubicBezTo>
                  <a:pt x="11868" y="16364"/>
                  <a:pt x="11858" y="16649"/>
                  <a:pt x="11956" y="16594"/>
                </a:cubicBezTo>
                <a:cubicBezTo>
                  <a:pt x="11981" y="16569"/>
                  <a:pt x="12005" y="16545"/>
                  <a:pt x="12030" y="16520"/>
                </a:cubicBezTo>
              </a:path>
              <a:path w="2382" h="968">
                <a:moveTo>
                  <a:pt x="12427" y="16346"/>
                </a:moveTo>
                <a:cubicBezTo>
                  <a:pt x="12425" y="16353"/>
                  <a:pt x="12362" y="16560"/>
                  <a:pt x="12402" y="16520"/>
                </a:cubicBezTo>
                <a:cubicBezTo>
                  <a:pt x="12478" y="16443"/>
                  <a:pt x="12402" y="16451"/>
                  <a:pt x="12353" y="16446"/>
                </a:cubicBezTo>
                <a:cubicBezTo>
                  <a:pt x="12353" y="16480"/>
                  <a:pt x="12362" y="16484"/>
                  <a:pt x="12402" y="16446"/>
                </a:cubicBezTo>
              </a:path>
              <a:path w="2382" h="968">
                <a:moveTo>
                  <a:pt x="12725" y="15925"/>
                </a:moveTo>
                <a:cubicBezTo>
                  <a:pt x="12803" y="15892"/>
                  <a:pt x="13107" y="15773"/>
                  <a:pt x="13022" y="15999"/>
                </a:cubicBezTo>
                <a:cubicBezTo>
                  <a:pt x="12947" y="16074"/>
                  <a:pt x="12920" y="16100"/>
                  <a:pt x="12849" y="16123"/>
                </a:cubicBezTo>
                <a:cubicBezTo>
                  <a:pt x="12814" y="16158"/>
                  <a:pt x="12810" y="16153"/>
                  <a:pt x="12849" y="16073"/>
                </a:cubicBezTo>
                <a:cubicBezTo>
                  <a:pt x="12974" y="16053"/>
                  <a:pt x="13139" y="16116"/>
                  <a:pt x="13097" y="16297"/>
                </a:cubicBezTo>
                <a:cubicBezTo>
                  <a:pt x="13078" y="16377"/>
                  <a:pt x="12767" y="16575"/>
                  <a:pt x="12725" y="16470"/>
                </a:cubicBezTo>
                <a:cubicBezTo>
                  <a:pt x="12733" y="16445"/>
                  <a:pt x="12742" y="16421"/>
                  <a:pt x="12750" y="16396"/>
                </a:cubicBezTo>
              </a:path>
              <a:path w="2382" h="968">
                <a:moveTo>
                  <a:pt x="13643" y="15751"/>
                </a:moveTo>
                <a:cubicBezTo>
                  <a:pt x="13588" y="15776"/>
                  <a:pt x="13439" y="15819"/>
                  <a:pt x="13419" y="15850"/>
                </a:cubicBezTo>
                <a:cubicBezTo>
                  <a:pt x="13372" y="15922"/>
                  <a:pt x="13357" y="15964"/>
                  <a:pt x="13345" y="16049"/>
                </a:cubicBezTo>
                <a:cubicBezTo>
                  <a:pt x="13472" y="15985"/>
                  <a:pt x="13594" y="15905"/>
                  <a:pt x="13742" y="15974"/>
                </a:cubicBezTo>
                <a:cubicBezTo>
                  <a:pt x="13945" y="16068"/>
                  <a:pt x="13742" y="16303"/>
                  <a:pt x="13643" y="16371"/>
                </a:cubicBezTo>
                <a:cubicBezTo>
                  <a:pt x="13514" y="16459"/>
                  <a:pt x="13436" y="16482"/>
                  <a:pt x="13419" y="163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2160" y="6037200"/>
            <a:ext cx="36720" cy="34920"/>
          </a:xfrm>
          <a:custGeom>
            <a:avLst/>
            <a:gdLst/>
            <a:ahLst/>
            <a:rect l="l" t="t" r="r" b="b"/>
            <a:pathLst>
              <a:path w="100" h="100">
                <a:moveTo>
                  <a:pt x="8533" y="16867"/>
                </a:moveTo>
                <a:cubicBezTo>
                  <a:pt x="8524" y="16832"/>
                  <a:pt x="8472" y="16871"/>
                  <a:pt x="8508" y="16867"/>
                </a:cubicBezTo>
                <a:cubicBezTo>
                  <a:pt x="8578" y="16860"/>
                  <a:pt x="8575" y="16817"/>
                  <a:pt x="8582" y="16768"/>
                </a:cubicBezTo>
                <a:cubicBezTo>
                  <a:pt x="8541" y="16782"/>
                  <a:pt x="8495" y="16888"/>
                  <a:pt x="8533" y="16867"/>
                </a:cubicBezTo>
                <a:cubicBezTo>
                  <a:pt x="8574" y="16826"/>
                  <a:pt x="8582" y="16818"/>
                  <a:pt x="8607" y="16793"/>
                </a:cubicBezTo>
                <a:cubicBezTo>
                  <a:pt x="8527" y="16773"/>
                  <a:pt x="8554" y="16880"/>
                  <a:pt x="8607" y="16818"/>
                </a:cubicBezTo>
                <a:cubicBezTo>
                  <a:pt x="8631" y="16790"/>
                  <a:pt x="8584" y="16802"/>
                  <a:pt x="8558" y="168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16120" y="6037200"/>
            <a:ext cx="473040" cy="187560"/>
          </a:xfrm>
          <a:custGeom>
            <a:avLst/>
            <a:gdLst/>
            <a:ahLst/>
            <a:rect l="l" t="t" r="r" b="b"/>
            <a:pathLst>
              <a:path w="1315" h="522">
                <a:moveTo>
                  <a:pt x="8582" y="16892"/>
                </a:moveTo>
                <a:cubicBezTo>
                  <a:pt x="8582" y="16866"/>
                  <a:pt x="8605" y="16894"/>
                  <a:pt x="8582" y="16842"/>
                </a:cubicBezTo>
                <a:cubicBezTo>
                  <a:pt x="8574" y="16834"/>
                  <a:pt x="8566" y="16826"/>
                  <a:pt x="8558" y="16818"/>
                </a:cubicBezTo>
                <a:cubicBezTo>
                  <a:pt x="8558" y="16929"/>
                  <a:pt x="8563" y="16977"/>
                  <a:pt x="8508" y="17066"/>
                </a:cubicBezTo>
                <a:cubicBezTo>
                  <a:pt x="8465" y="17135"/>
                  <a:pt x="8417" y="17161"/>
                  <a:pt x="8334" y="17165"/>
                </a:cubicBezTo>
                <a:cubicBezTo>
                  <a:pt x="8256" y="17168"/>
                  <a:pt x="8164" y="17210"/>
                  <a:pt x="8086" y="17190"/>
                </a:cubicBezTo>
                <a:cubicBezTo>
                  <a:pt x="8065" y="17185"/>
                  <a:pt x="7978" y="17156"/>
                  <a:pt x="7962" y="17140"/>
                </a:cubicBezTo>
                <a:cubicBezTo>
                  <a:pt x="7919" y="17096"/>
                  <a:pt x="7891" y="16999"/>
                  <a:pt x="7888" y="16942"/>
                </a:cubicBezTo>
                <a:cubicBezTo>
                  <a:pt x="7885" y="16878"/>
                  <a:pt x="7905" y="16830"/>
                  <a:pt x="7913" y="16768"/>
                </a:cubicBezTo>
                <a:cubicBezTo>
                  <a:pt x="7913" y="16871"/>
                  <a:pt x="7912" y="16991"/>
                  <a:pt x="7888" y="17090"/>
                </a:cubicBezTo>
                <a:cubicBezTo>
                  <a:pt x="7865" y="17185"/>
                  <a:pt x="7793" y="17222"/>
                  <a:pt x="7714" y="17264"/>
                </a:cubicBezTo>
                <a:cubicBezTo>
                  <a:pt x="7666" y="17289"/>
                  <a:pt x="7572" y="17308"/>
                  <a:pt x="7516" y="17289"/>
                </a:cubicBezTo>
                <a:cubicBezTo>
                  <a:pt x="7464" y="17272"/>
                  <a:pt x="7419" y="17210"/>
                  <a:pt x="7392" y="17165"/>
                </a:cubicBezTo>
                <a:cubicBezTo>
                  <a:pt x="7345" y="17087"/>
                  <a:pt x="7346" y="17028"/>
                  <a:pt x="7342" y="16942"/>
                </a:cubicBezTo>
                <a:cubicBezTo>
                  <a:pt x="7341" y="16927"/>
                  <a:pt x="7360" y="16820"/>
                  <a:pt x="7317" y="16842"/>
                </a:cubicBezTo>
                <a:cubicBezTo>
                  <a:pt x="7290" y="16898"/>
                  <a:pt x="7282" y="16920"/>
                  <a:pt x="7293" y="16966"/>
                </a:cubicBezTo>
                <a:cubicBezTo>
                  <a:pt x="7300" y="16952"/>
                  <a:pt x="7352" y="16893"/>
                  <a:pt x="7317" y="16842"/>
                </a:cubicBezTo>
                <a:cubicBezTo>
                  <a:pt x="7277" y="16784"/>
                  <a:pt x="7242" y="16939"/>
                  <a:pt x="7268" y="16966"/>
                </a:cubicBezTo>
                <a:cubicBezTo>
                  <a:pt x="7327" y="17027"/>
                  <a:pt x="7319" y="16829"/>
                  <a:pt x="7317" y="16818"/>
                </a:cubicBezTo>
                <a:cubicBezTo>
                  <a:pt x="7277" y="16931"/>
                  <a:pt x="7225" y="17005"/>
                  <a:pt x="7367" y="168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ercent and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A.  0.35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B.  0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6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C.  0.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1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D.  0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5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E.  0.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6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8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F.  0.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7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0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G.  0.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8.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35%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H.  0.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decimals to fractions and percents.</a:t>
            </a:r>
            <a:br>
              <a:rPr sz="2000"/>
            </a:b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Skill Practice:  Match eac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ercent and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7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4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70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40%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F. 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91240" y="1647720"/>
                <a:ext cx="419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13120" y="2478240"/>
                <a:ext cx="5382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713120" y="3392640"/>
                <a:ext cx="538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789440" y="4916520"/>
                <a:ext cx="538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cp:lastPrinted>2009-09-29T02:37:49Z</cp:lastPrinted>
  <dcterms:modified xsi:type="dcterms:W3CDTF">2011-10-07T19:28:00Z</dcterms:modified>
  <cp:revision>59</cp:revision>
  <dc:subject/>
  <dc:title>Unit 1 – Variables and Equations </dc:title>
</cp:coreProperties>
</file>